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ED719F-7114-4605-B58D-A36F28EC9E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A0317-45FD-45AE-97B1-06722D570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774E7B-DEB6-4BD3-A230-19AE4239F4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E2BF0B-F945-483C-B993-449E8D5DBD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CA122F-3E13-43E6-938D-D5CF9C116F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B1A7C8-C438-4163-BE78-5162EEA5FB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AF3C3B-6881-44B2-AAA9-7635BDBD43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A103F6-D0BD-4EED-AFC3-ACC265C358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CFE778-7C25-4F1D-9730-DEFDC34057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643830-3A06-4434-993D-45740F266A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785AE-09CA-4C6C-ACA1-D92BE4581C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A23BF-7F56-470B-BF06-6D9FB8091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BD5E5-722F-49F9-8AB0-B37067857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4B85B0-A69D-4FD2-A000-8ADDBDBD7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3681B3-1515-4E65-8FB2-8E16538D17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1F2FE0-2DDA-470C-960B-281DA81D77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E8AD66-2B8B-44BB-A8B6-DE50EA6CF2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10EA7-4DB5-40CC-A2B2-9A2B0ACA7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BF8FF-7F04-4662-A043-0D47FCDF5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3786A-0F01-4415-A78A-490D9A6AB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EA505-9FD4-41CB-B6C5-DE6F233F7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DCD76-516E-4FF5-AD8F-95F310460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28CE7-9904-4856-B96A-A8077E3F6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8D065-C9E9-4795-BD17-8A6940C0FF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0C8BE-CFD8-4E72-9E27-B7E22EBC51C4}"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BD9E8-A8DB-41C2-AEB5-5044D2AFA1DC}"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5800" y="304560"/>
            <a:ext cx="6858000" cy="5181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Opener: Use the distributive property to solve</a:t>
            </a:r>
            <a:endParaRPr b="0" lang="en-US" sz="36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4 (12 + 8)</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 3 x (9 – 6)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6(4 + 7)</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52" name=""/>
          <p:cNvSpPr/>
          <p:nvPr/>
        </p:nvSpPr>
        <p:spPr>
          <a:xfrm>
            <a:off x="4537080" y="830160"/>
            <a:ext cx="2259000" cy="142920"/>
          </a:xfrm>
          <a:custGeom>
            <a:avLst/>
            <a:gdLst/>
            <a:ahLst/>
            <a:rect l="l" t="t" r="r" b="b"/>
            <a:pathLst>
              <a:path w="6276" h="398">
                <a:moveTo>
                  <a:pt x="12601" y="2604"/>
                </a:moveTo>
                <a:cubicBezTo>
                  <a:pt x="12632" y="2606"/>
                  <a:pt x="12692" y="2593"/>
                  <a:pt x="12750" y="2604"/>
                </a:cubicBezTo>
                <a:cubicBezTo>
                  <a:pt x="12819" y="2617"/>
                  <a:pt x="12903" y="2613"/>
                  <a:pt x="12973" y="2629"/>
                </a:cubicBezTo>
                <a:cubicBezTo>
                  <a:pt x="13038" y="2644"/>
                  <a:pt x="13104" y="2666"/>
                  <a:pt x="13171" y="2679"/>
                </a:cubicBezTo>
                <a:cubicBezTo>
                  <a:pt x="13233" y="2691"/>
                  <a:pt x="13278" y="2705"/>
                  <a:pt x="13345" y="2704"/>
                </a:cubicBezTo>
                <a:cubicBezTo>
                  <a:pt x="13426" y="2702"/>
                  <a:pt x="13513" y="2692"/>
                  <a:pt x="13593" y="2679"/>
                </a:cubicBezTo>
                <a:cubicBezTo>
                  <a:pt x="13668" y="2667"/>
                  <a:pt x="13768" y="2672"/>
                  <a:pt x="13841" y="2654"/>
                </a:cubicBezTo>
                <a:cubicBezTo>
                  <a:pt x="13934" y="2631"/>
                  <a:pt x="13995" y="2618"/>
                  <a:pt x="14089" y="2604"/>
                </a:cubicBezTo>
                <a:cubicBezTo>
                  <a:pt x="14152" y="2594"/>
                  <a:pt x="14194" y="2584"/>
                  <a:pt x="14263" y="2580"/>
                </a:cubicBezTo>
                <a:cubicBezTo>
                  <a:pt x="14366" y="2573"/>
                  <a:pt x="14461" y="2561"/>
                  <a:pt x="14560" y="2555"/>
                </a:cubicBezTo>
                <a:cubicBezTo>
                  <a:pt x="14955" y="2531"/>
                  <a:pt x="15361" y="2551"/>
                  <a:pt x="15751" y="2530"/>
                </a:cubicBezTo>
                <a:cubicBezTo>
                  <a:pt x="15867" y="2524"/>
                  <a:pt x="15987" y="2511"/>
                  <a:pt x="16098" y="2505"/>
                </a:cubicBezTo>
                <a:cubicBezTo>
                  <a:pt x="16197" y="2499"/>
                  <a:pt x="16302" y="2485"/>
                  <a:pt x="16396" y="2480"/>
                </a:cubicBezTo>
                <a:cubicBezTo>
                  <a:pt x="16547" y="2473"/>
                  <a:pt x="16692" y="2473"/>
                  <a:pt x="16842" y="2456"/>
                </a:cubicBezTo>
                <a:cubicBezTo>
                  <a:pt x="16973" y="2441"/>
                  <a:pt x="17108" y="2448"/>
                  <a:pt x="17239" y="2431"/>
                </a:cubicBezTo>
                <a:cubicBezTo>
                  <a:pt x="17354" y="2416"/>
                  <a:pt x="17472" y="2420"/>
                  <a:pt x="17587" y="2406"/>
                </a:cubicBezTo>
                <a:cubicBezTo>
                  <a:pt x="17660" y="2397"/>
                  <a:pt x="17735" y="2390"/>
                  <a:pt x="17810" y="2381"/>
                </a:cubicBezTo>
                <a:cubicBezTo>
                  <a:pt x="17885" y="2372"/>
                  <a:pt x="17957" y="2361"/>
                  <a:pt x="18033" y="2356"/>
                </a:cubicBezTo>
                <a:cubicBezTo>
                  <a:pt x="18112" y="2351"/>
                  <a:pt x="18180" y="2346"/>
                  <a:pt x="18256" y="2332"/>
                </a:cubicBezTo>
                <a:cubicBezTo>
                  <a:pt x="18332" y="2318"/>
                  <a:pt x="18402" y="2313"/>
                  <a:pt x="18479" y="2307"/>
                </a:cubicBezTo>
                <a:cubicBezTo>
                  <a:pt x="18610" y="2297"/>
                  <a:pt x="18745" y="2307"/>
                  <a:pt x="18876" y="230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5224320" y="1446120"/>
            <a:ext cx="241560" cy="331920"/>
          </a:xfrm>
          <a:custGeom>
            <a:avLst/>
            <a:gdLst/>
            <a:ahLst/>
            <a:rect l="l" t="t" r="r" b="b"/>
            <a:pathLst>
              <a:path w="670" h="919">
                <a:moveTo>
                  <a:pt x="14833" y="4018"/>
                </a:moveTo>
                <a:cubicBezTo>
                  <a:pt x="14729" y="4084"/>
                  <a:pt x="14668" y="4156"/>
                  <a:pt x="14610" y="4266"/>
                </a:cubicBezTo>
                <a:cubicBezTo>
                  <a:pt x="14517" y="4440"/>
                  <a:pt x="14472" y="4623"/>
                  <a:pt x="14560" y="4812"/>
                </a:cubicBezTo>
                <a:cubicBezTo>
                  <a:pt x="14603" y="4904"/>
                  <a:pt x="14657" y="4933"/>
                  <a:pt x="14734" y="4911"/>
                </a:cubicBezTo>
              </a:path>
              <a:path w="670" h="919">
                <a:moveTo>
                  <a:pt x="15032" y="4192"/>
                </a:moveTo>
                <a:cubicBezTo>
                  <a:pt x="15025" y="4290"/>
                  <a:pt x="15013" y="4347"/>
                  <a:pt x="14982" y="4440"/>
                </a:cubicBezTo>
                <a:cubicBezTo>
                  <a:pt x="15033" y="4434"/>
                  <a:pt x="15080" y="4423"/>
                  <a:pt x="15131" y="4415"/>
                </a:cubicBezTo>
              </a:path>
              <a:path w="670" h="919">
                <a:moveTo>
                  <a:pt x="15180" y="4192"/>
                </a:moveTo>
                <a:cubicBezTo>
                  <a:pt x="15170" y="4342"/>
                  <a:pt x="15156" y="4487"/>
                  <a:pt x="15156" y="463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572080" y="1027080"/>
            <a:ext cx="581040" cy="625680"/>
          </a:xfrm>
          <a:custGeom>
            <a:avLst/>
            <a:gdLst/>
            <a:ahLst/>
            <a:rect l="l" t="t" r="r" b="b"/>
            <a:pathLst>
              <a:path w="1613" h="1737">
                <a:moveTo>
                  <a:pt x="15701" y="2952"/>
                </a:moveTo>
                <a:cubicBezTo>
                  <a:pt x="15701" y="3064"/>
                  <a:pt x="15683" y="3106"/>
                  <a:pt x="15652" y="3200"/>
                </a:cubicBezTo>
                <a:cubicBezTo>
                  <a:pt x="15759" y="3220"/>
                  <a:pt x="15840" y="3201"/>
                  <a:pt x="15949" y="3249"/>
                </a:cubicBezTo>
              </a:path>
              <a:path w="1613" h="1737">
                <a:moveTo>
                  <a:pt x="16049" y="2877"/>
                </a:moveTo>
                <a:cubicBezTo>
                  <a:pt x="16039" y="3110"/>
                  <a:pt x="15984" y="3318"/>
                  <a:pt x="15949" y="3547"/>
                </a:cubicBezTo>
                <a:cubicBezTo>
                  <a:pt x="15949" y="3564"/>
                  <a:pt x="15949" y="3580"/>
                  <a:pt x="15949" y="3597"/>
                </a:cubicBezTo>
              </a:path>
              <a:path w="1613" h="1737">
                <a:moveTo>
                  <a:pt x="16446" y="3051"/>
                </a:moveTo>
                <a:cubicBezTo>
                  <a:pt x="16519" y="3152"/>
                  <a:pt x="16564" y="3244"/>
                  <a:pt x="16570" y="3373"/>
                </a:cubicBezTo>
                <a:cubicBezTo>
                  <a:pt x="16570" y="3390"/>
                  <a:pt x="16570" y="3406"/>
                  <a:pt x="16570" y="3423"/>
                </a:cubicBezTo>
              </a:path>
              <a:path w="1613" h="1737">
                <a:moveTo>
                  <a:pt x="16669" y="3026"/>
                </a:moveTo>
                <a:cubicBezTo>
                  <a:pt x="16569" y="3139"/>
                  <a:pt x="16470" y="3251"/>
                  <a:pt x="16421" y="3398"/>
                </a:cubicBezTo>
                <a:cubicBezTo>
                  <a:pt x="16421" y="3406"/>
                  <a:pt x="16421" y="3415"/>
                  <a:pt x="16421" y="3423"/>
                </a:cubicBezTo>
              </a:path>
              <a:path w="1613" h="1737">
                <a:moveTo>
                  <a:pt x="17066" y="2853"/>
                </a:moveTo>
                <a:cubicBezTo>
                  <a:pt x="17081" y="3019"/>
                  <a:pt x="17055" y="3157"/>
                  <a:pt x="17041" y="3324"/>
                </a:cubicBezTo>
              </a:path>
              <a:path w="1613" h="1737">
                <a:moveTo>
                  <a:pt x="16917" y="3820"/>
                </a:moveTo>
                <a:cubicBezTo>
                  <a:pt x="17037" y="3956"/>
                  <a:pt x="17054" y="4059"/>
                  <a:pt x="17016" y="4242"/>
                </a:cubicBezTo>
                <a:cubicBezTo>
                  <a:pt x="16980" y="4419"/>
                  <a:pt x="16921" y="4479"/>
                  <a:pt x="16793" y="4589"/>
                </a:cubicBezTo>
              </a:path>
              <a:path w="1613" h="1737">
                <a:moveTo>
                  <a:pt x="15478" y="4291"/>
                </a:moveTo>
                <a:cubicBezTo>
                  <a:pt x="15536" y="4349"/>
                  <a:pt x="15594" y="4407"/>
                  <a:pt x="15652" y="4465"/>
                </a:cubicBezTo>
              </a:path>
              <a:path w="1613" h="1737">
                <a:moveTo>
                  <a:pt x="15701" y="4242"/>
                </a:moveTo>
                <a:cubicBezTo>
                  <a:pt x="15614" y="4336"/>
                  <a:pt x="15531" y="4416"/>
                  <a:pt x="15503" y="4539"/>
                </a:cubicBezTo>
              </a:path>
              <a:path w="1613" h="1737">
                <a:moveTo>
                  <a:pt x="15999" y="4142"/>
                </a:moveTo>
                <a:cubicBezTo>
                  <a:pt x="16032" y="4252"/>
                  <a:pt x="16021" y="4310"/>
                  <a:pt x="15974" y="4415"/>
                </a:cubicBezTo>
              </a:path>
              <a:path w="1613" h="1737">
                <a:moveTo>
                  <a:pt x="16321" y="4118"/>
                </a:moveTo>
                <a:cubicBezTo>
                  <a:pt x="16277" y="4224"/>
                  <a:pt x="16239" y="4306"/>
                  <a:pt x="16222" y="4415"/>
                </a:cubicBezTo>
                <a:cubicBezTo>
                  <a:pt x="16291" y="4393"/>
                  <a:pt x="16606" y="4295"/>
                  <a:pt x="16495" y="4142"/>
                </a:cubicBezTo>
                <a:cubicBezTo>
                  <a:pt x="16472" y="4111"/>
                  <a:pt x="16357" y="4098"/>
                  <a:pt x="16321" y="409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276960" y="990720"/>
            <a:ext cx="519120" cy="617400"/>
          </a:xfrm>
          <a:custGeom>
            <a:avLst/>
            <a:gdLst/>
            <a:ahLst/>
            <a:rect l="l" t="t" r="r" b="b"/>
            <a:pathLst>
              <a:path w="1439" h="1713">
                <a:moveTo>
                  <a:pt x="17760" y="2778"/>
                </a:moveTo>
                <a:cubicBezTo>
                  <a:pt x="17688" y="2760"/>
                  <a:pt x="17529" y="2770"/>
                  <a:pt x="17487" y="2877"/>
                </a:cubicBezTo>
                <a:cubicBezTo>
                  <a:pt x="17442" y="2992"/>
                  <a:pt x="17638" y="3142"/>
                  <a:pt x="17711" y="3200"/>
                </a:cubicBezTo>
                <a:cubicBezTo>
                  <a:pt x="17727" y="3208"/>
                  <a:pt x="17744" y="3217"/>
                  <a:pt x="17760" y="3225"/>
                </a:cubicBezTo>
                <a:cubicBezTo>
                  <a:pt x="17722" y="3282"/>
                  <a:pt x="17642" y="3358"/>
                  <a:pt x="17562" y="3299"/>
                </a:cubicBezTo>
                <a:cubicBezTo>
                  <a:pt x="17424" y="3197"/>
                  <a:pt x="17656" y="3009"/>
                  <a:pt x="17711" y="2952"/>
                </a:cubicBezTo>
                <a:cubicBezTo>
                  <a:pt x="17782" y="2878"/>
                  <a:pt x="17814" y="2847"/>
                  <a:pt x="17835" y="2753"/>
                </a:cubicBezTo>
              </a:path>
              <a:path w="1439" h="1713">
                <a:moveTo>
                  <a:pt x="17611" y="3919"/>
                </a:moveTo>
                <a:cubicBezTo>
                  <a:pt x="17627" y="4047"/>
                  <a:pt x="17600" y="4137"/>
                  <a:pt x="17587" y="4266"/>
                </a:cubicBezTo>
              </a:path>
              <a:path w="1439" h="1713">
                <a:moveTo>
                  <a:pt x="17438" y="4142"/>
                </a:moveTo>
                <a:cubicBezTo>
                  <a:pt x="17541" y="4099"/>
                  <a:pt x="17623" y="4129"/>
                  <a:pt x="17735" y="4142"/>
                </a:cubicBezTo>
                <a:cubicBezTo>
                  <a:pt x="17752" y="4142"/>
                  <a:pt x="17768" y="4142"/>
                  <a:pt x="17785" y="4142"/>
                </a:cubicBezTo>
              </a:path>
              <a:path w="1439" h="1713">
                <a:moveTo>
                  <a:pt x="18380" y="3646"/>
                </a:moveTo>
                <a:cubicBezTo>
                  <a:pt x="18254" y="3710"/>
                  <a:pt x="18216" y="3918"/>
                  <a:pt x="18182" y="4068"/>
                </a:cubicBezTo>
                <a:cubicBezTo>
                  <a:pt x="18149" y="4212"/>
                  <a:pt x="18156" y="4384"/>
                  <a:pt x="18306" y="4465"/>
                </a:cubicBezTo>
                <a:cubicBezTo>
                  <a:pt x="18314" y="4465"/>
                  <a:pt x="18323" y="4465"/>
                  <a:pt x="18331" y="4465"/>
                </a:cubicBezTo>
              </a:path>
              <a:path w="1439" h="1713">
                <a:moveTo>
                  <a:pt x="18628" y="3919"/>
                </a:moveTo>
                <a:cubicBezTo>
                  <a:pt x="18628" y="3995"/>
                  <a:pt x="18629" y="4025"/>
                  <a:pt x="18604" y="4093"/>
                </a:cubicBezTo>
                <a:cubicBezTo>
                  <a:pt x="18727" y="4131"/>
                  <a:pt x="18700" y="4136"/>
                  <a:pt x="18827" y="4118"/>
                </a:cubicBezTo>
              </a:path>
              <a:path w="1439" h="1713">
                <a:moveTo>
                  <a:pt x="18876" y="3845"/>
                </a:moveTo>
                <a:cubicBezTo>
                  <a:pt x="18876" y="3986"/>
                  <a:pt x="18849" y="4106"/>
                  <a:pt x="18827" y="4242"/>
                </a:cubicBezTo>
                <a:cubicBezTo>
                  <a:pt x="18827" y="4258"/>
                  <a:pt x="18827" y="4275"/>
                  <a:pt x="18827" y="429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6946920" y="1393920"/>
            <a:ext cx="46080" cy="106200"/>
          </a:xfrm>
          <a:custGeom>
            <a:avLst/>
            <a:gdLst/>
            <a:ahLst/>
            <a:rect l="l" t="t" r="r" b="b"/>
            <a:pathLst>
              <a:path w="125" h="298">
                <a:moveTo>
                  <a:pt x="19323" y="3919"/>
                </a:moveTo>
                <a:cubicBezTo>
                  <a:pt x="19354" y="3987"/>
                  <a:pt x="19382" y="4058"/>
                  <a:pt x="19422" y="4118"/>
                </a:cubicBezTo>
              </a:path>
              <a:path w="125" h="298">
                <a:moveTo>
                  <a:pt x="19397" y="3870"/>
                </a:moveTo>
                <a:cubicBezTo>
                  <a:pt x="19354" y="3955"/>
                  <a:pt x="19317" y="4071"/>
                  <a:pt x="19298" y="416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116840" y="1347840"/>
            <a:ext cx="71280" cy="162000"/>
          </a:xfrm>
          <a:custGeom>
            <a:avLst/>
            <a:gdLst/>
            <a:ahLst/>
            <a:rect l="l" t="t" r="r" b="b"/>
            <a:pathLst>
              <a:path w="200" h="447">
                <a:moveTo>
                  <a:pt x="19968" y="3746"/>
                </a:moveTo>
                <a:cubicBezTo>
                  <a:pt x="19878" y="3746"/>
                  <a:pt x="19844" y="3752"/>
                  <a:pt x="19769" y="3795"/>
                </a:cubicBezTo>
                <a:cubicBezTo>
                  <a:pt x="19794" y="3935"/>
                  <a:pt x="19918" y="3923"/>
                  <a:pt x="19968" y="4043"/>
                </a:cubicBezTo>
                <a:cubicBezTo>
                  <a:pt x="20002" y="4124"/>
                  <a:pt x="19953" y="4201"/>
                  <a:pt x="19869" y="4192"/>
                </a:cubicBezTo>
                <a:cubicBezTo>
                  <a:pt x="19852" y="4184"/>
                  <a:pt x="19836" y="4175"/>
                  <a:pt x="19819" y="4167"/>
                </a:cubicBezTo>
                <a:cubicBezTo>
                  <a:pt x="19830" y="4030"/>
                  <a:pt x="19858" y="3959"/>
                  <a:pt x="19943" y="384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313760" y="1231920"/>
            <a:ext cx="107640" cy="287280"/>
          </a:xfrm>
          <a:custGeom>
            <a:avLst/>
            <a:gdLst/>
            <a:ahLst/>
            <a:rect l="l" t="t" r="r" b="b"/>
            <a:pathLst>
              <a:path w="299" h="795">
                <a:moveTo>
                  <a:pt x="20315" y="3423"/>
                </a:moveTo>
                <a:cubicBezTo>
                  <a:pt x="20484" y="3473"/>
                  <a:pt x="20598" y="3632"/>
                  <a:pt x="20613" y="3820"/>
                </a:cubicBezTo>
                <a:cubicBezTo>
                  <a:pt x="20628" y="4001"/>
                  <a:pt x="20562" y="4135"/>
                  <a:pt x="20414" y="421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500120" y="1438200"/>
            <a:ext cx="992160" cy="196920"/>
          </a:xfrm>
          <a:custGeom>
            <a:avLst/>
            <a:gdLst/>
            <a:ahLst/>
            <a:rect l="l" t="t" r="r" b="b"/>
            <a:pathLst>
              <a:path w="2755" h="546">
                <a:moveTo>
                  <a:pt x="4167" y="4291"/>
                </a:moveTo>
                <a:cubicBezTo>
                  <a:pt x="4215" y="4226"/>
                  <a:pt x="4244" y="4221"/>
                  <a:pt x="4316" y="4192"/>
                </a:cubicBezTo>
                <a:cubicBezTo>
                  <a:pt x="4394" y="4161"/>
                  <a:pt x="4428" y="4142"/>
                  <a:pt x="4514" y="4142"/>
                </a:cubicBezTo>
                <a:cubicBezTo>
                  <a:pt x="4572" y="4142"/>
                  <a:pt x="4635" y="4149"/>
                  <a:pt x="4688" y="4167"/>
                </a:cubicBezTo>
                <a:cubicBezTo>
                  <a:pt x="4765" y="4193"/>
                  <a:pt x="4821" y="4215"/>
                  <a:pt x="4887" y="4266"/>
                </a:cubicBezTo>
                <a:cubicBezTo>
                  <a:pt x="4933" y="4301"/>
                  <a:pt x="4967" y="4372"/>
                  <a:pt x="5011" y="4415"/>
                </a:cubicBezTo>
              </a:path>
              <a:path w="2755" h="546">
                <a:moveTo>
                  <a:pt x="5035" y="4217"/>
                </a:moveTo>
                <a:cubicBezTo>
                  <a:pt x="5003" y="4314"/>
                  <a:pt x="5020" y="4370"/>
                  <a:pt x="5035" y="4465"/>
                </a:cubicBezTo>
                <a:cubicBezTo>
                  <a:pt x="5035" y="4481"/>
                  <a:pt x="5035" y="4498"/>
                  <a:pt x="5035" y="4514"/>
                </a:cubicBezTo>
                <a:cubicBezTo>
                  <a:pt x="4966" y="4489"/>
                  <a:pt x="4895" y="4471"/>
                  <a:pt x="4837" y="4440"/>
                </a:cubicBezTo>
                <a:cubicBezTo>
                  <a:pt x="4770" y="4404"/>
                  <a:pt x="4779" y="4411"/>
                  <a:pt x="4713" y="4440"/>
                </a:cubicBezTo>
              </a:path>
              <a:path w="2755" h="546">
                <a:moveTo>
                  <a:pt x="4192" y="4341"/>
                </a:moveTo>
                <a:cubicBezTo>
                  <a:pt x="4204" y="4243"/>
                  <a:pt x="4229" y="4236"/>
                  <a:pt x="4316" y="4192"/>
                </a:cubicBezTo>
                <a:cubicBezTo>
                  <a:pt x="4434" y="4133"/>
                  <a:pt x="4565" y="4089"/>
                  <a:pt x="4688" y="4043"/>
                </a:cubicBezTo>
                <a:cubicBezTo>
                  <a:pt x="4783" y="4008"/>
                  <a:pt x="4886" y="3996"/>
                  <a:pt x="4986" y="3994"/>
                </a:cubicBezTo>
                <a:cubicBezTo>
                  <a:pt x="5125" y="3991"/>
                  <a:pt x="5271" y="3995"/>
                  <a:pt x="5407" y="4018"/>
                </a:cubicBezTo>
                <a:cubicBezTo>
                  <a:pt x="5546" y="4041"/>
                  <a:pt x="5689" y="4077"/>
                  <a:pt x="5829" y="4093"/>
                </a:cubicBezTo>
                <a:cubicBezTo>
                  <a:pt x="5930" y="4104"/>
                  <a:pt x="6029" y="4117"/>
                  <a:pt x="6127" y="4142"/>
                </a:cubicBezTo>
                <a:cubicBezTo>
                  <a:pt x="6225" y="4166"/>
                  <a:pt x="6327" y="4226"/>
                  <a:pt x="6424" y="4242"/>
                </a:cubicBezTo>
                <a:cubicBezTo>
                  <a:pt x="6514" y="4257"/>
                  <a:pt x="6616" y="4269"/>
                  <a:pt x="6697" y="4316"/>
                </a:cubicBezTo>
                <a:cubicBezTo>
                  <a:pt x="6749" y="4346"/>
                  <a:pt x="6789" y="4386"/>
                  <a:pt x="6846" y="4415"/>
                </a:cubicBezTo>
              </a:path>
              <a:path w="2755" h="546">
                <a:moveTo>
                  <a:pt x="6821" y="4291"/>
                </a:moveTo>
                <a:cubicBezTo>
                  <a:pt x="6858" y="4350"/>
                  <a:pt x="6890" y="4403"/>
                  <a:pt x="6921" y="4465"/>
                </a:cubicBezTo>
                <a:cubicBezTo>
                  <a:pt x="6846" y="4488"/>
                  <a:pt x="6769" y="4519"/>
                  <a:pt x="6697" y="453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347840" y="2071800"/>
            <a:ext cx="277920" cy="223560"/>
          </a:xfrm>
          <a:custGeom>
            <a:avLst/>
            <a:gdLst/>
            <a:ahLst/>
            <a:rect l="l" t="t" r="r" b="b"/>
            <a:pathLst>
              <a:path w="769" h="621">
                <a:moveTo>
                  <a:pt x="3845" y="5879"/>
                </a:moveTo>
                <a:cubicBezTo>
                  <a:pt x="3783" y="5967"/>
                  <a:pt x="3742" y="6051"/>
                  <a:pt x="3770" y="6152"/>
                </a:cubicBezTo>
                <a:cubicBezTo>
                  <a:pt x="3845" y="6145"/>
                  <a:pt x="3919" y="6134"/>
                  <a:pt x="3994" y="6127"/>
                </a:cubicBezTo>
              </a:path>
              <a:path w="769" h="621">
                <a:moveTo>
                  <a:pt x="4043" y="5755"/>
                </a:moveTo>
                <a:cubicBezTo>
                  <a:pt x="4027" y="5925"/>
                  <a:pt x="3993" y="6087"/>
                  <a:pt x="3944" y="6251"/>
                </a:cubicBezTo>
                <a:cubicBezTo>
                  <a:pt x="3922" y="6316"/>
                  <a:pt x="3914" y="6331"/>
                  <a:pt x="3919" y="6375"/>
                </a:cubicBezTo>
              </a:path>
              <a:path w="769" h="621">
                <a:moveTo>
                  <a:pt x="4514" y="5879"/>
                </a:moveTo>
                <a:cubicBezTo>
                  <a:pt x="4417" y="5861"/>
                  <a:pt x="4282" y="5811"/>
                  <a:pt x="4217" y="5928"/>
                </a:cubicBezTo>
                <a:cubicBezTo>
                  <a:pt x="4133" y="6080"/>
                  <a:pt x="4372" y="6110"/>
                  <a:pt x="4440" y="6201"/>
                </a:cubicBezTo>
                <a:cubicBezTo>
                  <a:pt x="4462" y="6268"/>
                  <a:pt x="4474" y="6286"/>
                  <a:pt x="4440" y="6325"/>
                </a:cubicBezTo>
                <a:cubicBezTo>
                  <a:pt x="4369" y="6341"/>
                  <a:pt x="4253" y="6350"/>
                  <a:pt x="4291" y="6226"/>
                </a:cubicBezTo>
                <a:cubicBezTo>
                  <a:pt x="4319" y="6134"/>
                  <a:pt x="4392" y="6059"/>
                  <a:pt x="4440" y="597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795320" y="2143080"/>
            <a:ext cx="88920" cy="108000"/>
          </a:xfrm>
          <a:custGeom>
            <a:avLst/>
            <a:gdLst/>
            <a:ahLst/>
            <a:rect l="l" t="t" r="r" b="b"/>
            <a:pathLst>
              <a:path w="249" h="299">
                <a:moveTo>
                  <a:pt x="5110" y="5953"/>
                </a:moveTo>
                <a:cubicBezTo>
                  <a:pt x="5099" y="6058"/>
                  <a:pt x="5069" y="6151"/>
                  <a:pt x="5035" y="6251"/>
                </a:cubicBezTo>
              </a:path>
              <a:path w="249" h="299">
                <a:moveTo>
                  <a:pt x="4986" y="6127"/>
                </a:moveTo>
                <a:cubicBezTo>
                  <a:pt x="5072" y="6105"/>
                  <a:pt x="5153" y="6085"/>
                  <a:pt x="5234" y="605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009880" y="2081160"/>
            <a:ext cx="295200" cy="177840"/>
          </a:xfrm>
          <a:custGeom>
            <a:avLst/>
            <a:gdLst/>
            <a:ahLst/>
            <a:rect l="l" t="t" r="r" b="b"/>
            <a:pathLst>
              <a:path w="820" h="498">
                <a:moveTo>
                  <a:pt x="5631" y="5854"/>
                </a:moveTo>
                <a:cubicBezTo>
                  <a:pt x="5680" y="5804"/>
                  <a:pt x="5811" y="5708"/>
                  <a:pt x="5804" y="5879"/>
                </a:cubicBezTo>
                <a:cubicBezTo>
                  <a:pt x="5776" y="5962"/>
                  <a:pt x="5761" y="5993"/>
                  <a:pt x="5705" y="6028"/>
                </a:cubicBezTo>
                <a:cubicBezTo>
                  <a:pt x="5688" y="6036"/>
                  <a:pt x="5672" y="6044"/>
                  <a:pt x="5655" y="6052"/>
                </a:cubicBezTo>
                <a:cubicBezTo>
                  <a:pt x="5731" y="6034"/>
                  <a:pt x="5924" y="5997"/>
                  <a:pt x="5829" y="6152"/>
                </a:cubicBezTo>
                <a:cubicBezTo>
                  <a:pt x="5760" y="6264"/>
                  <a:pt x="5685" y="6259"/>
                  <a:pt x="5581" y="6251"/>
                </a:cubicBezTo>
              </a:path>
              <a:path w="820" h="498">
                <a:moveTo>
                  <a:pt x="6201" y="5829"/>
                </a:moveTo>
                <a:cubicBezTo>
                  <a:pt x="6239" y="5753"/>
                  <a:pt x="6357" y="5751"/>
                  <a:pt x="6400" y="5854"/>
                </a:cubicBezTo>
                <a:cubicBezTo>
                  <a:pt x="6488" y="6065"/>
                  <a:pt x="6222" y="6152"/>
                  <a:pt x="6077" y="6176"/>
                </a:cubicBezTo>
                <a:cubicBezTo>
                  <a:pt x="6052" y="6176"/>
                  <a:pt x="6028" y="6176"/>
                  <a:pt x="6003" y="6176"/>
                </a:cubicBezTo>
                <a:cubicBezTo>
                  <a:pt x="6014" y="6087"/>
                  <a:pt x="6110" y="6026"/>
                  <a:pt x="6226" y="6102"/>
                </a:cubicBezTo>
                <a:cubicBezTo>
                  <a:pt x="6272" y="6148"/>
                  <a:pt x="6286" y="6160"/>
                  <a:pt x="6300" y="620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517840" y="2098800"/>
            <a:ext cx="81000" cy="54000"/>
          </a:xfrm>
          <a:custGeom>
            <a:avLst/>
            <a:gdLst/>
            <a:ahLst/>
            <a:rect l="l" t="t" r="r" b="b"/>
            <a:pathLst>
              <a:path w="224" h="150">
                <a:moveTo>
                  <a:pt x="6995" y="5829"/>
                </a:moveTo>
                <a:cubicBezTo>
                  <a:pt x="7071" y="5835"/>
                  <a:pt x="7143" y="5846"/>
                  <a:pt x="7218" y="5854"/>
                </a:cubicBezTo>
              </a:path>
              <a:path w="224" h="150">
                <a:moveTo>
                  <a:pt x="6995" y="5978"/>
                </a:moveTo>
                <a:cubicBezTo>
                  <a:pt x="7053" y="5978"/>
                  <a:pt x="7111" y="5978"/>
                  <a:pt x="7169" y="5978"/>
                </a:cubicBezTo>
              </a:path>
            </a:pathLst>
          </a:custGeom>
          <a:noFill/>
          <a:ln cap="rnd" w="34920">
            <a:solidFill>
              <a:srgbClr val="ff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64" name=""/>
          <p:cNvSpPr/>
          <p:nvPr/>
        </p:nvSpPr>
        <p:spPr>
          <a:xfrm>
            <a:off x="2786040" y="2054160"/>
            <a:ext cx="277920" cy="187560"/>
          </a:xfrm>
          <a:custGeom>
            <a:avLst/>
            <a:gdLst/>
            <a:ahLst/>
            <a:rect l="l" t="t" r="r" b="b"/>
            <a:pathLst>
              <a:path w="770" h="522">
                <a:moveTo>
                  <a:pt x="8062" y="5755"/>
                </a:moveTo>
                <a:cubicBezTo>
                  <a:pt x="7938" y="5700"/>
                  <a:pt x="7908" y="5696"/>
                  <a:pt x="7789" y="5755"/>
                </a:cubicBezTo>
                <a:cubicBezTo>
                  <a:pt x="7621" y="5838"/>
                  <a:pt x="7855" y="5954"/>
                  <a:pt x="7913" y="6003"/>
                </a:cubicBezTo>
                <a:cubicBezTo>
                  <a:pt x="8025" y="6098"/>
                  <a:pt x="8008" y="6152"/>
                  <a:pt x="7888" y="6176"/>
                </a:cubicBezTo>
                <a:cubicBezTo>
                  <a:pt x="7860" y="6025"/>
                  <a:pt x="7906" y="5984"/>
                  <a:pt x="8012" y="5879"/>
                </a:cubicBezTo>
              </a:path>
              <a:path w="770" h="522">
                <a:moveTo>
                  <a:pt x="8483" y="5779"/>
                </a:moveTo>
                <a:cubicBezTo>
                  <a:pt x="8373" y="5841"/>
                  <a:pt x="8268" y="5920"/>
                  <a:pt x="8235" y="6052"/>
                </a:cubicBezTo>
                <a:cubicBezTo>
                  <a:pt x="8206" y="6167"/>
                  <a:pt x="8298" y="6269"/>
                  <a:pt x="8409" y="6201"/>
                </a:cubicBezTo>
                <a:cubicBezTo>
                  <a:pt x="8490" y="6152"/>
                  <a:pt x="8554" y="5995"/>
                  <a:pt x="8508" y="5904"/>
                </a:cubicBezTo>
                <a:cubicBezTo>
                  <a:pt x="8478" y="5844"/>
                  <a:pt x="8416" y="5839"/>
                  <a:pt x="8359" y="582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1482840" y="2847960"/>
            <a:ext cx="1170000" cy="339840"/>
          </a:xfrm>
          <a:custGeom>
            <a:avLst/>
            <a:gdLst/>
            <a:ahLst/>
            <a:rect l="l" t="t" r="r" b="b"/>
            <a:pathLst>
              <a:path w="3250" h="943">
                <a:moveTo>
                  <a:pt x="4118" y="8781"/>
                </a:moveTo>
                <a:cubicBezTo>
                  <a:pt x="4183" y="8724"/>
                  <a:pt x="4192" y="8654"/>
                  <a:pt x="4266" y="8582"/>
                </a:cubicBezTo>
                <a:cubicBezTo>
                  <a:pt x="4441" y="8414"/>
                  <a:pt x="4660" y="8330"/>
                  <a:pt x="4887" y="8260"/>
                </a:cubicBezTo>
                <a:cubicBezTo>
                  <a:pt x="5084" y="8199"/>
                  <a:pt x="5243" y="8155"/>
                  <a:pt x="5432" y="8235"/>
                </a:cubicBezTo>
                <a:cubicBezTo>
                  <a:pt x="5529" y="8276"/>
                  <a:pt x="5617" y="8351"/>
                  <a:pt x="5705" y="8409"/>
                </a:cubicBezTo>
                <a:cubicBezTo>
                  <a:pt x="5779" y="8458"/>
                  <a:pt x="5830" y="8514"/>
                  <a:pt x="5879" y="8582"/>
                </a:cubicBezTo>
              </a:path>
              <a:path w="3250" h="943">
                <a:moveTo>
                  <a:pt x="5904" y="8384"/>
                </a:moveTo>
                <a:cubicBezTo>
                  <a:pt x="5942" y="8473"/>
                  <a:pt x="5953" y="8536"/>
                  <a:pt x="5953" y="8632"/>
                </a:cubicBezTo>
                <a:cubicBezTo>
                  <a:pt x="5811" y="8561"/>
                  <a:pt x="5772" y="8542"/>
                  <a:pt x="5631" y="8607"/>
                </a:cubicBezTo>
              </a:path>
              <a:path w="3250" h="943">
                <a:moveTo>
                  <a:pt x="4192" y="8855"/>
                </a:moveTo>
                <a:cubicBezTo>
                  <a:pt x="4269" y="8729"/>
                  <a:pt x="4336" y="8562"/>
                  <a:pt x="4440" y="8458"/>
                </a:cubicBezTo>
                <a:cubicBezTo>
                  <a:pt x="4661" y="8236"/>
                  <a:pt x="4999" y="8117"/>
                  <a:pt x="5283" y="8012"/>
                </a:cubicBezTo>
                <a:cubicBezTo>
                  <a:pt x="5592" y="7897"/>
                  <a:pt x="5850" y="7912"/>
                  <a:pt x="6176" y="7938"/>
                </a:cubicBezTo>
                <a:cubicBezTo>
                  <a:pt x="6471" y="7962"/>
                  <a:pt x="6736" y="7995"/>
                  <a:pt x="6970" y="8186"/>
                </a:cubicBezTo>
                <a:cubicBezTo>
                  <a:pt x="7092" y="8286"/>
                  <a:pt x="7175" y="8442"/>
                  <a:pt x="7243" y="8582"/>
                </a:cubicBezTo>
                <a:cubicBezTo>
                  <a:pt x="7266" y="8629"/>
                  <a:pt x="7294" y="8700"/>
                  <a:pt x="7317" y="8756"/>
                </a:cubicBezTo>
                <a:cubicBezTo>
                  <a:pt x="7325" y="8781"/>
                  <a:pt x="7334" y="8805"/>
                  <a:pt x="7342" y="8830"/>
                </a:cubicBezTo>
              </a:path>
              <a:path w="3250" h="943">
                <a:moveTo>
                  <a:pt x="7367" y="8582"/>
                </a:moveTo>
                <a:cubicBezTo>
                  <a:pt x="7367" y="8648"/>
                  <a:pt x="7367" y="8715"/>
                  <a:pt x="7367" y="8781"/>
                </a:cubicBezTo>
                <a:cubicBezTo>
                  <a:pt x="7237" y="8800"/>
                  <a:pt x="7148" y="8807"/>
                  <a:pt x="7020" y="878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1330200" y="3670200"/>
            <a:ext cx="384480" cy="179640"/>
          </a:xfrm>
          <a:custGeom>
            <a:avLst/>
            <a:gdLst/>
            <a:ahLst/>
            <a:rect l="l" t="t" r="r" b="b"/>
            <a:pathLst>
              <a:path w="1067" h="497">
                <a:moveTo>
                  <a:pt x="3870" y="10244"/>
                </a:moveTo>
                <a:cubicBezTo>
                  <a:pt x="4050" y="10375"/>
                  <a:pt x="4155" y="10456"/>
                  <a:pt x="3919" y="10616"/>
                </a:cubicBezTo>
                <a:cubicBezTo>
                  <a:pt x="3796" y="10678"/>
                  <a:pt x="3775" y="10712"/>
                  <a:pt x="3696" y="10666"/>
                </a:cubicBezTo>
                <a:cubicBezTo>
                  <a:pt x="3713" y="10499"/>
                  <a:pt x="3780" y="10432"/>
                  <a:pt x="3969" y="10468"/>
                </a:cubicBezTo>
                <a:cubicBezTo>
                  <a:pt x="4052" y="10509"/>
                  <a:pt x="4068" y="10517"/>
                  <a:pt x="4118" y="10542"/>
                </a:cubicBezTo>
              </a:path>
              <a:path w="1067" h="497">
                <a:moveTo>
                  <a:pt x="4415" y="10195"/>
                </a:moveTo>
                <a:cubicBezTo>
                  <a:pt x="4540" y="10201"/>
                  <a:pt x="4756" y="10158"/>
                  <a:pt x="4762" y="10319"/>
                </a:cubicBezTo>
                <a:cubicBezTo>
                  <a:pt x="4765" y="10420"/>
                  <a:pt x="4698" y="10539"/>
                  <a:pt x="4688" y="1064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901880" y="3751200"/>
            <a:ext cx="125280" cy="7920"/>
          </a:xfrm>
          <a:custGeom>
            <a:avLst/>
            <a:gdLst/>
            <a:ahLst/>
            <a:rect l="l" t="t" r="r" b="b"/>
            <a:pathLst>
              <a:path w="349" h="26">
                <a:moveTo>
                  <a:pt x="5283" y="10418"/>
                </a:moveTo>
                <a:cubicBezTo>
                  <a:pt x="5385" y="10429"/>
                  <a:pt x="5475" y="10443"/>
                  <a:pt x="5581" y="10443"/>
                </a:cubicBezTo>
                <a:cubicBezTo>
                  <a:pt x="5598" y="10443"/>
                  <a:pt x="5614" y="10443"/>
                  <a:pt x="5631" y="10443"/>
                </a:cubicBezTo>
              </a:path>
            </a:pathLst>
          </a:custGeom>
          <a:noFill/>
          <a:ln cap="rnd" w="34920">
            <a:solidFill>
              <a:srgbClr val="ff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8" name=""/>
          <p:cNvSpPr/>
          <p:nvPr/>
        </p:nvSpPr>
        <p:spPr>
          <a:xfrm>
            <a:off x="2224080" y="3643200"/>
            <a:ext cx="204840" cy="179640"/>
          </a:xfrm>
          <a:custGeom>
            <a:avLst/>
            <a:gdLst/>
            <a:ahLst/>
            <a:rect l="l" t="t" r="r" b="b"/>
            <a:pathLst>
              <a:path w="572" h="497">
                <a:moveTo>
                  <a:pt x="6176" y="10195"/>
                </a:moveTo>
                <a:cubicBezTo>
                  <a:pt x="6176" y="10272"/>
                  <a:pt x="6146" y="10627"/>
                  <a:pt x="6201" y="10592"/>
                </a:cubicBezTo>
              </a:path>
              <a:path w="572" h="497">
                <a:moveTo>
                  <a:pt x="6672" y="10120"/>
                </a:moveTo>
                <a:cubicBezTo>
                  <a:pt x="6625" y="10142"/>
                  <a:pt x="6404" y="10224"/>
                  <a:pt x="6499" y="10294"/>
                </a:cubicBezTo>
                <a:cubicBezTo>
                  <a:pt x="6616" y="10380"/>
                  <a:pt x="6675" y="10380"/>
                  <a:pt x="6747" y="10492"/>
                </a:cubicBezTo>
                <a:cubicBezTo>
                  <a:pt x="6690" y="10549"/>
                  <a:pt x="6663" y="10569"/>
                  <a:pt x="6598" y="10567"/>
                </a:cubicBezTo>
                <a:cubicBezTo>
                  <a:pt x="6583" y="10389"/>
                  <a:pt x="6708" y="10312"/>
                  <a:pt x="6747" y="10145"/>
                </a:cubicBezTo>
                <a:cubicBezTo>
                  <a:pt x="6739" y="10145"/>
                  <a:pt x="6730" y="10145"/>
                  <a:pt x="6722" y="1014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2633760" y="3732120"/>
            <a:ext cx="125280" cy="73080"/>
          </a:xfrm>
          <a:custGeom>
            <a:avLst/>
            <a:gdLst/>
            <a:ahLst/>
            <a:rect l="l" t="t" r="r" b="b"/>
            <a:pathLst>
              <a:path w="349" h="200">
                <a:moveTo>
                  <a:pt x="7317" y="10393"/>
                </a:moveTo>
                <a:cubicBezTo>
                  <a:pt x="7427" y="10387"/>
                  <a:pt x="7531" y="10376"/>
                  <a:pt x="7640" y="10368"/>
                </a:cubicBezTo>
              </a:path>
              <a:path w="349" h="200">
                <a:moveTo>
                  <a:pt x="7367" y="10567"/>
                </a:moveTo>
                <a:cubicBezTo>
                  <a:pt x="7468" y="10561"/>
                  <a:pt x="7565" y="10549"/>
                  <a:pt x="7665" y="10542"/>
                </a:cubicBezTo>
              </a:path>
            </a:pathLst>
          </a:custGeom>
          <a:noFill/>
          <a:ln cap="rnd" w="34920">
            <a:solidFill>
              <a:srgbClr val="ff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0" name=""/>
          <p:cNvSpPr/>
          <p:nvPr/>
        </p:nvSpPr>
        <p:spPr>
          <a:xfrm>
            <a:off x="3054240" y="3652920"/>
            <a:ext cx="152640" cy="187200"/>
          </a:xfrm>
          <a:custGeom>
            <a:avLst/>
            <a:gdLst/>
            <a:ahLst/>
            <a:rect l="l" t="t" r="r" b="b"/>
            <a:pathLst>
              <a:path w="423" h="522">
                <a:moveTo>
                  <a:pt x="8905" y="10344"/>
                </a:moveTo>
                <a:cubicBezTo>
                  <a:pt x="8855" y="10261"/>
                  <a:pt x="8747" y="10199"/>
                  <a:pt x="8657" y="10145"/>
                </a:cubicBezTo>
                <a:cubicBezTo>
                  <a:pt x="8519" y="10252"/>
                  <a:pt x="8498" y="10326"/>
                  <a:pt x="8508" y="10492"/>
                </a:cubicBezTo>
                <a:cubicBezTo>
                  <a:pt x="8663" y="10492"/>
                  <a:pt x="8771" y="10422"/>
                  <a:pt x="8855" y="10269"/>
                </a:cubicBezTo>
                <a:cubicBezTo>
                  <a:pt x="8855" y="10261"/>
                  <a:pt x="8855" y="10252"/>
                  <a:pt x="8855" y="10244"/>
                </a:cubicBezTo>
                <a:cubicBezTo>
                  <a:pt x="8877" y="10386"/>
                  <a:pt x="8880" y="10522"/>
                  <a:pt x="8880" y="1066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465200" y="4419720"/>
            <a:ext cx="892080" cy="250560"/>
          </a:xfrm>
          <a:custGeom>
            <a:avLst/>
            <a:gdLst/>
            <a:ahLst/>
            <a:rect l="l" t="t" r="r" b="b"/>
            <a:pathLst>
              <a:path w="2481" h="696">
                <a:moveTo>
                  <a:pt x="4068" y="12923"/>
                </a:moveTo>
                <a:cubicBezTo>
                  <a:pt x="4150" y="12821"/>
                  <a:pt x="4196" y="12742"/>
                  <a:pt x="4316" y="12675"/>
                </a:cubicBezTo>
                <a:cubicBezTo>
                  <a:pt x="4453" y="12598"/>
                  <a:pt x="4558" y="12607"/>
                  <a:pt x="4663" y="12725"/>
                </a:cubicBezTo>
                <a:cubicBezTo>
                  <a:pt x="4720" y="12789"/>
                  <a:pt x="4729" y="12844"/>
                  <a:pt x="4738" y="12923"/>
                </a:cubicBezTo>
              </a:path>
              <a:path w="2481" h="696">
                <a:moveTo>
                  <a:pt x="4564" y="12948"/>
                </a:moveTo>
                <a:cubicBezTo>
                  <a:pt x="4722" y="12957"/>
                  <a:pt x="4795" y="12984"/>
                  <a:pt x="4911" y="12849"/>
                </a:cubicBezTo>
                <a:cubicBezTo>
                  <a:pt x="4919" y="12832"/>
                  <a:pt x="4928" y="12816"/>
                  <a:pt x="4936" y="12799"/>
                </a:cubicBezTo>
              </a:path>
              <a:path w="2481" h="696">
                <a:moveTo>
                  <a:pt x="4167" y="12923"/>
                </a:moveTo>
                <a:cubicBezTo>
                  <a:pt x="4240" y="12794"/>
                  <a:pt x="4319" y="12690"/>
                  <a:pt x="4440" y="12601"/>
                </a:cubicBezTo>
                <a:cubicBezTo>
                  <a:pt x="4707" y="12404"/>
                  <a:pt x="5068" y="12243"/>
                  <a:pt x="5407" y="12278"/>
                </a:cubicBezTo>
                <a:cubicBezTo>
                  <a:pt x="5658" y="12304"/>
                  <a:pt x="5929" y="12412"/>
                  <a:pt x="6152" y="12526"/>
                </a:cubicBezTo>
                <a:cubicBezTo>
                  <a:pt x="6240" y="12571"/>
                  <a:pt x="6374" y="12615"/>
                  <a:pt x="6424" y="12700"/>
                </a:cubicBezTo>
                <a:cubicBezTo>
                  <a:pt x="6432" y="12717"/>
                  <a:pt x="6441" y="12733"/>
                  <a:pt x="6449" y="12750"/>
                </a:cubicBezTo>
              </a:path>
              <a:path w="2481" h="696">
                <a:moveTo>
                  <a:pt x="6474" y="12601"/>
                </a:moveTo>
                <a:cubicBezTo>
                  <a:pt x="6488" y="12668"/>
                  <a:pt x="6507" y="12716"/>
                  <a:pt x="6548" y="12774"/>
                </a:cubicBezTo>
                <a:cubicBezTo>
                  <a:pt x="6431" y="12774"/>
                  <a:pt x="6339" y="12778"/>
                  <a:pt x="6226" y="1279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465200" y="5081760"/>
            <a:ext cx="303120" cy="231480"/>
          </a:xfrm>
          <a:custGeom>
            <a:avLst/>
            <a:gdLst/>
            <a:ahLst/>
            <a:rect l="l" t="t" r="r" b="b"/>
            <a:pathLst>
              <a:path w="844" h="646">
                <a:moveTo>
                  <a:pt x="4068" y="14263"/>
                </a:moveTo>
                <a:cubicBezTo>
                  <a:pt x="4103" y="14193"/>
                  <a:pt x="4130" y="14163"/>
                  <a:pt x="4192" y="14139"/>
                </a:cubicBezTo>
                <a:cubicBezTo>
                  <a:pt x="4392" y="14245"/>
                  <a:pt x="4450" y="14415"/>
                  <a:pt x="4316" y="14635"/>
                </a:cubicBezTo>
                <a:cubicBezTo>
                  <a:pt x="4226" y="14725"/>
                  <a:pt x="4205" y="14755"/>
                  <a:pt x="4118" y="14759"/>
                </a:cubicBezTo>
                <a:cubicBezTo>
                  <a:pt x="4059" y="14617"/>
                  <a:pt x="4103" y="14522"/>
                  <a:pt x="4291" y="14585"/>
                </a:cubicBezTo>
                <a:cubicBezTo>
                  <a:pt x="4316" y="14602"/>
                  <a:pt x="4341" y="14618"/>
                  <a:pt x="4366" y="14635"/>
                </a:cubicBezTo>
              </a:path>
              <a:path w="844" h="646">
                <a:moveTo>
                  <a:pt x="4589" y="14288"/>
                </a:moveTo>
                <a:cubicBezTo>
                  <a:pt x="4589" y="14499"/>
                  <a:pt x="4602" y="14497"/>
                  <a:pt x="4812" y="14486"/>
                </a:cubicBezTo>
              </a:path>
              <a:path w="844" h="646">
                <a:moveTo>
                  <a:pt x="4911" y="14114"/>
                </a:moveTo>
                <a:cubicBezTo>
                  <a:pt x="4878" y="14309"/>
                  <a:pt x="4887" y="14509"/>
                  <a:pt x="4887" y="1470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1946160" y="5133960"/>
            <a:ext cx="125640" cy="117360"/>
          </a:xfrm>
          <a:custGeom>
            <a:avLst/>
            <a:gdLst/>
            <a:ahLst/>
            <a:rect l="l" t="t" r="r" b="b"/>
            <a:pathLst>
              <a:path w="349" h="323">
                <a:moveTo>
                  <a:pt x="5556" y="14362"/>
                </a:moveTo>
                <a:cubicBezTo>
                  <a:pt x="5532" y="14314"/>
                  <a:pt x="5524" y="14300"/>
                  <a:pt x="5531" y="14263"/>
                </a:cubicBezTo>
                <a:cubicBezTo>
                  <a:pt x="5531" y="14370"/>
                  <a:pt x="5531" y="14478"/>
                  <a:pt x="5531" y="14585"/>
                </a:cubicBezTo>
              </a:path>
              <a:path w="349" h="323">
                <a:moveTo>
                  <a:pt x="5407" y="14486"/>
                </a:moveTo>
                <a:cubicBezTo>
                  <a:pt x="5528" y="14479"/>
                  <a:pt x="5637" y="14462"/>
                  <a:pt x="5755" y="1443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2214720" y="5126040"/>
            <a:ext cx="330120" cy="187200"/>
          </a:xfrm>
          <a:custGeom>
            <a:avLst/>
            <a:gdLst/>
            <a:ahLst/>
            <a:rect l="l" t="t" r="r" b="b"/>
            <a:pathLst>
              <a:path w="918" h="522">
                <a:moveTo>
                  <a:pt x="6201" y="14288"/>
                </a:moveTo>
                <a:cubicBezTo>
                  <a:pt x="6192" y="14381"/>
                  <a:pt x="6173" y="14469"/>
                  <a:pt x="6152" y="14560"/>
                </a:cubicBezTo>
                <a:cubicBezTo>
                  <a:pt x="6288" y="14574"/>
                  <a:pt x="6364" y="14567"/>
                  <a:pt x="6499" y="14536"/>
                </a:cubicBezTo>
              </a:path>
              <a:path w="918" h="522">
                <a:moveTo>
                  <a:pt x="6524" y="14238"/>
                </a:moveTo>
                <a:cubicBezTo>
                  <a:pt x="6483" y="14409"/>
                  <a:pt x="6460" y="14583"/>
                  <a:pt x="6449" y="14759"/>
                </a:cubicBezTo>
              </a:path>
              <a:path w="918" h="522">
                <a:moveTo>
                  <a:pt x="6871" y="14263"/>
                </a:moveTo>
                <a:cubicBezTo>
                  <a:pt x="6957" y="14241"/>
                  <a:pt x="7095" y="14197"/>
                  <a:pt x="7069" y="14362"/>
                </a:cubicBezTo>
                <a:cubicBezTo>
                  <a:pt x="7043" y="14526"/>
                  <a:pt x="6881" y="14625"/>
                  <a:pt x="6772" y="14734"/>
                </a:cubicBezTo>
                <a:cubicBezTo>
                  <a:pt x="6877" y="14729"/>
                  <a:pt x="6945" y="14723"/>
                  <a:pt x="7045" y="1470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687760" y="5170320"/>
            <a:ext cx="117360" cy="81000"/>
          </a:xfrm>
          <a:custGeom>
            <a:avLst/>
            <a:gdLst/>
            <a:ahLst/>
            <a:rect l="l" t="t" r="r" b="b"/>
            <a:pathLst>
              <a:path w="324" h="224">
                <a:moveTo>
                  <a:pt x="7491" y="14387"/>
                </a:moveTo>
                <a:cubicBezTo>
                  <a:pt x="7591" y="14387"/>
                  <a:pt x="7689" y="14368"/>
                  <a:pt x="7789" y="14362"/>
                </a:cubicBezTo>
              </a:path>
              <a:path w="324" h="224">
                <a:moveTo>
                  <a:pt x="7466" y="14585"/>
                </a:moveTo>
                <a:cubicBezTo>
                  <a:pt x="7557" y="14580"/>
                  <a:pt x="7625" y="14573"/>
                  <a:pt x="7714" y="14560"/>
                </a:cubicBezTo>
              </a:path>
            </a:pathLst>
          </a:custGeom>
          <a:noFill/>
          <a:ln cap="rnd" w="34920">
            <a:solidFill>
              <a:srgbClr val="ff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6" name=""/>
          <p:cNvSpPr/>
          <p:nvPr/>
        </p:nvSpPr>
        <p:spPr>
          <a:xfrm>
            <a:off x="2955960" y="5072040"/>
            <a:ext cx="411120" cy="250920"/>
          </a:xfrm>
          <a:custGeom>
            <a:avLst/>
            <a:gdLst/>
            <a:ahLst/>
            <a:rect l="l" t="t" r="r" b="b"/>
            <a:pathLst>
              <a:path w="1142" h="696">
                <a:moveTo>
                  <a:pt x="8434" y="14114"/>
                </a:moveTo>
                <a:cubicBezTo>
                  <a:pt x="8412" y="14185"/>
                  <a:pt x="8398" y="14247"/>
                  <a:pt x="8359" y="14312"/>
                </a:cubicBezTo>
                <a:cubicBezTo>
                  <a:pt x="8276" y="14449"/>
                  <a:pt x="8224" y="14584"/>
                  <a:pt x="8235" y="14734"/>
                </a:cubicBezTo>
                <a:cubicBezTo>
                  <a:pt x="8417" y="14807"/>
                  <a:pt x="8488" y="14762"/>
                  <a:pt x="8632" y="14635"/>
                </a:cubicBezTo>
                <a:cubicBezTo>
                  <a:pt x="8687" y="14579"/>
                  <a:pt x="8712" y="14581"/>
                  <a:pt x="8706" y="14536"/>
                </a:cubicBezTo>
                <a:cubicBezTo>
                  <a:pt x="8535" y="14490"/>
                  <a:pt x="8542" y="14520"/>
                  <a:pt x="8458" y="14684"/>
                </a:cubicBezTo>
              </a:path>
              <a:path w="1142" h="696">
                <a:moveTo>
                  <a:pt x="8954" y="14089"/>
                </a:moveTo>
                <a:cubicBezTo>
                  <a:pt x="8945" y="14225"/>
                  <a:pt x="8876" y="14379"/>
                  <a:pt x="8880" y="14511"/>
                </a:cubicBezTo>
                <a:cubicBezTo>
                  <a:pt x="8888" y="14544"/>
                  <a:pt x="8897" y="14577"/>
                  <a:pt x="8905" y="14610"/>
                </a:cubicBezTo>
                <a:cubicBezTo>
                  <a:pt x="9031" y="14648"/>
                  <a:pt x="9184" y="14640"/>
                  <a:pt x="9302" y="14560"/>
                </a:cubicBezTo>
                <a:cubicBezTo>
                  <a:pt x="9358" y="14522"/>
                  <a:pt x="9384" y="14381"/>
                  <a:pt x="9327" y="14337"/>
                </a:cubicBezTo>
                <a:cubicBezTo>
                  <a:pt x="9227" y="14260"/>
                  <a:pt x="9128" y="14385"/>
                  <a:pt x="9079" y="14461"/>
                </a:cubicBezTo>
                <a:cubicBezTo>
                  <a:pt x="9014" y="14561"/>
                  <a:pt x="9023" y="14576"/>
                  <a:pt x="9079" y="1466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mework</a:t>
            </a:r>
            <a:endParaRPr b="0" lang="en-US" sz="4400" spc="-1" strike="noStrike">
              <a:solidFill>
                <a:srgbClr val="000000"/>
              </a:solidFill>
              <a:latin typeface="Comic Sans MS"/>
            </a:endParaRPr>
          </a:p>
        </p:txBody>
      </p:sp>
      <p:sp>
        <p:nvSpPr>
          <p:cNvPr id="30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actice W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1600" y="1980720"/>
            <a:ext cx="6400800" cy="20322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Unit 5</a:t>
            </a:r>
            <a:br>
              <a:rPr sz="4000"/>
            </a:br>
            <a:r>
              <a:rPr b="0" lang="en-US" sz="4000" spc="-1" strike="noStrike">
                <a:solidFill>
                  <a:srgbClr val="ff0000"/>
                </a:solidFill>
                <a:latin typeface="Comic Sans MS"/>
              </a:rPr>
              <a:t>Expressions, Equations and Integers</a:t>
            </a:r>
            <a:endParaRPr b="0" lang="en-US" sz="4000" spc="-1" strike="noStrike">
              <a:solidFill>
                <a:srgbClr val="ff0000"/>
              </a:solidFill>
              <a:latin typeface="Comic Sans MS"/>
            </a:endParaRPr>
          </a:p>
        </p:txBody>
      </p:sp>
      <p:sp>
        <p:nvSpPr>
          <p:cNvPr id="178" name="PlaceHolder 2"/>
          <p:cNvSpPr>
            <a:spLocks noGrp="1"/>
          </p:cNvSpPr>
          <p:nvPr>
            <p:ph type="subTitle"/>
          </p:nvPr>
        </p:nvSpPr>
        <p:spPr>
          <a:xfrm>
            <a:off x="1549080" y="4051080"/>
            <a:ext cx="6032520" cy="12826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tions 12.4: Students will identify and write equations and inequalities to represent relationship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304560"/>
            <a:ext cx="6870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Objective: </a:t>
            </a:r>
            <a:r>
              <a:rPr b="0" lang="en-US" sz="2000" spc="-1" strike="noStrike">
                <a:solidFill>
                  <a:srgbClr val="000000"/>
                </a:solidFill>
                <a:latin typeface="Comic Sans MS"/>
              </a:rPr>
              <a:t>Students will identify and write equations and inequalities to represent relationships.</a:t>
            </a:r>
            <a:endParaRPr b="0" lang="en-US" sz="2000" spc="-1" strike="noStrike">
              <a:solidFill>
                <a:srgbClr val="000000"/>
              </a:solidFill>
              <a:latin typeface="Comic Sans MS"/>
            </a:endParaRPr>
          </a:p>
        </p:txBody>
      </p:sp>
      <p:sp>
        <p:nvSpPr>
          <p:cNvPr id="180" name="PlaceHolder 2"/>
          <p:cNvSpPr>
            <a:spLocks noGrp="1"/>
          </p:cNvSpPr>
          <p:nvPr>
            <p:ph/>
          </p:nvPr>
        </p:nvSpPr>
        <p:spPr>
          <a:xfrm>
            <a:off x="304920" y="1219320"/>
            <a:ext cx="8534160" cy="4495680"/>
          </a:xfrm>
          <a:prstGeom prst="rect">
            <a:avLst/>
          </a:prstGeom>
          <a:noFill/>
          <a:ln w="0">
            <a:noFill/>
          </a:ln>
        </p:spPr>
        <p:txBody>
          <a:bodyPr lIns="90000" rIns="90000" tIns="46800" bIns="46800" anchor="t">
            <a:normAutofit fontScale="99000"/>
          </a:bodyPr>
          <a:p>
            <a:pPr lvl="1" marL="735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00"/>
                </a:solidFill>
                <a:uFillTx/>
                <a:latin typeface="Comic Sans MS"/>
              </a:rPr>
              <a:t>Example 1: </a:t>
            </a:r>
            <a:br>
              <a:rPr sz="2800"/>
            </a:br>
            <a:endParaRPr b="0" lang="en-US" sz="2800" spc="-1" strike="noStrike">
              <a:solidFill>
                <a:srgbClr val="000000"/>
              </a:solidFill>
              <a:latin typeface="Comic Sans MS"/>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The sum of a number and 9 is 23.</a:t>
            </a:r>
            <a:endParaRPr b="0" lang="en-US" sz="2000" spc="-1" strike="noStrike">
              <a:solidFill>
                <a:srgbClr val="000000"/>
              </a:solidFill>
              <a:latin typeface="Comic Sans MS"/>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bbd"/>
                </a:solidFill>
                <a:latin typeface="Comic Sans MS"/>
              </a:rPr>
              <a:t>Step 1: What are we trying to find?</a:t>
            </a:r>
            <a:endParaRPr b="0" lang="en-US" sz="2000" spc="-1" strike="noStrike">
              <a:solidFill>
                <a:srgbClr val="000000"/>
              </a:solidFill>
              <a:latin typeface="Comic Sans MS"/>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bbd"/>
                </a:solidFill>
                <a:latin typeface="Comic Sans MS"/>
              </a:rPr>
              <a:t>	</a:t>
            </a:r>
            <a:r>
              <a:rPr b="0" lang="en-US" sz="2000" spc="-1" strike="noStrike">
                <a:solidFill>
                  <a:srgbClr val="8c07c1"/>
                </a:solidFill>
                <a:latin typeface="Comic Sans MS"/>
              </a:rPr>
              <a:t>A number</a:t>
            </a:r>
            <a:endParaRPr b="0" lang="en-US" sz="2000" spc="-1" strike="noStrike">
              <a:solidFill>
                <a:srgbClr val="000000"/>
              </a:solidFill>
              <a:latin typeface="Comic Sans MS"/>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bbd"/>
                </a:solidFill>
                <a:latin typeface="Comic Sans MS"/>
              </a:rPr>
              <a:t>Step 2: Assign a variable for that number.</a:t>
            </a:r>
            <a:endParaRPr b="0" lang="en-US" sz="2000" spc="-1" strike="noStrike">
              <a:solidFill>
                <a:srgbClr val="000000"/>
              </a:solidFill>
              <a:latin typeface="Comic Sans MS"/>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bbd"/>
                </a:solidFill>
                <a:latin typeface="Comic Sans MS"/>
              </a:rPr>
              <a:t>	</a:t>
            </a:r>
            <a:r>
              <a:rPr b="0" lang="en-US" sz="2000" spc="-1" strike="noStrike">
                <a:solidFill>
                  <a:srgbClr val="8c07c1"/>
                </a:solidFill>
                <a:latin typeface="Comic Sans MS"/>
              </a:rPr>
              <a:t>let’s call it n</a:t>
            </a:r>
            <a:endParaRPr b="0" lang="en-US" sz="2000" spc="-1" strike="noStrike">
              <a:solidFill>
                <a:srgbClr val="000000"/>
              </a:solidFill>
              <a:latin typeface="Comic Sans MS"/>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bbd"/>
                </a:solidFill>
                <a:latin typeface="Comic Sans MS"/>
              </a:rPr>
              <a:t>Step 3: Write an equation based on what we know.</a:t>
            </a:r>
            <a:endParaRPr b="0" lang="en-US" sz="2000" spc="-1" strike="noStrike">
              <a:solidFill>
                <a:srgbClr val="000000"/>
              </a:solidFill>
              <a:latin typeface="Comic Sans MS"/>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bbd"/>
                </a:solidFill>
                <a:latin typeface="Comic Sans MS"/>
              </a:rPr>
              <a:t>	</a:t>
            </a:r>
            <a:r>
              <a:rPr b="0" lang="en-US" sz="2000" spc="-1" strike="noStrike">
                <a:solidFill>
                  <a:srgbClr val="8c07c1"/>
                </a:solidFill>
                <a:latin typeface="Comic Sans MS"/>
              </a:rPr>
              <a:t>We know that we have the sum of a number and 9 which will give us n + 9. We also know that our answer is 23. So, our equation will be n + 9 = 23</a:t>
            </a:r>
            <a:endParaRPr b="0" lang="en-US" sz="2000" spc="-1" strike="noStrike">
              <a:solidFill>
                <a:srgbClr val="000000"/>
              </a:solidFill>
              <a:latin typeface="Comic Sans MS"/>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 </a:t>
            </a:r>
            <a:endParaRPr b="0" lang="en-US" sz="2000" spc="-1" strike="noStrike">
              <a:solidFill>
                <a:srgbClr val="000000"/>
              </a:solidFill>
              <a:latin typeface="Comic Sans MS"/>
            </a:endParaRPr>
          </a:p>
          <a:p>
            <a:pPr lvl="1" marL="735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	</a:t>
            </a:r>
            <a:r>
              <a:rPr b="0" lang="en-US" sz="2000" spc="-1" strike="noStrike">
                <a:solidFill>
                  <a:srgbClr val="006600"/>
                </a:solidFill>
                <a:latin typeface="Comic Sans MS"/>
              </a:rPr>
              <a:t>	</a:t>
            </a:r>
            <a:r>
              <a:rPr b="0" lang="en-US" sz="2000" spc="-1" strike="noStrike">
                <a:solidFill>
                  <a:srgbClr val="006600"/>
                </a:solidFill>
                <a:latin typeface="Comic Sans MS"/>
              </a:rPr>
              <a:t>	</a:t>
            </a:r>
            <a:r>
              <a:rPr b="0" lang="en-US" sz="2800" spc="-1" strike="noStrike">
                <a:solidFill>
                  <a:srgbClr val="006600"/>
                </a:solidFill>
                <a:latin typeface="Comic Sans MS"/>
              </a:rPr>
              <a:t>	</a:t>
            </a:r>
            <a:r>
              <a:rPr b="0" lang="en-US" sz="2800" spc="-1" strike="noStrike">
                <a:solidFill>
                  <a:srgbClr val="006600"/>
                </a:solidFill>
                <a:latin typeface="Comic Sans MS"/>
              </a:rPr>
              <a:t>	</a:t>
            </a:r>
            <a:endParaRPr b="0" lang="en-US" sz="2800" spc="-1" strike="noStrike">
              <a:solidFill>
                <a:srgbClr val="000000"/>
              </a:solidFill>
              <a:latin typeface="Comic Sans MS"/>
            </a:endParaRPr>
          </a:p>
        </p:txBody>
      </p:sp>
      <p:sp>
        <p:nvSpPr>
          <p:cNvPr id="181" name=""/>
          <p:cNvSpPr/>
          <p:nvPr/>
        </p:nvSpPr>
        <p:spPr>
          <a:xfrm>
            <a:off x="5000760" y="1054080"/>
            <a:ext cx="1563480" cy="303120"/>
          </a:xfrm>
          <a:custGeom>
            <a:avLst/>
            <a:gdLst/>
            <a:ahLst/>
            <a:rect l="l" t="t" r="r" b="b"/>
            <a:pathLst>
              <a:path w="4341" h="844">
                <a:moveTo>
                  <a:pt x="13965" y="3101"/>
                </a:moveTo>
                <a:cubicBezTo>
                  <a:pt x="14047" y="3110"/>
                  <a:pt x="14143" y="3138"/>
                  <a:pt x="14213" y="3150"/>
                </a:cubicBezTo>
                <a:cubicBezTo>
                  <a:pt x="14230" y="3150"/>
                  <a:pt x="14246" y="3150"/>
                  <a:pt x="14263" y="3150"/>
                </a:cubicBezTo>
                <a:cubicBezTo>
                  <a:pt x="14227" y="3052"/>
                  <a:pt x="14214" y="3016"/>
                  <a:pt x="14114" y="2977"/>
                </a:cubicBezTo>
                <a:cubicBezTo>
                  <a:pt x="13989" y="2929"/>
                  <a:pt x="13913" y="3021"/>
                  <a:pt x="13891" y="3150"/>
                </a:cubicBezTo>
                <a:cubicBezTo>
                  <a:pt x="13852" y="3383"/>
                  <a:pt x="14013" y="3458"/>
                  <a:pt x="14213" y="3398"/>
                </a:cubicBezTo>
                <a:cubicBezTo>
                  <a:pt x="14246" y="3382"/>
                  <a:pt x="14279" y="3365"/>
                  <a:pt x="14312" y="3349"/>
                </a:cubicBezTo>
              </a:path>
              <a:path w="4341" h="844">
                <a:moveTo>
                  <a:pt x="14461" y="3101"/>
                </a:moveTo>
                <a:cubicBezTo>
                  <a:pt x="14510" y="3206"/>
                  <a:pt x="14578" y="3296"/>
                  <a:pt x="14635" y="3398"/>
                </a:cubicBezTo>
              </a:path>
              <a:path w="4341" h="844">
                <a:moveTo>
                  <a:pt x="14610" y="3101"/>
                </a:moveTo>
                <a:cubicBezTo>
                  <a:pt x="14524" y="3237"/>
                  <a:pt x="14462" y="3346"/>
                  <a:pt x="14412" y="3497"/>
                </a:cubicBezTo>
              </a:path>
              <a:path w="4341" h="844">
                <a:moveTo>
                  <a:pt x="14784" y="3274"/>
                </a:moveTo>
                <a:cubicBezTo>
                  <a:pt x="14831" y="3422"/>
                  <a:pt x="14851" y="3541"/>
                  <a:pt x="14858" y="3696"/>
                </a:cubicBezTo>
                <a:cubicBezTo>
                  <a:pt x="14858" y="3863"/>
                  <a:pt x="14842" y="3410"/>
                  <a:pt x="14883" y="3324"/>
                </a:cubicBezTo>
                <a:cubicBezTo>
                  <a:pt x="14998" y="3163"/>
                  <a:pt x="15025" y="3112"/>
                  <a:pt x="15156" y="3076"/>
                </a:cubicBezTo>
                <a:cubicBezTo>
                  <a:pt x="15243" y="3213"/>
                  <a:pt x="15250" y="3402"/>
                  <a:pt x="15032" y="3448"/>
                </a:cubicBezTo>
                <a:cubicBezTo>
                  <a:pt x="14915" y="3424"/>
                  <a:pt x="14879" y="3421"/>
                  <a:pt x="14833" y="3349"/>
                </a:cubicBezTo>
              </a:path>
              <a:path w="4341" h="844">
                <a:moveTo>
                  <a:pt x="15379" y="3175"/>
                </a:moveTo>
                <a:cubicBezTo>
                  <a:pt x="15423" y="3262"/>
                  <a:pt x="15430" y="3285"/>
                  <a:pt x="15478" y="3324"/>
                </a:cubicBezTo>
                <a:cubicBezTo>
                  <a:pt x="15458" y="3194"/>
                  <a:pt x="15474" y="3109"/>
                  <a:pt x="15627" y="3076"/>
                </a:cubicBezTo>
                <a:cubicBezTo>
                  <a:pt x="15660" y="3076"/>
                  <a:pt x="15693" y="3076"/>
                  <a:pt x="15726" y="3076"/>
                </a:cubicBezTo>
              </a:path>
              <a:path w="4341" h="844">
                <a:moveTo>
                  <a:pt x="15850" y="3200"/>
                </a:moveTo>
                <a:cubicBezTo>
                  <a:pt x="15960" y="3157"/>
                  <a:pt x="16013" y="3140"/>
                  <a:pt x="15999" y="3026"/>
                </a:cubicBezTo>
                <a:cubicBezTo>
                  <a:pt x="15908" y="3047"/>
                  <a:pt x="15646" y="3145"/>
                  <a:pt x="15726" y="3299"/>
                </a:cubicBezTo>
                <a:cubicBezTo>
                  <a:pt x="15759" y="3324"/>
                  <a:pt x="15792" y="3348"/>
                  <a:pt x="15825" y="3373"/>
                </a:cubicBezTo>
              </a:path>
              <a:path w="4341" h="844">
                <a:moveTo>
                  <a:pt x="16371" y="3101"/>
                </a:moveTo>
                <a:cubicBezTo>
                  <a:pt x="16288" y="3101"/>
                  <a:pt x="16272" y="3101"/>
                  <a:pt x="16222" y="3101"/>
                </a:cubicBezTo>
                <a:cubicBezTo>
                  <a:pt x="16323" y="3161"/>
                  <a:pt x="16360" y="3168"/>
                  <a:pt x="16396" y="3274"/>
                </a:cubicBezTo>
                <a:cubicBezTo>
                  <a:pt x="16259" y="3349"/>
                  <a:pt x="16262" y="3323"/>
                  <a:pt x="16123" y="3249"/>
                </a:cubicBezTo>
              </a:path>
              <a:path w="4341" h="844">
                <a:moveTo>
                  <a:pt x="16768" y="3051"/>
                </a:moveTo>
                <a:cubicBezTo>
                  <a:pt x="16684" y="3051"/>
                  <a:pt x="16650" y="3053"/>
                  <a:pt x="16594" y="3076"/>
                </a:cubicBezTo>
                <a:cubicBezTo>
                  <a:pt x="16623" y="3092"/>
                  <a:pt x="16812" y="3184"/>
                  <a:pt x="16743" y="3249"/>
                </a:cubicBezTo>
                <a:cubicBezTo>
                  <a:pt x="16655" y="3279"/>
                  <a:pt x="16615" y="3287"/>
                  <a:pt x="16545" y="3274"/>
                </a:cubicBezTo>
              </a:path>
              <a:path w="4341" h="844">
                <a:moveTo>
                  <a:pt x="17016" y="3200"/>
                </a:moveTo>
                <a:cubicBezTo>
                  <a:pt x="17035" y="3257"/>
                  <a:pt x="17044" y="3264"/>
                  <a:pt x="17041" y="3299"/>
                </a:cubicBezTo>
                <a:cubicBezTo>
                  <a:pt x="17035" y="3215"/>
                  <a:pt x="17028" y="3149"/>
                  <a:pt x="16991" y="3076"/>
                </a:cubicBezTo>
              </a:path>
              <a:path w="4341" h="844">
                <a:moveTo>
                  <a:pt x="17314" y="3150"/>
                </a:moveTo>
                <a:cubicBezTo>
                  <a:pt x="17269" y="3240"/>
                  <a:pt x="17255" y="3262"/>
                  <a:pt x="17239" y="3324"/>
                </a:cubicBezTo>
                <a:cubicBezTo>
                  <a:pt x="17278" y="3326"/>
                  <a:pt x="17662" y="3308"/>
                  <a:pt x="17462" y="3175"/>
                </a:cubicBezTo>
                <a:cubicBezTo>
                  <a:pt x="17429" y="3167"/>
                  <a:pt x="17396" y="3158"/>
                  <a:pt x="17363" y="3150"/>
                </a:cubicBezTo>
              </a:path>
              <a:path w="4341" h="844">
                <a:moveTo>
                  <a:pt x="17611" y="3249"/>
                </a:moveTo>
                <a:cubicBezTo>
                  <a:pt x="17619" y="3274"/>
                  <a:pt x="17628" y="3299"/>
                  <a:pt x="17636" y="3324"/>
                </a:cubicBezTo>
                <a:cubicBezTo>
                  <a:pt x="17620" y="3195"/>
                  <a:pt x="17612" y="3180"/>
                  <a:pt x="17686" y="3076"/>
                </a:cubicBezTo>
                <a:cubicBezTo>
                  <a:pt x="17792" y="3155"/>
                  <a:pt x="17845" y="3191"/>
                  <a:pt x="17859" y="3324"/>
                </a:cubicBezTo>
              </a:path>
              <a:path w="4341" h="844">
                <a:moveTo>
                  <a:pt x="18231" y="3150"/>
                </a:moveTo>
                <a:lnTo>
                  <a:pt x="18231" y="3150"/>
                </a:lnTo>
              </a:path>
              <a:path w="4341" h="844">
                <a:moveTo>
                  <a:pt x="18083" y="2927"/>
                </a:moveTo>
                <a:cubicBezTo>
                  <a:pt x="18083" y="2977"/>
                  <a:pt x="18083" y="2993"/>
                  <a:pt x="18083" y="302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1419120" y="1482840"/>
            <a:ext cx="2189160" cy="795240"/>
          </a:xfrm>
          <a:custGeom>
            <a:avLst/>
            <a:gdLst/>
            <a:ahLst/>
            <a:rect l="l" t="t" r="r" b="b"/>
            <a:pathLst>
              <a:path w="6078" h="2208">
                <a:moveTo>
                  <a:pt x="4390" y="5159"/>
                </a:moveTo>
                <a:cubicBezTo>
                  <a:pt x="4409" y="5188"/>
                  <a:pt x="4360" y="5367"/>
                  <a:pt x="4341" y="5482"/>
                </a:cubicBezTo>
                <a:cubicBezTo>
                  <a:pt x="4341" y="5498"/>
                  <a:pt x="4341" y="5515"/>
                  <a:pt x="4341" y="5531"/>
                </a:cubicBezTo>
              </a:path>
              <a:path w="6078" h="2208">
                <a:moveTo>
                  <a:pt x="4192" y="5333"/>
                </a:moveTo>
                <a:cubicBezTo>
                  <a:pt x="4349" y="5333"/>
                  <a:pt x="4506" y="5333"/>
                  <a:pt x="4663" y="5333"/>
                </a:cubicBezTo>
              </a:path>
              <a:path w="6078" h="2208">
                <a:moveTo>
                  <a:pt x="6300" y="6276"/>
                </a:moveTo>
                <a:cubicBezTo>
                  <a:pt x="6374" y="6276"/>
                  <a:pt x="6430" y="6289"/>
                  <a:pt x="6499" y="6300"/>
                </a:cubicBezTo>
                <a:cubicBezTo>
                  <a:pt x="6560" y="6309"/>
                  <a:pt x="6648" y="6319"/>
                  <a:pt x="6697" y="6325"/>
                </a:cubicBezTo>
                <a:cubicBezTo>
                  <a:pt x="6815" y="6340"/>
                  <a:pt x="6932" y="6315"/>
                  <a:pt x="7045" y="6300"/>
                </a:cubicBezTo>
                <a:cubicBezTo>
                  <a:pt x="7126" y="6289"/>
                  <a:pt x="7215" y="6286"/>
                  <a:pt x="7293" y="6276"/>
                </a:cubicBezTo>
                <a:cubicBezTo>
                  <a:pt x="7383" y="6265"/>
                  <a:pt x="7480" y="6262"/>
                  <a:pt x="7565" y="6251"/>
                </a:cubicBezTo>
                <a:cubicBezTo>
                  <a:pt x="7655" y="6240"/>
                  <a:pt x="7834" y="6217"/>
                  <a:pt x="7913" y="6226"/>
                </a:cubicBezTo>
                <a:cubicBezTo>
                  <a:pt x="7985" y="6234"/>
                  <a:pt x="8051" y="6226"/>
                  <a:pt x="8136" y="6226"/>
                </a:cubicBezTo>
                <a:cubicBezTo>
                  <a:pt x="8467" y="6226"/>
                  <a:pt x="8797" y="6226"/>
                  <a:pt x="9128" y="6226"/>
                </a:cubicBezTo>
              </a:path>
              <a:path w="6078" h="2208">
                <a:moveTo>
                  <a:pt x="7417" y="5135"/>
                </a:moveTo>
                <a:cubicBezTo>
                  <a:pt x="7399" y="5246"/>
                  <a:pt x="7392" y="5345"/>
                  <a:pt x="7392" y="5457"/>
                </a:cubicBezTo>
                <a:cubicBezTo>
                  <a:pt x="7392" y="5465"/>
                  <a:pt x="7392" y="5474"/>
                  <a:pt x="7392" y="5482"/>
                </a:cubicBezTo>
                <a:cubicBezTo>
                  <a:pt x="7344" y="5402"/>
                  <a:pt x="7378" y="5386"/>
                  <a:pt x="7441" y="5333"/>
                </a:cubicBezTo>
                <a:cubicBezTo>
                  <a:pt x="7511" y="5274"/>
                  <a:pt x="7574" y="5263"/>
                  <a:pt x="7665" y="5259"/>
                </a:cubicBezTo>
                <a:cubicBezTo>
                  <a:pt x="7725" y="5256"/>
                  <a:pt x="7795" y="5295"/>
                  <a:pt x="7813" y="5358"/>
                </a:cubicBezTo>
                <a:cubicBezTo>
                  <a:pt x="7827" y="5406"/>
                  <a:pt x="7831" y="5459"/>
                  <a:pt x="7838" y="5507"/>
                </a:cubicBezTo>
              </a:path>
              <a:path w="6078" h="2208">
                <a:moveTo>
                  <a:pt x="3994" y="5531"/>
                </a:moveTo>
                <a:cubicBezTo>
                  <a:pt x="4072" y="5575"/>
                  <a:pt x="4121" y="5672"/>
                  <a:pt x="4192" y="5705"/>
                </a:cubicBezTo>
                <a:cubicBezTo>
                  <a:pt x="4240" y="5728"/>
                  <a:pt x="4335" y="5748"/>
                  <a:pt x="4390" y="5755"/>
                </a:cubicBezTo>
                <a:cubicBezTo>
                  <a:pt x="4463" y="5764"/>
                  <a:pt x="4530" y="5754"/>
                  <a:pt x="4589" y="5730"/>
                </a:cubicBezTo>
                <a:cubicBezTo>
                  <a:pt x="4681" y="5693"/>
                  <a:pt x="4771" y="5634"/>
                  <a:pt x="4837" y="5556"/>
                </a:cubicBezTo>
                <a:cubicBezTo>
                  <a:pt x="4886" y="5498"/>
                  <a:pt x="4912" y="5449"/>
                  <a:pt x="4936" y="5383"/>
                </a:cubicBezTo>
                <a:cubicBezTo>
                  <a:pt x="4983" y="5252"/>
                  <a:pt x="4972" y="5271"/>
                  <a:pt x="4961" y="5135"/>
                </a:cubicBezTo>
                <a:cubicBezTo>
                  <a:pt x="4953" y="5033"/>
                  <a:pt x="4856" y="4886"/>
                  <a:pt x="4762" y="4837"/>
                </a:cubicBezTo>
                <a:cubicBezTo>
                  <a:pt x="4693" y="4801"/>
                  <a:pt x="4589" y="4828"/>
                  <a:pt x="4514" y="4812"/>
                </a:cubicBezTo>
                <a:cubicBezTo>
                  <a:pt x="4423" y="4793"/>
                  <a:pt x="4358" y="4783"/>
                  <a:pt x="4266" y="4812"/>
                </a:cubicBezTo>
                <a:cubicBezTo>
                  <a:pt x="4186" y="4838"/>
                  <a:pt x="4106" y="4883"/>
                  <a:pt x="4043" y="4936"/>
                </a:cubicBezTo>
                <a:cubicBezTo>
                  <a:pt x="4002" y="4971"/>
                  <a:pt x="3951" y="5034"/>
                  <a:pt x="3944" y="5085"/>
                </a:cubicBezTo>
                <a:cubicBezTo>
                  <a:pt x="3935" y="5147"/>
                  <a:pt x="3936" y="5329"/>
                  <a:pt x="3969" y="5383"/>
                </a:cubicBezTo>
                <a:cubicBezTo>
                  <a:pt x="4015" y="5458"/>
                  <a:pt x="4128" y="5517"/>
                  <a:pt x="4192" y="5581"/>
                </a:cubicBezTo>
                <a:cubicBezTo>
                  <a:pt x="4200" y="5589"/>
                  <a:pt x="4209" y="5598"/>
                  <a:pt x="4217" y="5606"/>
                </a:cubicBezTo>
              </a:path>
              <a:path w="6078" h="2208">
                <a:moveTo>
                  <a:pt x="4862" y="5035"/>
                </a:moveTo>
                <a:cubicBezTo>
                  <a:pt x="4896" y="4950"/>
                  <a:pt x="4892" y="4927"/>
                  <a:pt x="4961" y="4862"/>
                </a:cubicBezTo>
                <a:cubicBezTo>
                  <a:pt x="5024" y="4803"/>
                  <a:pt x="5116" y="4767"/>
                  <a:pt x="5184" y="4713"/>
                </a:cubicBezTo>
                <a:cubicBezTo>
                  <a:pt x="5259" y="4653"/>
                  <a:pt x="5338" y="4592"/>
                  <a:pt x="5432" y="4539"/>
                </a:cubicBezTo>
                <a:cubicBezTo>
                  <a:pt x="5496" y="4503"/>
                  <a:pt x="5553" y="4465"/>
                  <a:pt x="5631" y="4440"/>
                </a:cubicBezTo>
                <a:cubicBezTo>
                  <a:pt x="5720" y="4412"/>
                  <a:pt x="5834" y="4386"/>
                  <a:pt x="5928" y="4366"/>
                </a:cubicBezTo>
                <a:cubicBezTo>
                  <a:pt x="6011" y="4349"/>
                  <a:pt x="6095" y="4331"/>
                  <a:pt x="6176" y="4316"/>
                </a:cubicBezTo>
                <a:cubicBezTo>
                  <a:pt x="6269" y="4298"/>
                  <a:pt x="6380" y="4274"/>
                  <a:pt x="6474" y="4266"/>
                </a:cubicBezTo>
                <a:cubicBezTo>
                  <a:pt x="6567" y="4258"/>
                  <a:pt x="6655" y="4247"/>
                  <a:pt x="6747" y="4242"/>
                </a:cubicBezTo>
                <a:cubicBezTo>
                  <a:pt x="6858" y="4236"/>
                  <a:pt x="6961" y="4234"/>
                  <a:pt x="7069" y="4217"/>
                </a:cubicBezTo>
                <a:cubicBezTo>
                  <a:pt x="7193" y="4198"/>
                  <a:pt x="7317" y="4184"/>
                  <a:pt x="7441" y="4167"/>
                </a:cubicBezTo>
                <a:cubicBezTo>
                  <a:pt x="7563" y="4150"/>
                  <a:pt x="7691" y="4128"/>
                  <a:pt x="7813" y="4118"/>
                </a:cubicBezTo>
                <a:cubicBezTo>
                  <a:pt x="7941" y="4108"/>
                  <a:pt x="8086" y="4122"/>
                  <a:pt x="8210" y="4142"/>
                </a:cubicBezTo>
                <a:cubicBezTo>
                  <a:pt x="8337" y="4163"/>
                  <a:pt x="8457" y="4214"/>
                  <a:pt x="8582" y="4242"/>
                </a:cubicBezTo>
                <a:cubicBezTo>
                  <a:pt x="8667" y="4261"/>
                  <a:pt x="8779" y="4267"/>
                  <a:pt x="8855" y="4316"/>
                </a:cubicBezTo>
                <a:cubicBezTo>
                  <a:pt x="8934" y="4368"/>
                  <a:pt x="9033" y="4430"/>
                  <a:pt x="9103" y="4490"/>
                </a:cubicBezTo>
                <a:cubicBezTo>
                  <a:pt x="9195" y="4569"/>
                  <a:pt x="9317" y="4627"/>
                  <a:pt x="9401" y="4713"/>
                </a:cubicBezTo>
                <a:cubicBezTo>
                  <a:pt x="9461" y="4775"/>
                  <a:pt x="9523" y="4843"/>
                  <a:pt x="9575" y="4911"/>
                </a:cubicBezTo>
                <a:cubicBezTo>
                  <a:pt x="9630" y="4982"/>
                  <a:pt x="9696" y="5040"/>
                  <a:pt x="9748" y="5110"/>
                </a:cubicBezTo>
                <a:cubicBezTo>
                  <a:pt x="9792" y="5170"/>
                  <a:pt x="9829" y="5246"/>
                  <a:pt x="9872" y="5308"/>
                </a:cubicBezTo>
              </a:path>
              <a:path w="6078" h="2208">
                <a:moveTo>
                  <a:pt x="9872" y="4986"/>
                </a:moveTo>
                <a:cubicBezTo>
                  <a:pt x="9958" y="5054"/>
                  <a:pt x="9955" y="5104"/>
                  <a:pt x="9996" y="5209"/>
                </a:cubicBezTo>
                <a:cubicBezTo>
                  <a:pt x="10016" y="5249"/>
                  <a:pt x="10025" y="5256"/>
                  <a:pt x="10021" y="5283"/>
                </a:cubicBezTo>
                <a:cubicBezTo>
                  <a:pt x="9973" y="5332"/>
                  <a:pt x="9860" y="5287"/>
                  <a:pt x="9773" y="5283"/>
                </a:cubicBezTo>
                <a:cubicBezTo>
                  <a:pt x="9732" y="5283"/>
                  <a:pt x="9724" y="5283"/>
                  <a:pt x="9699" y="528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187880" y="1857240"/>
            <a:ext cx="135000" cy="108000"/>
          </a:xfrm>
          <a:custGeom>
            <a:avLst/>
            <a:gdLst/>
            <a:ahLst/>
            <a:rect l="l" t="t" r="r" b="b"/>
            <a:pathLst>
              <a:path w="373" h="299">
                <a:moveTo>
                  <a:pt x="11633" y="5209"/>
                </a:moveTo>
                <a:cubicBezTo>
                  <a:pt x="11704" y="5179"/>
                  <a:pt x="11821" y="5171"/>
                  <a:pt x="11906" y="5159"/>
                </a:cubicBezTo>
                <a:cubicBezTo>
                  <a:pt x="11948" y="5159"/>
                  <a:pt x="11956" y="5159"/>
                  <a:pt x="11981" y="5159"/>
                </a:cubicBezTo>
              </a:path>
              <a:path w="373" h="299">
                <a:moveTo>
                  <a:pt x="11683" y="5457"/>
                </a:moveTo>
                <a:cubicBezTo>
                  <a:pt x="11758" y="5457"/>
                  <a:pt x="11812" y="5437"/>
                  <a:pt x="11881" y="5432"/>
                </a:cubicBezTo>
                <a:cubicBezTo>
                  <a:pt x="11921" y="5429"/>
                  <a:pt x="11965" y="5432"/>
                  <a:pt x="12005" y="543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938840" y="1000080"/>
            <a:ext cx="2562120" cy="723960"/>
          </a:xfrm>
          <a:custGeom>
            <a:avLst/>
            <a:gdLst/>
            <a:ahLst/>
            <a:rect l="l" t="t" r="r" b="b"/>
            <a:pathLst>
              <a:path w="7120" h="2010">
                <a:moveTo>
                  <a:pt x="13816" y="4068"/>
                </a:moveTo>
                <a:cubicBezTo>
                  <a:pt x="13888" y="4068"/>
                  <a:pt x="14034" y="4080"/>
                  <a:pt x="14089" y="4043"/>
                </a:cubicBezTo>
                <a:cubicBezTo>
                  <a:pt x="14097" y="4027"/>
                  <a:pt x="14106" y="4010"/>
                  <a:pt x="14114" y="3994"/>
                </a:cubicBezTo>
                <a:cubicBezTo>
                  <a:pt x="14045" y="3899"/>
                  <a:pt x="13947" y="3797"/>
                  <a:pt x="13841" y="3944"/>
                </a:cubicBezTo>
                <a:cubicBezTo>
                  <a:pt x="13708" y="4128"/>
                  <a:pt x="13828" y="4220"/>
                  <a:pt x="13990" y="4242"/>
                </a:cubicBezTo>
              </a:path>
              <a:path w="7120" h="2010">
                <a:moveTo>
                  <a:pt x="14387" y="3994"/>
                </a:moveTo>
                <a:cubicBezTo>
                  <a:pt x="14291" y="4065"/>
                  <a:pt x="14260" y="4086"/>
                  <a:pt x="14238" y="4167"/>
                </a:cubicBezTo>
                <a:cubicBezTo>
                  <a:pt x="14278" y="4170"/>
                  <a:pt x="14436" y="4131"/>
                  <a:pt x="14436" y="4142"/>
                </a:cubicBezTo>
                <a:cubicBezTo>
                  <a:pt x="14431" y="4360"/>
                  <a:pt x="14347" y="4566"/>
                  <a:pt x="14337" y="4787"/>
                </a:cubicBezTo>
                <a:cubicBezTo>
                  <a:pt x="14407" y="4685"/>
                  <a:pt x="14541" y="4501"/>
                  <a:pt x="14436" y="4366"/>
                </a:cubicBezTo>
                <a:cubicBezTo>
                  <a:pt x="14411" y="4349"/>
                  <a:pt x="14387" y="4333"/>
                  <a:pt x="14362" y="4316"/>
                </a:cubicBezTo>
              </a:path>
              <a:path w="7120" h="2010">
                <a:moveTo>
                  <a:pt x="14560" y="4093"/>
                </a:moveTo>
                <a:cubicBezTo>
                  <a:pt x="14582" y="4185"/>
                  <a:pt x="14583" y="4230"/>
                  <a:pt x="14635" y="4291"/>
                </a:cubicBezTo>
                <a:cubicBezTo>
                  <a:pt x="14686" y="4209"/>
                  <a:pt x="14724" y="4133"/>
                  <a:pt x="14759" y="4043"/>
                </a:cubicBezTo>
                <a:cubicBezTo>
                  <a:pt x="14759" y="4167"/>
                  <a:pt x="14759" y="4208"/>
                  <a:pt x="14759" y="4291"/>
                </a:cubicBezTo>
              </a:path>
              <a:path w="7120" h="2010">
                <a:moveTo>
                  <a:pt x="15131" y="4118"/>
                </a:moveTo>
                <a:cubicBezTo>
                  <a:pt x="15139" y="4093"/>
                  <a:pt x="15148" y="4068"/>
                  <a:pt x="15156" y="4043"/>
                </a:cubicBezTo>
                <a:cubicBezTo>
                  <a:pt x="15037" y="4019"/>
                  <a:pt x="14887" y="4075"/>
                  <a:pt x="14908" y="4242"/>
                </a:cubicBezTo>
                <a:cubicBezTo>
                  <a:pt x="14936" y="4463"/>
                  <a:pt x="15108" y="4198"/>
                  <a:pt x="15131" y="4142"/>
                </a:cubicBezTo>
                <a:cubicBezTo>
                  <a:pt x="15216" y="4293"/>
                  <a:pt x="15172" y="4286"/>
                  <a:pt x="15329" y="4242"/>
                </a:cubicBezTo>
              </a:path>
              <a:path w="7120" h="2010">
                <a:moveTo>
                  <a:pt x="15453" y="3845"/>
                </a:moveTo>
                <a:cubicBezTo>
                  <a:pt x="15453" y="4002"/>
                  <a:pt x="15453" y="4159"/>
                  <a:pt x="15453" y="4316"/>
                </a:cubicBezTo>
              </a:path>
              <a:path w="7120" h="2010">
                <a:moveTo>
                  <a:pt x="15255" y="4068"/>
                </a:moveTo>
                <a:cubicBezTo>
                  <a:pt x="15370" y="4068"/>
                  <a:pt x="15494" y="4047"/>
                  <a:pt x="15602" y="4093"/>
                </a:cubicBezTo>
                <a:cubicBezTo>
                  <a:pt x="15657" y="4116"/>
                  <a:pt x="15647" y="4196"/>
                  <a:pt x="15652" y="4242"/>
                </a:cubicBezTo>
              </a:path>
              <a:path w="7120" h="2010">
                <a:moveTo>
                  <a:pt x="15677" y="3994"/>
                </a:moveTo>
                <a:lnTo>
                  <a:pt x="15677" y="3994"/>
                </a:lnTo>
              </a:path>
              <a:path w="7120" h="2010">
                <a:moveTo>
                  <a:pt x="16024" y="4068"/>
                </a:moveTo>
                <a:cubicBezTo>
                  <a:pt x="15972" y="4164"/>
                  <a:pt x="15953" y="4188"/>
                  <a:pt x="15974" y="4291"/>
                </a:cubicBezTo>
                <a:cubicBezTo>
                  <a:pt x="16053" y="4282"/>
                  <a:pt x="16304" y="4277"/>
                  <a:pt x="16222" y="4142"/>
                </a:cubicBezTo>
                <a:cubicBezTo>
                  <a:pt x="16176" y="4096"/>
                  <a:pt x="16164" y="4082"/>
                  <a:pt x="16123" y="4068"/>
                </a:cubicBezTo>
              </a:path>
              <a:path w="7120" h="2010">
                <a:moveTo>
                  <a:pt x="16396" y="4217"/>
                </a:moveTo>
                <a:cubicBezTo>
                  <a:pt x="16424" y="4133"/>
                  <a:pt x="16442" y="4087"/>
                  <a:pt x="16495" y="4018"/>
                </a:cubicBezTo>
                <a:cubicBezTo>
                  <a:pt x="16612" y="4070"/>
                  <a:pt x="16636" y="4117"/>
                  <a:pt x="16594" y="4242"/>
                </a:cubicBezTo>
              </a:path>
              <a:path w="7120" h="2010">
                <a:moveTo>
                  <a:pt x="16917" y="3919"/>
                </a:moveTo>
                <a:lnTo>
                  <a:pt x="16917" y="3919"/>
                </a:lnTo>
              </a:path>
              <a:path w="7120" h="2010">
                <a:moveTo>
                  <a:pt x="16892" y="4192"/>
                </a:moveTo>
                <a:lnTo>
                  <a:pt x="16892" y="4192"/>
                </a:lnTo>
              </a:path>
              <a:path w="7120" h="2010">
                <a:moveTo>
                  <a:pt x="19397" y="2803"/>
                </a:moveTo>
                <a:cubicBezTo>
                  <a:pt x="19245" y="2803"/>
                  <a:pt x="19157" y="2743"/>
                  <a:pt x="19075" y="2877"/>
                </a:cubicBezTo>
                <a:cubicBezTo>
                  <a:pt x="19067" y="2902"/>
                  <a:pt x="19058" y="2927"/>
                  <a:pt x="19050" y="2952"/>
                </a:cubicBezTo>
                <a:cubicBezTo>
                  <a:pt x="19149" y="2897"/>
                  <a:pt x="19176" y="2824"/>
                  <a:pt x="19273" y="2902"/>
                </a:cubicBezTo>
                <a:cubicBezTo>
                  <a:pt x="19372" y="2981"/>
                  <a:pt x="19387" y="3091"/>
                  <a:pt x="19273" y="3150"/>
                </a:cubicBezTo>
                <a:cubicBezTo>
                  <a:pt x="19146" y="3216"/>
                  <a:pt x="19085" y="3182"/>
                  <a:pt x="18951" y="3150"/>
                </a:cubicBezTo>
              </a:path>
              <a:path w="7120" h="2010">
                <a:moveTo>
                  <a:pt x="19745" y="2927"/>
                </a:moveTo>
                <a:cubicBezTo>
                  <a:pt x="19817" y="2934"/>
                  <a:pt x="19876" y="2950"/>
                  <a:pt x="19943" y="2977"/>
                </a:cubicBezTo>
              </a:path>
              <a:path w="7120" h="2010">
                <a:moveTo>
                  <a:pt x="20613" y="2803"/>
                </a:moveTo>
                <a:cubicBezTo>
                  <a:pt x="20603" y="2928"/>
                  <a:pt x="20543" y="2990"/>
                  <a:pt x="20513" y="3101"/>
                </a:cubicBezTo>
                <a:cubicBezTo>
                  <a:pt x="20478" y="3234"/>
                  <a:pt x="20671" y="3200"/>
                  <a:pt x="20737" y="3200"/>
                </a:cubicBezTo>
                <a:cubicBezTo>
                  <a:pt x="20795" y="3200"/>
                  <a:pt x="20803" y="3200"/>
                  <a:pt x="20836" y="3200"/>
                </a:cubicBezTo>
              </a:path>
              <a:path w="7120" h="2010">
                <a:moveTo>
                  <a:pt x="20538" y="2927"/>
                </a:moveTo>
                <a:cubicBezTo>
                  <a:pt x="20628" y="2888"/>
                  <a:pt x="20693" y="2907"/>
                  <a:pt x="20786" y="2927"/>
                </a:cubicBezTo>
                <a:cubicBezTo>
                  <a:pt x="20811" y="2927"/>
                  <a:pt x="20819" y="2927"/>
                  <a:pt x="20836" y="2927"/>
                </a:cubicBezTo>
              </a:path>
              <a:path w="7120" h="2010">
                <a:moveTo>
                  <a:pt x="20439" y="2877"/>
                </a:moveTo>
                <a:lnTo>
                  <a:pt x="20439" y="2877"/>
                </a:lnTo>
              </a:path>
              <a:path w="7120" h="2010">
                <a:moveTo>
                  <a:pt x="18281" y="3795"/>
                </a:moveTo>
                <a:cubicBezTo>
                  <a:pt x="18163" y="3736"/>
                  <a:pt x="18095" y="3720"/>
                  <a:pt x="18033" y="3870"/>
                </a:cubicBezTo>
                <a:cubicBezTo>
                  <a:pt x="18033" y="3895"/>
                  <a:pt x="18033" y="3919"/>
                  <a:pt x="18033" y="3944"/>
                </a:cubicBezTo>
                <a:cubicBezTo>
                  <a:pt x="18096" y="3944"/>
                  <a:pt x="18246" y="3918"/>
                  <a:pt x="18281" y="3994"/>
                </a:cubicBezTo>
                <a:cubicBezTo>
                  <a:pt x="18339" y="4120"/>
                  <a:pt x="18273" y="4221"/>
                  <a:pt x="18132" y="4217"/>
                </a:cubicBezTo>
                <a:cubicBezTo>
                  <a:pt x="18060" y="4215"/>
                  <a:pt x="17996" y="4173"/>
                  <a:pt x="17934" y="4142"/>
                </a:cubicBezTo>
              </a:path>
              <a:path w="7120" h="2010">
                <a:moveTo>
                  <a:pt x="18703" y="3944"/>
                </a:moveTo>
                <a:cubicBezTo>
                  <a:pt x="18790" y="3966"/>
                  <a:pt x="18861" y="3969"/>
                  <a:pt x="18951" y="3969"/>
                </a:cubicBezTo>
              </a:path>
              <a:path w="7120" h="2010">
                <a:moveTo>
                  <a:pt x="19323" y="3696"/>
                </a:moveTo>
                <a:cubicBezTo>
                  <a:pt x="19342" y="3877"/>
                  <a:pt x="19303" y="3971"/>
                  <a:pt x="19248" y="4142"/>
                </a:cubicBezTo>
                <a:cubicBezTo>
                  <a:pt x="19248" y="4150"/>
                  <a:pt x="19248" y="4159"/>
                  <a:pt x="19248" y="4167"/>
                </a:cubicBezTo>
                <a:cubicBezTo>
                  <a:pt x="19320" y="4203"/>
                  <a:pt x="19347" y="4222"/>
                  <a:pt x="19422" y="4192"/>
                </a:cubicBezTo>
                <a:cubicBezTo>
                  <a:pt x="19439" y="4184"/>
                  <a:pt x="19455" y="4175"/>
                  <a:pt x="19472" y="4167"/>
                </a:cubicBezTo>
              </a:path>
              <a:path w="7120" h="2010">
                <a:moveTo>
                  <a:pt x="19248" y="3870"/>
                </a:moveTo>
                <a:cubicBezTo>
                  <a:pt x="19249" y="3840"/>
                  <a:pt x="19306" y="3864"/>
                  <a:pt x="19397" y="3870"/>
                </a:cubicBezTo>
              </a:path>
              <a:path w="7120" h="2010">
                <a:moveTo>
                  <a:pt x="19869" y="3870"/>
                </a:moveTo>
                <a:cubicBezTo>
                  <a:pt x="19952" y="3870"/>
                  <a:pt x="20022" y="3865"/>
                  <a:pt x="20092" y="3894"/>
                </a:cubicBezTo>
              </a:path>
              <a:path w="7120" h="2010">
                <a:moveTo>
                  <a:pt x="19943" y="4043"/>
                </a:moveTo>
                <a:cubicBezTo>
                  <a:pt x="20001" y="4043"/>
                  <a:pt x="20059" y="4043"/>
                  <a:pt x="20117" y="4043"/>
                </a:cubicBezTo>
              </a:path>
              <a:path w="7120" h="2010">
                <a:moveTo>
                  <a:pt x="20538" y="3721"/>
                </a:moveTo>
                <a:cubicBezTo>
                  <a:pt x="20587" y="3688"/>
                  <a:pt x="20758" y="3649"/>
                  <a:pt x="20712" y="3770"/>
                </a:cubicBezTo>
                <a:cubicBezTo>
                  <a:pt x="20689" y="3831"/>
                  <a:pt x="20590" y="3866"/>
                  <a:pt x="20538" y="3894"/>
                </a:cubicBezTo>
                <a:cubicBezTo>
                  <a:pt x="20638" y="3873"/>
                  <a:pt x="20731" y="3848"/>
                  <a:pt x="20737" y="3994"/>
                </a:cubicBezTo>
                <a:cubicBezTo>
                  <a:pt x="20742" y="4110"/>
                  <a:pt x="20669" y="4151"/>
                  <a:pt x="20563" y="4167"/>
                </a:cubicBezTo>
                <a:cubicBezTo>
                  <a:pt x="20497" y="4167"/>
                  <a:pt x="20480" y="4167"/>
                  <a:pt x="20439" y="4167"/>
                </a:cubicBezTo>
              </a:path>
              <a:path w="7120" h="2010">
                <a:moveTo>
                  <a:pt x="13717" y="4638"/>
                </a:moveTo>
                <a:cubicBezTo>
                  <a:pt x="13757" y="4615"/>
                  <a:pt x="13839" y="4594"/>
                  <a:pt x="13891" y="4614"/>
                </a:cubicBezTo>
                <a:cubicBezTo>
                  <a:pt x="13943" y="4633"/>
                  <a:pt x="13977" y="4638"/>
                  <a:pt x="14039" y="4638"/>
                </a:cubicBezTo>
                <a:cubicBezTo>
                  <a:pt x="14102" y="4638"/>
                  <a:pt x="14148" y="4663"/>
                  <a:pt x="14213" y="4663"/>
                </a:cubicBezTo>
                <a:cubicBezTo>
                  <a:pt x="14307" y="4663"/>
                  <a:pt x="14375" y="4652"/>
                  <a:pt x="14461" y="4638"/>
                </a:cubicBezTo>
                <a:cubicBezTo>
                  <a:pt x="14522" y="4628"/>
                  <a:pt x="14575" y="4627"/>
                  <a:pt x="14635" y="4614"/>
                </a:cubicBezTo>
                <a:cubicBezTo>
                  <a:pt x="14668" y="4614"/>
                  <a:pt x="14684" y="4614"/>
                  <a:pt x="14709" y="4614"/>
                </a:cubicBezTo>
              </a:path>
              <a:path w="7120" h="2010">
                <a:moveTo>
                  <a:pt x="19844" y="4341"/>
                </a:moveTo>
                <a:cubicBezTo>
                  <a:pt x="19837" y="4430"/>
                  <a:pt x="19821" y="4503"/>
                  <a:pt x="19794" y="4589"/>
                </a:cubicBezTo>
                <a:cubicBezTo>
                  <a:pt x="19805" y="4482"/>
                  <a:pt x="19866" y="4430"/>
                  <a:pt x="19893" y="4341"/>
                </a:cubicBezTo>
                <a:cubicBezTo>
                  <a:pt x="19932" y="4212"/>
                  <a:pt x="19722" y="4363"/>
                  <a:pt x="19695" y="4390"/>
                </a:cubicBezTo>
                <a:cubicBezTo>
                  <a:pt x="19687" y="4407"/>
                  <a:pt x="19678" y="4423"/>
                  <a:pt x="19670" y="4440"/>
                </a:cubicBezTo>
                <a:cubicBezTo>
                  <a:pt x="19711" y="4410"/>
                  <a:pt x="19843" y="4263"/>
                  <a:pt x="19893" y="4266"/>
                </a:cubicBezTo>
                <a:cubicBezTo>
                  <a:pt x="19956" y="4270"/>
                  <a:pt x="20002" y="4350"/>
                  <a:pt x="20042" y="439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483160" y="2000160"/>
            <a:ext cx="169920" cy="206640"/>
          </a:xfrm>
          <a:custGeom>
            <a:avLst/>
            <a:gdLst/>
            <a:ahLst/>
            <a:rect l="l" t="t" r="r" b="b"/>
            <a:pathLst>
              <a:path w="472" h="572">
                <a:moveTo>
                  <a:pt x="15230" y="5655"/>
                </a:moveTo>
                <a:cubicBezTo>
                  <a:pt x="15230" y="5788"/>
                  <a:pt x="15252" y="5918"/>
                  <a:pt x="15255" y="6052"/>
                </a:cubicBezTo>
                <a:cubicBezTo>
                  <a:pt x="15255" y="6077"/>
                  <a:pt x="15255" y="6102"/>
                  <a:pt x="15255" y="6127"/>
                </a:cubicBezTo>
                <a:cubicBezTo>
                  <a:pt x="15235" y="5969"/>
                  <a:pt x="15181" y="5765"/>
                  <a:pt x="15304" y="5631"/>
                </a:cubicBezTo>
                <a:cubicBezTo>
                  <a:pt x="15419" y="5505"/>
                  <a:pt x="15574" y="5550"/>
                  <a:pt x="15652" y="5680"/>
                </a:cubicBezTo>
                <a:cubicBezTo>
                  <a:pt x="15729" y="5808"/>
                  <a:pt x="15701" y="5960"/>
                  <a:pt x="15701" y="610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786280" y="1884240"/>
            <a:ext cx="411480" cy="285840"/>
          </a:xfrm>
          <a:custGeom>
            <a:avLst/>
            <a:gdLst/>
            <a:ahLst/>
            <a:rect l="l" t="t" r="r" b="b"/>
            <a:pathLst>
              <a:path w="1142" h="795">
                <a:moveTo>
                  <a:pt x="16272" y="5507"/>
                </a:moveTo>
                <a:cubicBezTo>
                  <a:pt x="16288" y="5666"/>
                  <a:pt x="16321" y="5818"/>
                  <a:pt x="16321" y="5978"/>
                </a:cubicBezTo>
              </a:path>
              <a:path w="1142" h="795">
                <a:moveTo>
                  <a:pt x="16073" y="5779"/>
                </a:moveTo>
                <a:cubicBezTo>
                  <a:pt x="16218" y="5743"/>
                  <a:pt x="16320" y="5730"/>
                  <a:pt x="16470" y="5730"/>
                </a:cubicBezTo>
              </a:path>
              <a:path w="1142" h="795">
                <a:moveTo>
                  <a:pt x="17165" y="5482"/>
                </a:moveTo>
                <a:cubicBezTo>
                  <a:pt x="17195" y="5361"/>
                  <a:pt x="17209" y="5352"/>
                  <a:pt x="17115" y="5283"/>
                </a:cubicBezTo>
                <a:cubicBezTo>
                  <a:pt x="17007" y="5204"/>
                  <a:pt x="16948" y="5262"/>
                  <a:pt x="16867" y="5358"/>
                </a:cubicBezTo>
                <a:cubicBezTo>
                  <a:pt x="16798" y="5439"/>
                  <a:pt x="16782" y="5664"/>
                  <a:pt x="16917" y="5705"/>
                </a:cubicBezTo>
                <a:cubicBezTo>
                  <a:pt x="17070" y="5752"/>
                  <a:pt x="17183" y="5646"/>
                  <a:pt x="17214" y="5531"/>
                </a:cubicBezTo>
              </a:path>
              <a:path w="1142" h="795">
                <a:moveTo>
                  <a:pt x="17165" y="5333"/>
                </a:moveTo>
                <a:cubicBezTo>
                  <a:pt x="17148" y="5538"/>
                  <a:pt x="17175" y="5723"/>
                  <a:pt x="17190" y="5928"/>
                </a:cubicBezTo>
                <a:cubicBezTo>
                  <a:pt x="17190" y="5961"/>
                  <a:pt x="17190" y="5995"/>
                  <a:pt x="17190" y="602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375240" y="2000160"/>
            <a:ext cx="135000" cy="71640"/>
          </a:xfrm>
          <a:custGeom>
            <a:avLst/>
            <a:gdLst/>
            <a:ahLst/>
            <a:rect l="l" t="t" r="r" b="b"/>
            <a:pathLst>
              <a:path w="373" h="200">
                <a:moveTo>
                  <a:pt x="17711" y="5606"/>
                </a:moveTo>
                <a:cubicBezTo>
                  <a:pt x="17839" y="5576"/>
                  <a:pt x="17952" y="5556"/>
                  <a:pt x="18083" y="5556"/>
                </a:cubicBezTo>
              </a:path>
              <a:path w="373" h="200">
                <a:moveTo>
                  <a:pt x="17760" y="5755"/>
                </a:moveTo>
                <a:cubicBezTo>
                  <a:pt x="17859" y="5727"/>
                  <a:pt x="17958" y="5704"/>
                  <a:pt x="18058" y="5680"/>
                </a:cubicBezTo>
              </a:path>
            </a:pathLst>
          </a:custGeom>
          <a:noFill/>
          <a:ln cap="rnd" w="34920">
            <a:solidFill>
              <a:srgbClr val="ff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88" name=""/>
          <p:cNvSpPr/>
          <p:nvPr/>
        </p:nvSpPr>
        <p:spPr>
          <a:xfrm>
            <a:off x="6680160" y="1911240"/>
            <a:ext cx="428760" cy="285840"/>
          </a:xfrm>
          <a:custGeom>
            <a:avLst/>
            <a:gdLst/>
            <a:ahLst/>
            <a:rect l="l" t="t" r="r" b="b"/>
            <a:pathLst>
              <a:path w="1192" h="795">
                <a:moveTo>
                  <a:pt x="18728" y="5507"/>
                </a:moveTo>
                <a:cubicBezTo>
                  <a:pt x="18755" y="5398"/>
                  <a:pt x="18824" y="5359"/>
                  <a:pt x="18926" y="5308"/>
                </a:cubicBezTo>
                <a:cubicBezTo>
                  <a:pt x="19071" y="5350"/>
                  <a:pt x="18994" y="5525"/>
                  <a:pt x="18926" y="5631"/>
                </a:cubicBezTo>
                <a:cubicBezTo>
                  <a:pt x="18831" y="5779"/>
                  <a:pt x="18690" y="5914"/>
                  <a:pt x="18579" y="6052"/>
                </a:cubicBezTo>
                <a:cubicBezTo>
                  <a:pt x="18555" y="6126"/>
                  <a:pt x="18697" y="5953"/>
                  <a:pt x="18827" y="5928"/>
                </a:cubicBezTo>
                <a:cubicBezTo>
                  <a:pt x="18910" y="5912"/>
                  <a:pt x="18958" y="5965"/>
                  <a:pt x="19025" y="6003"/>
                </a:cubicBezTo>
              </a:path>
              <a:path w="1192" h="795">
                <a:moveTo>
                  <a:pt x="19348" y="5457"/>
                </a:moveTo>
                <a:cubicBezTo>
                  <a:pt x="19440" y="5346"/>
                  <a:pt x="19459" y="5334"/>
                  <a:pt x="19596" y="5308"/>
                </a:cubicBezTo>
                <a:cubicBezTo>
                  <a:pt x="19566" y="5477"/>
                  <a:pt x="19519" y="5554"/>
                  <a:pt x="19372" y="5655"/>
                </a:cubicBezTo>
                <a:cubicBezTo>
                  <a:pt x="19490" y="5613"/>
                  <a:pt x="19706" y="5565"/>
                  <a:pt x="19745" y="5755"/>
                </a:cubicBezTo>
                <a:cubicBezTo>
                  <a:pt x="19793" y="5992"/>
                  <a:pt x="19515" y="6008"/>
                  <a:pt x="19372" y="6003"/>
                </a:cubicBezTo>
                <a:cubicBezTo>
                  <a:pt x="19356" y="6003"/>
                  <a:pt x="19339" y="6003"/>
                  <a:pt x="19323" y="600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322200" y="2017800"/>
            <a:ext cx="285840" cy="206280"/>
          </a:xfrm>
          <a:custGeom>
            <a:avLst/>
            <a:gdLst/>
            <a:ahLst/>
            <a:rect l="l" t="t" r="r" b="b"/>
            <a:pathLst>
              <a:path w="795" h="571">
                <a:moveTo>
                  <a:pt x="893" y="5928"/>
                </a:moveTo>
                <a:cubicBezTo>
                  <a:pt x="1078" y="5928"/>
                  <a:pt x="1255" y="5920"/>
                  <a:pt x="1439" y="5904"/>
                </a:cubicBezTo>
                <a:cubicBezTo>
                  <a:pt x="1602" y="5890"/>
                  <a:pt x="1286" y="5928"/>
                  <a:pt x="1463" y="5904"/>
                </a:cubicBezTo>
                <a:cubicBezTo>
                  <a:pt x="1480" y="5904"/>
                  <a:pt x="1496" y="5904"/>
                  <a:pt x="1513" y="5904"/>
                </a:cubicBezTo>
              </a:path>
              <a:path w="795" h="571">
                <a:moveTo>
                  <a:pt x="1389" y="5606"/>
                </a:moveTo>
                <a:cubicBezTo>
                  <a:pt x="1511" y="5652"/>
                  <a:pt x="1510" y="5714"/>
                  <a:pt x="1612" y="5804"/>
                </a:cubicBezTo>
                <a:cubicBezTo>
                  <a:pt x="1637" y="5821"/>
                  <a:pt x="1662" y="5837"/>
                  <a:pt x="1687" y="5854"/>
                </a:cubicBezTo>
                <a:cubicBezTo>
                  <a:pt x="1637" y="5979"/>
                  <a:pt x="1516" y="6074"/>
                  <a:pt x="1414" y="617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1027080" y="6491160"/>
            <a:ext cx="1800" cy="1800"/>
          </a:xfrm>
          <a:custGeom>
            <a:avLst/>
            <a:gdLst/>
            <a:ahLst/>
            <a:rect l="l" t="t" r="r" b="b"/>
            <a:pathLst>
              <a:path w="1" h="1">
                <a:moveTo>
                  <a:pt x="2853" y="18033"/>
                </a:moveTo>
                <a:lnTo>
                  <a:pt x="2853" y="18033"/>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1" name=""/>
          <p:cNvSpPr/>
          <p:nvPr/>
        </p:nvSpPr>
        <p:spPr>
          <a:xfrm>
            <a:off x="1366920" y="6607080"/>
            <a:ext cx="1440" cy="1800"/>
          </a:xfrm>
          <a:custGeom>
            <a:avLst/>
            <a:gdLst/>
            <a:ahLst/>
            <a:rect l="l" t="t" r="r" b="b"/>
            <a:pathLst>
              <a:path w="1" h="1">
                <a:moveTo>
                  <a:pt x="3795" y="18355"/>
                </a:moveTo>
                <a:lnTo>
                  <a:pt x="3795" y="18355"/>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2" name=""/>
          <p:cNvSpPr/>
          <p:nvPr/>
        </p:nvSpPr>
        <p:spPr>
          <a:xfrm>
            <a:off x="5303880" y="1714680"/>
            <a:ext cx="1930320" cy="642600"/>
          </a:xfrm>
          <a:custGeom>
            <a:avLst/>
            <a:gdLst/>
            <a:ahLst/>
            <a:rect l="l" t="t" r="r" b="b"/>
            <a:pathLst>
              <a:path w="5359" h="1787">
                <a:moveTo>
                  <a:pt x="14734" y="5283"/>
                </a:moveTo>
                <a:cubicBezTo>
                  <a:pt x="14741" y="5549"/>
                  <a:pt x="14773" y="5811"/>
                  <a:pt x="14784" y="6077"/>
                </a:cubicBezTo>
                <a:cubicBezTo>
                  <a:pt x="14791" y="6238"/>
                  <a:pt x="14796" y="6389"/>
                  <a:pt x="14808" y="6548"/>
                </a:cubicBezTo>
                <a:cubicBezTo>
                  <a:pt x="15298" y="6548"/>
                  <a:pt x="15788" y="6499"/>
                  <a:pt x="16272" y="6424"/>
                </a:cubicBezTo>
                <a:cubicBezTo>
                  <a:pt x="16734" y="6352"/>
                  <a:pt x="17199" y="6321"/>
                  <a:pt x="17661" y="6251"/>
                </a:cubicBezTo>
                <a:cubicBezTo>
                  <a:pt x="17973" y="6204"/>
                  <a:pt x="18290" y="6128"/>
                  <a:pt x="18604" y="6102"/>
                </a:cubicBezTo>
                <a:cubicBezTo>
                  <a:pt x="18713" y="6093"/>
                  <a:pt x="18818" y="6083"/>
                  <a:pt x="18926" y="6077"/>
                </a:cubicBezTo>
                <a:cubicBezTo>
                  <a:pt x="19069" y="6069"/>
                  <a:pt x="19207" y="6038"/>
                  <a:pt x="19348" y="6028"/>
                </a:cubicBezTo>
                <a:cubicBezTo>
                  <a:pt x="19464" y="6020"/>
                  <a:pt x="19581" y="6010"/>
                  <a:pt x="19695" y="6003"/>
                </a:cubicBezTo>
                <a:cubicBezTo>
                  <a:pt x="19818" y="5995"/>
                  <a:pt x="19944" y="6003"/>
                  <a:pt x="20067" y="6003"/>
                </a:cubicBezTo>
                <a:cubicBezTo>
                  <a:pt x="20074" y="5813"/>
                  <a:pt x="20103" y="5622"/>
                  <a:pt x="20092" y="5432"/>
                </a:cubicBezTo>
                <a:cubicBezTo>
                  <a:pt x="20084" y="5298"/>
                  <a:pt x="20081" y="4951"/>
                  <a:pt x="20017" y="4837"/>
                </a:cubicBezTo>
                <a:cubicBezTo>
                  <a:pt x="19962" y="4739"/>
                  <a:pt x="19929" y="4766"/>
                  <a:pt x="19819" y="4762"/>
                </a:cubicBezTo>
                <a:cubicBezTo>
                  <a:pt x="19688" y="4757"/>
                  <a:pt x="19554" y="4803"/>
                  <a:pt x="19422" y="4812"/>
                </a:cubicBezTo>
                <a:cubicBezTo>
                  <a:pt x="19224" y="4825"/>
                  <a:pt x="19024" y="4852"/>
                  <a:pt x="18827" y="4862"/>
                </a:cubicBezTo>
                <a:cubicBezTo>
                  <a:pt x="18623" y="4872"/>
                  <a:pt x="18434" y="4905"/>
                  <a:pt x="18231" y="4936"/>
                </a:cubicBezTo>
                <a:cubicBezTo>
                  <a:pt x="18006" y="4970"/>
                  <a:pt x="17764" y="4996"/>
                  <a:pt x="17537" y="5011"/>
                </a:cubicBezTo>
                <a:cubicBezTo>
                  <a:pt x="17270" y="5028"/>
                  <a:pt x="17009" y="5090"/>
                  <a:pt x="16743" y="5110"/>
                </a:cubicBezTo>
                <a:cubicBezTo>
                  <a:pt x="16580" y="5122"/>
                  <a:pt x="16410" y="5116"/>
                  <a:pt x="16247" y="5135"/>
                </a:cubicBezTo>
                <a:cubicBezTo>
                  <a:pt x="16077" y="5155"/>
                  <a:pt x="15893" y="5180"/>
                  <a:pt x="15726" y="5209"/>
                </a:cubicBezTo>
                <a:cubicBezTo>
                  <a:pt x="15594" y="5232"/>
                  <a:pt x="15457" y="5251"/>
                  <a:pt x="15329" y="5283"/>
                </a:cubicBezTo>
                <a:cubicBezTo>
                  <a:pt x="15252" y="5302"/>
                  <a:pt x="15123" y="5329"/>
                  <a:pt x="15056" y="5358"/>
                </a:cubicBezTo>
                <a:cubicBezTo>
                  <a:pt x="15000" y="5382"/>
                  <a:pt x="14972" y="5412"/>
                  <a:pt x="14932" y="543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80">
                                            <p:txEl>
                                              <p:pRg st="9" end="9"/>
                                            </p:txEl>
                                          </p:spTgt>
                                        </p:tgtEl>
                                        <p:attrNameLst>
                                          <p:attrName>style.visibility</p:attrName>
                                        </p:attrNameLst>
                                      </p:cBhvr>
                                      <p:to>
                                        <p:strVal val="visible"/>
                                      </p:to>
                                    </p:set>
                                    <p:anim calcmode="lin" valueType="num">
                                      <p:cBhvr additive="base">
                                        <p:cTn id="7" dur="500" fill="hold"/>
                                        <p:tgtEl>
                                          <p:spTgt spid="180">
                                            <p:txEl>
                                              <p:pRg st="9" end="9"/>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8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80">
                                            <p:txEl>
                                              <p:pRg st="0" end="0"/>
                                            </p:txEl>
                                          </p:spTgt>
                                        </p:tgtEl>
                                        <p:attrNameLst>
                                          <p:attrName>style.visibility</p:attrName>
                                        </p:attrNameLst>
                                      </p:cBhvr>
                                      <p:to>
                                        <p:strVal val="visible"/>
                                      </p:to>
                                    </p:set>
                                    <p:anim calcmode="lin" valueType="num">
                                      <p:cBhvr additive="base">
                                        <p:cTn id="13" dur="5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80">
                                            <p:txEl>
                                              <p:pRg st="1" end="1"/>
                                            </p:txEl>
                                          </p:spTgt>
                                        </p:tgtEl>
                                        <p:attrNameLst>
                                          <p:attrName>style.visibility</p:attrName>
                                        </p:attrNameLst>
                                      </p:cBhvr>
                                      <p:to>
                                        <p:strVal val="visible"/>
                                      </p:to>
                                    </p:set>
                                    <p:anim calcmode="lin" valueType="num">
                                      <p:cBhvr additive="base">
                                        <p:cTn id="19" dur="5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80">
                                            <p:txEl>
                                              <p:pRg st="3" end="3"/>
                                            </p:txEl>
                                          </p:spTgt>
                                        </p:tgtEl>
                                        <p:attrNameLst>
                                          <p:attrName>style.visibility</p:attrName>
                                        </p:attrNameLst>
                                      </p:cBhvr>
                                      <p:to>
                                        <p:strVal val="visible"/>
                                      </p:to>
                                    </p:set>
                                    <p:anim calcmode="lin" valueType="num">
                                      <p:cBhvr additive="base">
                                        <p:cTn id="25" dur="500" fill="hold"/>
                                        <p:tgtEl>
                                          <p:spTgt spid="180">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8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80">
                                            <p:txEl>
                                              <p:pRg st="4" end="4"/>
                                            </p:txEl>
                                          </p:spTgt>
                                        </p:tgtEl>
                                        <p:attrNameLst>
                                          <p:attrName>style.visibility</p:attrName>
                                        </p:attrNameLst>
                                      </p:cBhvr>
                                      <p:to>
                                        <p:strVal val="visible"/>
                                      </p:to>
                                    </p:set>
                                    <p:anim calcmode="lin" valueType="num">
                                      <p:cBhvr additive="base">
                                        <p:cTn id="31" dur="500" fill="hold"/>
                                        <p:tgtEl>
                                          <p:spTgt spid="180">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8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80">
                                            <p:txEl>
                                              <p:pRg st="5" end="5"/>
                                            </p:txEl>
                                          </p:spTgt>
                                        </p:tgtEl>
                                        <p:attrNameLst>
                                          <p:attrName>style.visibility</p:attrName>
                                        </p:attrNameLst>
                                      </p:cBhvr>
                                      <p:to>
                                        <p:strVal val="visible"/>
                                      </p:to>
                                    </p:set>
                                    <p:anim calcmode="lin" valueType="num">
                                      <p:cBhvr additive="base">
                                        <p:cTn id="37" dur="500" fill="hold"/>
                                        <p:tgtEl>
                                          <p:spTgt spid="180">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8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80">
                                            <p:txEl>
                                              <p:pRg st="6" end="6"/>
                                            </p:txEl>
                                          </p:spTgt>
                                        </p:tgtEl>
                                        <p:attrNameLst>
                                          <p:attrName>style.visibility</p:attrName>
                                        </p:attrNameLst>
                                      </p:cBhvr>
                                      <p:to>
                                        <p:strVal val="visible"/>
                                      </p:to>
                                    </p:set>
                                    <p:anim calcmode="lin" valueType="num">
                                      <p:cBhvr additive="base">
                                        <p:cTn id="43" dur="500" fill="hold"/>
                                        <p:tgtEl>
                                          <p:spTgt spid="180">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8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80">
                                            <p:txEl>
                                              <p:pRg st="7" end="7"/>
                                            </p:txEl>
                                          </p:spTgt>
                                        </p:tgtEl>
                                        <p:attrNameLst>
                                          <p:attrName>style.visibility</p:attrName>
                                        </p:attrNameLst>
                                      </p:cBhvr>
                                      <p:to>
                                        <p:strVal val="visible"/>
                                      </p:to>
                                    </p:set>
                                    <p:anim calcmode="lin" valueType="num">
                                      <p:cBhvr additive="base">
                                        <p:cTn id="49" dur="500" fill="hold"/>
                                        <p:tgtEl>
                                          <p:spTgt spid="180">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8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80">
                                            <p:txEl>
                                              <p:pRg st="8" end="8"/>
                                            </p:txEl>
                                          </p:spTgt>
                                        </p:tgtEl>
                                        <p:attrNameLst>
                                          <p:attrName>style.visibility</p:attrName>
                                        </p:attrNameLst>
                                      </p:cBhvr>
                                      <p:to>
                                        <p:strVal val="visible"/>
                                      </p:to>
                                    </p:set>
                                    <p:anim calcmode="lin" valueType="num">
                                      <p:cBhvr additive="base">
                                        <p:cTn id="55" dur="500" fill="hold"/>
                                        <p:tgtEl>
                                          <p:spTgt spid="180">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8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80">
                                            <p:txEl>
                                              <p:pRg st="10" end="10"/>
                                            </p:txEl>
                                          </p:spTgt>
                                        </p:tgtEl>
                                        <p:attrNameLst>
                                          <p:attrName>style.visibility</p:attrName>
                                        </p:attrNameLst>
                                      </p:cBhvr>
                                      <p:to>
                                        <p:strVal val="visible"/>
                                      </p:to>
                                    </p:set>
                                    <p:anim calcmode="lin" valueType="num">
                                      <p:cBhvr additive="base">
                                        <p:cTn id="61" dur="500" fill="hold"/>
                                        <p:tgtEl>
                                          <p:spTgt spid="180">
                                            <p:txEl>
                                              <p:pRg st="10" end="1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8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80520" y="152280"/>
            <a:ext cx="7543800" cy="6400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Objective: </a:t>
            </a:r>
            <a:r>
              <a:rPr b="0" lang="en-US" sz="1400" spc="-1" strike="noStrike">
                <a:solidFill>
                  <a:srgbClr val="000000"/>
                </a:solidFill>
                <a:latin typeface="Comic Sans MS"/>
              </a:rPr>
              <a:t>Students will identify and write equations and inequalities to represent relationships.</a:t>
            </a:r>
            <a:endParaRPr b="0" lang="en-US" sz="14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Examples: Write an equation for each sentenc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The product of 3 and h is 18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n minus 8 is 12</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The sum of a number and 12 is 20</a:t>
            </a:r>
            <a:endParaRPr b="0" lang="en-US" sz="3200" spc="-1" strike="noStrike">
              <a:solidFill>
                <a:srgbClr val="000000"/>
              </a:solidFill>
              <a:latin typeface="Comic Sans MS"/>
            </a:endParaRPr>
          </a:p>
        </p:txBody>
      </p:sp>
      <p:sp>
        <p:nvSpPr>
          <p:cNvPr id="1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7" name=""/>
          <p:cNvSpPr/>
          <p:nvPr/>
        </p:nvSpPr>
        <p:spPr>
          <a:xfrm>
            <a:off x="2554200" y="1303200"/>
            <a:ext cx="2197080" cy="581040"/>
          </a:xfrm>
          <a:custGeom>
            <a:avLst/>
            <a:gdLst/>
            <a:ahLst/>
            <a:rect l="l" t="t" r="r" b="b"/>
            <a:pathLst>
              <a:path w="6103" h="1614">
                <a:moveTo>
                  <a:pt x="7268" y="4663"/>
                </a:moveTo>
                <a:cubicBezTo>
                  <a:pt x="7304" y="4700"/>
                  <a:pt x="7329" y="4744"/>
                  <a:pt x="7367" y="4762"/>
                </a:cubicBezTo>
                <a:cubicBezTo>
                  <a:pt x="7377" y="4801"/>
                  <a:pt x="7392" y="4817"/>
                  <a:pt x="7392" y="4862"/>
                </a:cubicBezTo>
                <a:cubicBezTo>
                  <a:pt x="7431" y="4875"/>
                  <a:pt x="7402" y="4874"/>
                  <a:pt x="7441" y="4887"/>
                </a:cubicBezTo>
                <a:cubicBezTo>
                  <a:pt x="7441" y="4929"/>
                  <a:pt x="7431" y="4924"/>
                  <a:pt x="7466" y="4936"/>
                </a:cubicBezTo>
                <a:cubicBezTo>
                  <a:pt x="7466" y="4977"/>
                  <a:pt x="7466" y="5019"/>
                  <a:pt x="7466" y="5060"/>
                </a:cubicBezTo>
              </a:path>
              <a:path w="6103" h="1614">
                <a:moveTo>
                  <a:pt x="7565" y="4663"/>
                </a:moveTo>
                <a:cubicBezTo>
                  <a:pt x="7494" y="4663"/>
                  <a:pt x="7508" y="4683"/>
                  <a:pt x="7466" y="4738"/>
                </a:cubicBezTo>
                <a:cubicBezTo>
                  <a:pt x="7433" y="4781"/>
                  <a:pt x="7417" y="4780"/>
                  <a:pt x="7417" y="4837"/>
                </a:cubicBezTo>
                <a:cubicBezTo>
                  <a:pt x="7417" y="4845"/>
                  <a:pt x="7417" y="4854"/>
                  <a:pt x="7417" y="4862"/>
                </a:cubicBezTo>
                <a:cubicBezTo>
                  <a:pt x="7365" y="4862"/>
                  <a:pt x="7354" y="4873"/>
                  <a:pt x="7317" y="4911"/>
                </a:cubicBezTo>
                <a:cubicBezTo>
                  <a:pt x="7288" y="4940"/>
                  <a:pt x="7277" y="4950"/>
                  <a:pt x="7268" y="4986"/>
                </a:cubicBezTo>
                <a:cubicBezTo>
                  <a:pt x="7252" y="4991"/>
                  <a:pt x="7206" y="5009"/>
                  <a:pt x="7193" y="5035"/>
                </a:cubicBezTo>
                <a:cubicBezTo>
                  <a:pt x="7177" y="5067"/>
                  <a:pt x="7180" y="5050"/>
                  <a:pt x="7169" y="5085"/>
                </a:cubicBezTo>
              </a:path>
              <a:path w="6103" h="1614">
                <a:moveTo>
                  <a:pt x="7094" y="5159"/>
                </a:moveTo>
                <a:cubicBezTo>
                  <a:pt x="7117" y="5148"/>
                  <a:pt x="7154" y="5124"/>
                  <a:pt x="7218" y="5135"/>
                </a:cubicBezTo>
                <a:cubicBezTo>
                  <a:pt x="7262" y="5142"/>
                  <a:pt x="7363" y="5188"/>
                  <a:pt x="7392" y="5209"/>
                </a:cubicBezTo>
                <a:cubicBezTo>
                  <a:pt x="7439" y="5243"/>
                  <a:pt x="7481" y="5234"/>
                  <a:pt x="7541" y="5234"/>
                </a:cubicBezTo>
                <a:cubicBezTo>
                  <a:pt x="7672" y="5234"/>
                  <a:pt x="7815" y="5254"/>
                  <a:pt x="7938" y="5209"/>
                </a:cubicBezTo>
                <a:cubicBezTo>
                  <a:pt x="7981" y="5193"/>
                  <a:pt x="8048" y="5152"/>
                  <a:pt x="8062" y="5135"/>
                </a:cubicBezTo>
                <a:cubicBezTo>
                  <a:pt x="8095" y="5096"/>
                  <a:pt x="8114" y="4983"/>
                  <a:pt x="8136" y="4911"/>
                </a:cubicBezTo>
                <a:cubicBezTo>
                  <a:pt x="8164" y="4819"/>
                  <a:pt x="8185" y="4685"/>
                  <a:pt x="8161" y="4589"/>
                </a:cubicBezTo>
                <a:cubicBezTo>
                  <a:pt x="8145" y="4525"/>
                  <a:pt x="8077" y="4437"/>
                  <a:pt x="8037" y="4390"/>
                </a:cubicBezTo>
                <a:cubicBezTo>
                  <a:pt x="8001" y="4348"/>
                  <a:pt x="7984" y="4290"/>
                  <a:pt x="7962" y="4266"/>
                </a:cubicBezTo>
                <a:cubicBezTo>
                  <a:pt x="7927" y="4228"/>
                  <a:pt x="7866" y="4220"/>
                  <a:pt x="7813" y="4217"/>
                </a:cubicBezTo>
                <a:cubicBezTo>
                  <a:pt x="7677" y="4209"/>
                  <a:pt x="7550" y="4203"/>
                  <a:pt x="7441" y="4266"/>
                </a:cubicBezTo>
                <a:cubicBezTo>
                  <a:pt x="7407" y="4286"/>
                  <a:pt x="7390" y="4322"/>
                  <a:pt x="7367" y="4341"/>
                </a:cubicBezTo>
                <a:cubicBezTo>
                  <a:pt x="7306" y="4394"/>
                  <a:pt x="7267" y="4426"/>
                  <a:pt x="7218" y="4490"/>
                </a:cubicBezTo>
                <a:cubicBezTo>
                  <a:pt x="7210" y="4500"/>
                  <a:pt x="7180" y="4528"/>
                  <a:pt x="7169" y="4539"/>
                </a:cubicBezTo>
                <a:cubicBezTo>
                  <a:pt x="7143" y="4565"/>
                  <a:pt x="7147" y="4559"/>
                  <a:pt x="7144" y="4614"/>
                </a:cubicBezTo>
                <a:cubicBezTo>
                  <a:pt x="7140" y="4688"/>
                  <a:pt x="7150" y="4742"/>
                  <a:pt x="7119" y="4812"/>
                </a:cubicBezTo>
                <a:cubicBezTo>
                  <a:pt x="7104" y="4846"/>
                  <a:pt x="7096" y="4870"/>
                  <a:pt x="7094" y="4911"/>
                </a:cubicBezTo>
                <a:cubicBezTo>
                  <a:pt x="7089" y="5001"/>
                  <a:pt x="7094" y="5094"/>
                  <a:pt x="7094" y="5184"/>
                </a:cubicBezTo>
              </a:path>
              <a:path w="6103" h="1614">
                <a:moveTo>
                  <a:pt x="7094" y="5184"/>
                </a:moveTo>
                <a:lnTo>
                  <a:pt x="7094" y="5184"/>
                </a:lnTo>
              </a:path>
              <a:path w="6103" h="1614">
                <a:moveTo>
                  <a:pt x="8111" y="4514"/>
                </a:moveTo>
                <a:cubicBezTo>
                  <a:pt x="8231" y="4419"/>
                  <a:pt x="8430" y="4285"/>
                  <a:pt x="8582" y="4217"/>
                </a:cubicBezTo>
                <a:cubicBezTo>
                  <a:pt x="8938" y="4057"/>
                  <a:pt x="9309" y="3883"/>
                  <a:pt x="9674" y="3746"/>
                </a:cubicBezTo>
                <a:cubicBezTo>
                  <a:pt x="9877" y="3670"/>
                  <a:pt x="10103" y="3624"/>
                  <a:pt x="10319" y="3621"/>
                </a:cubicBezTo>
                <a:cubicBezTo>
                  <a:pt x="10553" y="3618"/>
                  <a:pt x="10708" y="3614"/>
                  <a:pt x="10914" y="3696"/>
                </a:cubicBezTo>
                <a:cubicBezTo>
                  <a:pt x="11077" y="3761"/>
                  <a:pt x="11246" y="3789"/>
                  <a:pt x="11410" y="3845"/>
                </a:cubicBezTo>
                <a:cubicBezTo>
                  <a:pt x="11519" y="3882"/>
                  <a:pt x="11637" y="3934"/>
                  <a:pt x="11733" y="3994"/>
                </a:cubicBezTo>
                <a:cubicBezTo>
                  <a:pt x="11748" y="4004"/>
                  <a:pt x="11774" y="4040"/>
                  <a:pt x="11782" y="4043"/>
                </a:cubicBezTo>
                <a:cubicBezTo>
                  <a:pt x="11866" y="4081"/>
                  <a:pt x="11962" y="4122"/>
                  <a:pt x="12055" y="4167"/>
                </a:cubicBezTo>
                <a:cubicBezTo>
                  <a:pt x="12271" y="4271"/>
                  <a:pt x="12458" y="4346"/>
                  <a:pt x="12650" y="4490"/>
                </a:cubicBezTo>
                <a:cubicBezTo>
                  <a:pt x="12812" y="4611"/>
                  <a:pt x="12981" y="4697"/>
                  <a:pt x="13072" y="4887"/>
                </a:cubicBezTo>
                <a:cubicBezTo>
                  <a:pt x="13109" y="4963"/>
                  <a:pt x="13129" y="5030"/>
                  <a:pt x="13171" y="5085"/>
                </a:cubicBezTo>
                <a:cubicBezTo>
                  <a:pt x="13171" y="5077"/>
                  <a:pt x="13171" y="5068"/>
                  <a:pt x="13171" y="5060"/>
                </a:cubicBezTo>
              </a:path>
              <a:path w="6103" h="1614">
                <a:moveTo>
                  <a:pt x="13171" y="4812"/>
                </a:moveTo>
                <a:cubicBezTo>
                  <a:pt x="13179" y="4812"/>
                  <a:pt x="13188" y="4812"/>
                  <a:pt x="13196" y="4812"/>
                </a:cubicBezTo>
                <a:cubicBezTo>
                  <a:pt x="13196" y="4928"/>
                  <a:pt x="13196" y="5043"/>
                  <a:pt x="13196" y="5159"/>
                </a:cubicBezTo>
                <a:cubicBezTo>
                  <a:pt x="13097" y="5159"/>
                  <a:pt x="12997" y="5159"/>
                  <a:pt x="12898" y="5159"/>
                </a:cubicBezTo>
                <a:cubicBezTo>
                  <a:pt x="12887" y="5125"/>
                  <a:pt x="12891" y="5135"/>
                  <a:pt x="12849" y="513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607000" y="1687680"/>
            <a:ext cx="144360" cy="107640"/>
          </a:xfrm>
          <a:custGeom>
            <a:avLst/>
            <a:gdLst/>
            <a:ahLst/>
            <a:rect l="l" t="t" r="r" b="b"/>
            <a:pathLst>
              <a:path w="398" h="299">
                <a:moveTo>
                  <a:pt x="15577" y="4688"/>
                </a:moveTo>
                <a:cubicBezTo>
                  <a:pt x="15643" y="4688"/>
                  <a:pt x="15930" y="4655"/>
                  <a:pt x="15949" y="4713"/>
                </a:cubicBezTo>
              </a:path>
              <a:path w="398" h="299">
                <a:moveTo>
                  <a:pt x="15602" y="4986"/>
                </a:moveTo>
                <a:cubicBezTo>
                  <a:pt x="15726" y="4986"/>
                  <a:pt x="15850" y="4986"/>
                  <a:pt x="15974" y="498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7035840" y="1812960"/>
            <a:ext cx="1100160" cy="322200"/>
          </a:xfrm>
          <a:custGeom>
            <a:avLst/>
            <a:gdLst/>
            <a:ahLst/>
            <a:rect l="l" t="t" r="r" b="b"/>
            <a:pathLst>
              <a:path w="3052" h="894">
                <a:moveTo>
                  <a:pt x="19546" y="5383"/>
                </a:moveTo>
                <a:cubicBezTo>
                  <a:pt x="19546" y="5326"/>
                  <a:pt x="19558" y="5308"/>
                  <a:pt x="19571" y="5283"/>
                </a:cubicBezTo>
                <a:cubicBezTo>
                  <a:pt x="19590" y="5246"/>
                  <a:pt x="19611" y="5218"/>
                  <a:pt x="19645" y="5184"/>
                </a:cubicBezTo>
                <a:cubicBezTo>
                  <a:pt x="19680" y="5149"/>
                  <a:pt x="19721" y="5128"/>
                  <a:pt x="19745" y="5110"/>
                </a:cubicBezTo>
                <a:cubicBezTo>
                  <a:pt x="19780" y="5083"/>
                  <a:pt x="19775" y="5085"/>
                  <a:pt x="19819" y="5085"/>
                </a:cubicBezTo>
                <a:cubicBezTo>
                  <a:pt x="19819" y="5161"/>
                  <a:pt x="19844" y="5302"/>
                  <a:pt x="19794" y="5358"/>
                </a:cubicBezTo>
                <a:cubicBezTo>
                  <a:pt x="19764" y="5392"/>
                  <a:pt x="19738" y="5383"/>
                  <a:pt x="19695" y="5383"/>
                </a:cubicBezTo>
                <a:cubicBezTo>
                  <a:pt x="19745" y="5353"/>
                  <a:pt x="19782" y="5358"/>
                  <a:pt x="19844" y="5358"/>
                </a:cubicBezTo>
                <a:cubicBezTo>
                  <a:pt x="19900" y="5358"/>
                  <a:pt x="19914" y="5371"/>
                  <a:pt x="19918" y="5432"/>
                </a:cubicBezTo>
                <a:cubicBezTo>
                  <a:pt x="19922" y="5492"/>
                  <a:pt x="19943" y="5673"/>
                  <a:pt x="19893" y="5705"/>
                </a:cubicBezTo>
                <a:cubicBezTo>
                  <a:pt x="19885" y="5710"/>
                  <a:pt x="19825" y="5746"/>
                  <a:pt x="19819" y="5755"/>
                </a:cubicBezTo>
                <a:cubicBezTo>
                  <a:pt x="19796" y="5789"/>
                  <a:pt x="19779" y="5779"/>
                  <a:pt x="19720" y="5779"/>
                </a:cubicBezTo>
                <a:cubicBezTo>
                  <a:pt x="19695" y="5779"/>
                  <a:pt x="19670" y="5779"/>
                  <a:pt x="19645" y="5779"/>
                </a:cubicBezTo>
              </a:path>
              <a:path w="3052" h="894">
                <a:moveTo>
                  <a:pt x="20389" y="5308"/>
                </a:moveTo>
                <a:cubicBezTo>
                  <a:pt x="20490" y="5325"/>
                  <a:pt x="20497" y="5355"/>
                  <a:pt x="20563" y="5407"/>
                </a:cubicBezTo>
                <a:cubicBezTo>
                  <a:pt x="20611" y="5445"/>
                  <a:pt x="20624" y="5439"/>
                  <a:pt x="20638" y="5482"/>
                </a:cubicBezTo>
              </a:path>
              <a:path w="3052" h="894">
                <a:moveTo>
                  <a:pt x="20638" y="5234"/>
                </a:moveTo>
                <a:cubicBezTo>
                  <a:pt x="20625" y="5300"/>
                  <a:pt x="20579" y="5354"/>
                  <a:pt x="20538" y="5407"/>
                </a:cubicBezTo>
                <a:cubicBezTo>
                  <a:pt x="20508" y="5446"/>
                  <a:pt x="20514" y="5469"/>
                  <a:pt x="20464" y="5482"/>
                </a:cubicBezTo>
                <a:cubicBezTo>
                  <a:pt x="20453" y="5514"/>
                  <a:pt x="20446" y="5521"/>
                  <a:pt x="20414" y="5531"/>
                </a:cubicBezTo>
              </a:path>
              <a:path w="3052" h="894">
                <a:moveTo>
                  <a:pt x="20836" y="5035"/>
                </a:moveTo>
                <a:cubicBezTo>
                  <a:pt x="20836" y="5151"/>
                  <a:pt x="20819" y="5274"/>
                  <a:pt x="20861" y="5383"/>
                </a:cubicBezTo>
                <a:cubicBezTo>
                  <a:pt x="20882" y="5438"/>
                  <a:pt x="20904" y="5497"/>
                  <a:pt x="20910" y="5556"/>
                </a:cubicBezTo>
                <a:cubicBezTo>
                  <a:pt x="20923" y="5687"/>
                  <a:pt x="20910" y="6036"/>
                  <a:pt x="20910" y="5904"/>
                </a:cubicBezTo>
                <a:cubicBezTo>
                  <a:pt x="20910" y="5847"/>
                  <a:pt x="20873" y="5599"/>
                  <a:pt x="20935" y="5556"/>
                </a:cubicBezTo>
                <a:cubicBezTo>
                  <a:pt x="20965" y="5535"/>
                  <a:pt x="20997" y="5489"/>
                  <a:pt x="21010" y="5482"/>
                </a:cubicBezTo>
                <a:cubicBezTo>
                  <a:pt x="21047" y="5463"/>
                  <a:pt x="21186" y="5476"/>
                  <a:pt x="21208" y="5507"/>
                </a:cubicBezTo>
                <a:cubicBezTo>
                  <a:pt x="21235" y="5545"/>
                  <a:pt x="21245" y="5615"/>
                  <a:pt x="21258" y="5655"/>
                </a:cubicBezTo>
                <a:cubicBezTo>
                  <a:pt x="21273" y="5700"/>
                  <a:pt x="21235" y="5714"/>
                  <a:pt x="21282" y="5730"/>
                </a:cubicBezTo>
              </a:path>
              <a:path w="3052" h="894">
                <a:moveTo>
                  <a:pt x="21530" y="5383"/>
                </a:moveTo>
                <a:cubicBezTo>
                  <a:pt x="21638" y="5383"/>
                  <a:pt x="21745" y="5383"/>
                  <a:pt x="21853" y="5383"/>
                </a:cubicBezTo>
              </a:path>
              <a:path w="3052" h="894">
                <a:moveTo>
                  <a:pt x="21580" y="5655"/>
                </a:moveTo>
                <a:cubicBezTo>
                  <a:pt x="21624" y="5624"/>
                  <a:pt x="21647" y="5631"/>
                  <a:pt x="21704" y="5631"/>
                </a:cubicBezTo>
                <a:cubicBezTo>
                  <a:pt x="21762" y="5631"/>
                  <a:pt x="21820" y="5631"/>
                  <a:pt x="21878" y="5631"/>
                </a:cubicBezTo>
              </a:path>
              <a:path w="3052" h="894">
                <a:moveTo>
                  <a:pt x="22151" y="5283"/>
                </a:moveTo>
                <a:cubicBezTo>
                  <a:pt x="22160" y="5346"/>
                  <a:pt x="22175" y="5387"/>
                  <a:pt x="22175" y="5457"/>
                </a:cubicBezTo>
                <a:cubicBezTo>
                  <a:pt x="22175" y="5598"/>
                  <a:pt x="22175" y="5738"/>
                  <a:pt x="22175" y="5879"/>
                </a:cubicBezTo>
              </a:path>
              <a:path w="3052" h="894">
                <a:moveTo>
                  <a:pt x="22597" y="5407"/>
                </a:moveTo>
                <a:cubicBezTo>
                  <a:pt x="22583" y="5386"/>
                  <a:pt x="22550" y="5361"/>
                  <a:pt x="22523" y="5358"/>
                </a:cubicBezTo>
                <a:cubicBezTo>
                  <a:pt x="22482" y="5353"/>
                  <a:pt x="22504" y="5333"/>
                  <a:pt x="22448" y="5333"/>
                </a:cubicBezTo>
                <a:cubicBezTo>
                  <a:pt x="22396" y="5333"/>
                  <a:pt x="22392" y="5388"/>
                  <a:pt x="22349" y="5407"/>
                </a:cubicBezTo>
                <a:cubicBezTo>
                  <a:pt x="22324" y="5407"/>
                  <a:pt x="22316" y="5407"/>
                  <a:pt x="22324" y="5432"/>
                </a:cubicBezTo>
                <a:cubicBezTo>
                  <a:pt x="22345" y="5495"/>
                  <a:pt x="22372" y="5420"/>
                  <a:pt x="22423" y="5457"/>
                </a:cubicBezTo>
                <a:cubicBezTo>
                  <a:pt x="22443" y="5471"/>
                  <a:pt x="22466" y="5464"/>
                  <a:pt x="22498" y="5482"/>
                </a:cubicBezTo>
                <a:cubicBezTo>
                  <a:pt x="22532" y="5501"/>
                  <a:pt x="22588" y="5546"/>
                  <a:pt x="22597" y="5581"/>
                </a:cubicBezTo>
                <a:cubicBezTo>
                  <a:pt x="22611" y="5638"/>
                  <a:pt x="22597" y="5720"/>
                  <a:pt x="22597" y="5779"/>
                </a:cubicBezTo>
                <a:cubicBezTo>
                  <a:pt x="22559" y="5779"/>
                  <a:pt x="22528" y="5794"/>
                  <a:pt x="22523" y="5755"/>
                </a:cubicBezTo>
                <a:cubicBezTo>
                  <a:pt x="22507" y="5627"/>
                  <a:pt x="22523" y="5487"/>
                  <a:pt x="22523" y="535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215120" y="2367000"/>
            <a:ext cx="312840" cy="241200"/>
          </a:xfrm>
          <a:custGeom>
            <a:avLst/>
            <a:gdLst/>
            <a:ahLst/>
            <a:rect l="l" t="t" r="r" b="b"/>
            <a:pathLst>
              <a:path w="869" h="671">
                <a:moveTo>
                  <a:pt x="20315" y="6598"/>
                </a:moveTo>
                <a:cubicBezTo>
                  <a:pt x="20315" y="6631"/>
                  <a:pt x="20315" y="6664"/>
                  <a:pt x="20315" y="6697"/>
                </a:cubicBezTo>
                <a:cubicBezTo>
                  <a:pt x="20349" y="6719"/>
                  <a:pt x="20340" y="6745"/>
                  <a:pt x="20340" y="6796"/>
                </a:cubicBezTo>
                <a:cubicBezTo>
                  <a:pt x="20340" y="6856"/>
                  <a:pt x="20350" y="6896"/>
                  <a:pt x="20365" y="6945"/>
                </a:cubicBezTo>
                <a:cubicBezTo>
                  <a:pt x="20365" y="6970"/>
                  <a:pt x="20365" y="6978"/>
                  <a:pt x="20365" y="6995"/>
                </a:cubicBezTo>
                <a:cubicBezTo>
                  <a:pt x="20399" y="7007"/>
                  <a:pt x="20389" y="7003"/>
                  <a:pt x="20389" y="7045"/>
                </a:cubicBezTo>
              </a:path>
              <a:path w="869" h="671">
                <a:moveTo>
                  <a:pt x="20117" y="6697"/>
                </a:moveTo>
                <a:cubicBezTo>
                  <a:pt x="20117" y="6625"/>
                  <a:pt x="20138" y="6619"/>
                  <a:pt x="20216" y="6598"/>
                </a:cubicBezTo>
                <a:cubicBezTo>
                  <a:pt x="20250" y="6589"/>
                  <a:pt x="20283" y="6577"/>
                  <a:pt x="20315" y="6573"/>
                </a:cubicBezTo>
                <a:cubicBezTo>
                  <a:pt x="20340" y="6573"/>
                  <a:pt x="20348" y="6573"/>
                  <a:pt x="20365" y="6573"/>
                </a:cubicBezTo>
                <a:cubicBezTo>
                  <a:pt x="20365" y="6621"/>
                  <a:pt x="20392" y="6795"/>
                  <a:pt x="20340" y="6821"/>
                </a:cubicBezTo>
                <a:cubicBezTo>
                  <a:pt x="20315" y="6833"/>
                  <a:pt x="20305" y="6863"/>
                  <a:pt x="20290" y="6871"/>
                </a:cubicBezTo>
                <a:cubicBezTo>
                  <a:pt x="20269" y="6882"/>
                  <a:pt x="20213" y="6894"/>
                  <a:pt x="20191" y="6896"/>
                </a:cubicBezTo>
                <a:cubicBezTo>
                  <a:pt x="20167" y="6899"/>
                  <a:pt x="20141" y="6896"/>
                  <a:pt x="20117" y="6896"/>
                </a:cubicBezTo>
                <a:cubicBezTo>
                  <a:pt x="20162" y="6885"/>
                  <a:pt x="20196" y="6831"/>
                  <a:pt x="20216" y="6821"/>
                </a:cubicBezTo>
                <a:cubicBezTo>
                  <a:pt x="20250" y="6804"/>
                  <a:pt x="20365" y="6820"/>
                  <a:pt x="20389" y="6846"/>
                </a:cubicBezTo>
                <a:cubicBezTo>
                  <a:pt x="20422" y="6883"/>
                  <a:pt x="20414" y="6926"/>
                  <a:pt x="20414" y="6970"/>
                </a:cubicBezTo>
                <a:cubicBezTo>
                  <a:pt x="20414" y="7041"/>
                  <a:pt x="20416" y="7106"/>
                  <a:pt x="20389" y="7144"/>
                </a:cubicBezTo>
                <a:cubicBezTo>
                  <a:pt x="20352" y="7195"/>
                  <a:pt x="20336" y="7192"/>
                  <a:pt x="20315" y="7218"/>
                </a:cubicBezTo>
                <a:cubicBezTo>
                  <a:pt x="20292" y="7246"/>
                  <a:pt x="20293" y="7243"/>
                  <a:pt x="20241" y="7243"/>
                </a:cubicBezTo>
                <a:cubicBezTo>
                  <a:pt x="20197" y="7243"/>
                  <a:pt x="20090" y="7264"/>
                  <a:pt x="20067" y="7218"/>
                </a:cubicBezTo>
                <a:cubicBezTo>
                  <a:pt x="20051" y="7186"/>
                  <a:pt x="20042" y="7159"/>
                  <a:pt x="20042" y="7119"/>
                </a:cubicBezTo>
              </a:path>
              <a:path w="869" h="671">
                <a:moveTo>
                  <a:pt x="20588" y="6672"/>
                </a:moveTo>
                <a:cubicBezTo>
                  <a:pt x="20588" y="6607"/>
                  <a:pt x="20612" y="6793"/>
                  <a:pt x="20613" y="6796"/>
                </a:cubicBezTo>
                <a:cubicBezTo>
                  <a:pt x="20639" y="6925"/>
                  <a:pt x="20613" y="7086"/>
                  <a:pt x="20613" y="7218"/>
                </a:cubicBezTo>
                <a:cubicBezTo>
                  <a:pt x="20613" y="7115"/>
                  <a:pt x="20606" y="6985"/>
                  <a:pt x="20638" y="6921"/>
                </a:cubicBezTo>
                <a:cubicBezTo>
                  <a:pt x="20657" y="6883"/>
                  <a:pt x="20659" y="6852"/>
                  <a:pt x="20712" y="6846"/>
                </a:cubicBezTo>
                <a:cubicBezTo>
                  <a:pt x="20768" y="6840"/>
                  <a:pt x="20829" y="6846"/>
                  <a:pt x="20886" y="6846"/>
                </a:cubicBezTo>
                <a:cubicBezTo>
                  <a:pt x="20886" y="6891"/>
                  <a:pt x="20907" y="6905"/>
                  <a:pt x="20910" y="6945"/>
                </a:cubicBezTo>
                <a:cubicBezTo>
                  <a:pt x="20916" y="7035"/>
                  <a:pt x="20910" y="7128"/>
                  <a:pt x="20910" y="721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643880" y="2463840"/>
            <a:ext cx="71280" cy="90360"/>
          </a:xfrm>
          <a:custGeom>
            <a:avLst/>
            <a:gdLst/>
            <a:ahLst/>
            <a:rect l="l" t="t" r="r" b="b"/>
            <a:pathLst>
              <a:path w="199" h="249">
                <a:moveTo>
                  <a:pt x="21233" y="6896"/>
                </a:moveTo>
                <a:cubicBezTo>
                  <a:pt x="21233" y="6888"/>
                  <a:pt x="21233" y="6879"/>
                  <a:pt x="21233" y="6871"/>
                </a:cubicBezTo>
                <a:cubicBezTo>
                  <a:pt x="21275" y="6871"/>
                  <a:pt x="21271" y="6881"/>
                  <a:pt x="21282" y="6846"/>
                </a:cubicBezTo>
                <a:cubicBezTo>
                  <a:pt x="21307" y="6846"/>
                  <a:pt x="21332" y="6846"/>
                  <a:pt x="21357" y="6846"/>
                </a:cubicBezTo>
              </a:path>
              <a:path w="199" h="249">
                <a:moveTo>
                  <a:pt x="21258" y="7045"/>
                </a:moveTo>
                <a:cubicBezTo>
                  <a:pt x="21266" y="7045"/>
                  <a:pt x="21274" y="7045"/>
                  <a:pt x="21282" y="7045"/>
                </a:cubicBezTo>
                <a:cubicBezTo>
                  <a:pt x="21292" y="7073"/>
                  <a:pt x="21317" y="7090"/>
                  <a:pt x="21357" y="7094"/>
                </a:cubicBezTo>
                <a:cubicBezTo>
                  <a:pt x="21381" y="7097"/>
                  <a:pt x="21407" y="7094"/>
                  <a:pt x="21431" y="7094"/>
                </a:cubicBezTo>
              </a:path>
            </a:pathLst>
          </a:custGeom>
          <a:noFill/>
          <a:ln cap="rnd" w="34920">
            <a:solidFill>
              <a:srgbClr val="ff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2" name=""/>
          <p:cNvSpPr/>
          <p:nvPr/>
        </p:nvSpPr>
        <p:spPr>
          <a:xfrm>
            <a:off x="7804080" y="2367000"/>
            <a:ext cx="152640" cy="222120"/>
          </a:xfrm>
          <a:custGeom>
            <a:avLst/>
            <a:gdLst/>
            <a:ahLst/>
            <a:rect l="l" t="t" r="r" b="b"/>
            <a:pathLst>
              <a:path w="423" h="621">
                <a:moveTo>
                  <a:pt x="21679" y="6598"/>
                </a:moveTo>
                <a:cubicBezTo>
                  <a:pt x="21679" y="6772"/>
                  <a:pt x="21679" y="6945"/>
                  <a:pt x="21679" y="7119"/>
                </a:cubicBezTo>
              </a:path>
              <a:path w="423" h="621">
                <a:moveTo>
                  <a:pt x="22101" y="6672"/>
                </a:moveTo>
                <a:cubicBezTo>
                  <a:pt x="22093" y="6650"/>
                  <a:pt x="22049" y="6626"/>
                  <a:pt x="22027" y="6623"/>
                </a:cubicBezTo>
                <a:cubicBezTo>
                  <a:pt x="21982" y="6617"/>
                  <a:pt x="21943" y="6585"/>
                  <a:pt x="21903" y="6573"/>
                </a:cubicBezTo>
                <a:cubicBezTo>
                  <a:pt x="21883" y="6567"/>
                  <a:pt x="21849" y="6573"/>
                  <a:pt x="21828" y="6573"/>
                </a:cubicBezTo>
                <a:cubicBezTo>
                  <a:pt x="21828" y="6639"/>
                  <a:pt x="21814" y="6717"/>
                  <a:pt x="21853" y="6747"/>
                </a:cubicBezTo>
                <a:cubicBezTo>
                  <a:pt x="21884" y="6770"/>
                  <a:pt x="21913" y="6792"/>
                  <a:pt x="21952" y="6796"/>
                </a:cubicBezTo>
                <a:cubicBezTo>
                  <a:pt x="21997" y="6801"/>
                  <a:pt x="22010" y="6837"/>
                  <a:pt x="22027" y="6846"/>
                </a:cubicBezTo>
                <a:cubicBezTo>
                  <a:pt x="22072" y="6869"/>
                  <a:pt x="22076" y="6827"/>
                  <a:pt x="22076" y="6896"/>
                </a:cubicBezTo>
                <a:cubicBezTo>
                  <a:pt x="22076" y="6995"/>
                  <a:pt x="22076" y="7094"/>
                  <a:pt x="22076" y="7193"/>
                </a:cubicBezTo>
                <a:cubicBezTo>
                  <a:pt x="22036" y="7193"/>
                  <a:pt x="21948" y="7211"/>
                  <a:pt x="21927" y="7169"/>
                </a:cubicBezTo>
                <a:cubicBezTo>
                  <a:pt x="21914" y="7143"/>
                  <a:pt x="21888" y="7097"/>
                  <a:pt x="21878" y="7069"/>
                </a:cubicBezTo>
                <a:cubicBezTo>
                  <a:pt x="21861" y="7018"/>
                  <a:pt x="21895" y="6986"/>
                  <a:pt x="21903" y="6970"/>
                </a:cubicBezTo>
                <a:cubicBezTo>
                  <a:pt x="21915" y="6945"/>
                  <a:pt x="21944" y="6936"/>
                  <a:pt x="21952" y="6921"/>
                </a:cubicBezTo>
                <a:cubicBezTo>
                  <a:pt x="21969" y="6887"/>
                  <a:pt x="21983" y="6855"/>
                  <a:pt x="22002" y="6821"/>
                </a:cubicBezTo>
                <a:cubicBezTo>
                  <a:pt x="22025" y="6779"/>
                  <a:pt x="22027" y="6773"/>
                  <a:pt x="22027" y="6722"/>
                </a:cubicBezTo>
                <a:cubicBezTo>
                  <a:pt x="22027" y="6689"/>
                  <a:pt x="22027" y="6656"/>
                  <a:pt x="22027" y="662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3089160" y="2724120"/>
            <a:ext cx="196920" cy="115920"/>
          </a:xfrm>
          <a:custGeom>
            <a:avLst/>
            <a:gdLst/>
            <a:ahLst/>
            <a:rect l="l" t="t" r="r" b="b"/>
            <a:pathLst>
              <a:path w="547" h="324">
                <a:moveTo>
                  <a:pt x="8582" y="7565"/>
                </a:moveTo>
                <a:cubicBezTo>
                  <a:pt x="8756" y="7565"/>
                  <a:pt x="8929" y="7565"/>
                  <a:pt x="9103" y="7565"/>
                </a:cubicBezTo>
              </a:path>
              <a:path w="547" h="324">
                <a:moveTo>
                  <a:pt x="8731" y="7888"/>
                </a:moveTo>
                <a:cubicBezTo>
                  <a:pt x="8863" y="7888"/>
                  <a:pt x="8996" y="7888"/>
                  <a:pt x="9128" y="788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1866960" y="2751120"/>
            <a:ext cx="125280" cy="7920"/>
          </a:xfrm>
          <a:custGeom>
            <a:avLst/>
            <a:gdLst/>
            <a:ahLst/>
            <a:rect l="l" t="t" r="r" b="b"/>
            <a:pathLst>
              <a:path w="348" h="26">
                <a:moveTo>
                  <a:pt x="5184" y="7640"/>
                </a:moveTo>
                <a:cubicBezTo>
                  <a:pt x="5275" y="7640"/>
                  <a:pt x="5354" y="7639"/>
                  <a:pt x="5432" y="7665"/>
                </a:cubicBezTo>
                <a:cubicBezTo>
                  <a:pt x="5458" y="7674"/>
                  <a:pt x="5503" y="7665"/>
                  <a:pt x="5531" y="7665"/>
                </a:cubicBezTo>
              </a:path>
            </a:pathLst>
          </a:custGeom>
          <a:noFill/>
          <a:ln cap="rnd" w="34920">
            <a:solidFill>
              <a:srgbClr val="ff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05" name=""/>
          <p:cNvSpPr/>
          <p:nvPr/>
        </p:nvSpPr>
        <p:spPr>
          <a:xfrm>
            <a:off x="4606920" y="2990880"/>
            <a:ext cx="152280" cy="179280"/>
          </a:xfrm>
          <a:custGeom>
            <a:avLst/>
            <a:gdLst/>
            <a:ahLst/>
            <a:rect l="l" t="t" r="r" b="b"/>
            <a:pathLst>
              <a:path w="423" h="497">
                <a:moveTo>
                  <a:pt x="12799" y="8310"/>
                </a:moveTo>
                <a:cubicBezTo>
                  <a:pt x="12799" y="8475"/>
                  <a:pt x="12799" y="8641"/>
                  <a:pt x="12799" y="8806"/>
                </a:cubicBezTo>
                <a:cubicBezTo>
                  <a:pt x="12828" y="8768"/>
                  <a:pt x="12824" y="8755"/>
                  <a:pt x="12824" y="8706"/>
                </a:cubicBezTo>
                <a:cubicBezTo>
                  <a:pt x="12824" y="8655"/>
                  <a:pt x="12847" y="8631"/>
                  <a:pt x="12874" y="8607"/>
                </a:cubicBezTo>
                <a:cubicBezTo>
                  <a:pt x="12905" y="8579"/>
                  <a:pt x="12903" y="8538"/>
                  <a:pt x="12923" y="8508"/>
                </a:cubicBezTo>
                <a:cubicBezTo>
                  <a:pt x="12956" y="8458"/>
                  <a:pt x="12973" y="8503"/>
                  <a:pt x="12973" y="8434"/>
                </a:cubicBezTo>
                <a:cubicBezTo>
                  <a:pt x="12973" y="8374"/>
                  <a:pt x="12982" y="8386"/>
                  <a:pt x="13022" y="8359"/>
                </a:cubicBezTo>
                <a:cubicBezTo>
                  <a:pt x="13062" y="8332"/>
                  <a:pt x="13072" y="8334"/>
                  <a:pt x="13122" y="8334"/>
                </a:cubicBezTo>
                <a:cubicBezTo>
                  <a:pt x="13155" y="8334"/>
                  <a:pt x="13188" y="8334"/>
                  <a:pt x="13221" y="8334"/>
                </a:cubicBezTo>
                <a:cubicBezTo>
                  <a:pt x="13221" y="8491"/>
                  <a:pt x="13221" y="8649"/>
                  <a:pt x="13221" y="880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4956120" y="3071880"/>
            <a:ext cx="125640" cy="17280"/>
          </a:xfrm>
          <a:custGeom>
            <a:avLst/>
            <a:gdLst/>
            <a:ahLst/>
            <a:rect l="l" t="t" r="r" b="b"/>
            <a:pathLst>
              <a:path w="348" h="50">
                <a:moveTo>
                  <a:pt x="13767" y="8582"/>
                </a:moveTo>
                <a:cubicBezTo>
                  <a:pt x="13767" y="8574"/>
                  <a:pt x="13767" y="8566"/>
                  <a:pt x="13767" y="8558"/>
                </a:cubicBezTo>
                <a:cubicBezTo>
                  <a:pt x="13809" y="8558"/>
                  <a:pt x="13804" y="8568"/>
                  <a:pt x="13816" y="8533"/>
                </a:cubicBezTo>
                <a:cubicBezTo>
                  <a:pt x="13915" y="8533"/>
                  <a:pt x="14015" y="8533"/>
                  <a:pt x="14114" y="8533"/>
                </a:cubicBezTo>
              </a:path>
            </a:pathLst>
          </a:custGeom>
          <a:noFill/>
          <a:ln cap="rnd" w="3492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7" name=""/>
          <p:cNvSpPr/>
          <p:nvPr/>
        </p:nvSpPr>
        <p:spPr>
          <a:xfrm>
            <a:off x="5249880" y="2911320"/>
            <a:ext cx="331920" cy="276480"/>
          </a:xfrm>
          <a:custGeom>
            <a:avLst/>
            <a:gdLst/>
            <a:ahLst/>
            <a:rect l="l" t="t" r="r" b="b"/>
            <a:pathLst>
              <a:path w="919" h="770">
                <a:moveTo>
                  <a:pt x="14957" y="8086"/>
                </a:moveTo>
                <a:cubicBezTo>
                  <a:pt x="14845" y="8086"/>
                  <a:pt x="14784" y="8085"/>
                  <a:pt x="14684" y="8136"/>
                </a:cubicBezTo>
                <a:cubicBezTo>
                  <a:pt x="14640" y="8158"/>
                  <a:pt x="14602" y="8188"/>
                  <a:pt x="14585" y="8235"/>
                </a:cubicBezTo>
                <a:cubicBezTo>
                  <a:pt x="14571" y="8272"/>
                  <a:pt x="14577" y="8405"/>
                  <a:pt x="14610" y="8434"/>
                </a:cubicBezTo>
                <a:cubicBezTo>
                  <a:pt x="14678" y="8493"/>
                  <a:pt x="14858" y="8377"/>
                  <a:pt x="14932" y="8458"/>
                </a:cubicBezTo>
                <a:cubicBezTo>
                  <a:pt x="14984" y="8514"/>
                  <a:pt x="14982" y="8559"/>
                  <a:pt x="14982" y="8632"/>
                </a:cubicBezTo>
                <a:cubicBezTo>
                  <a:pt x="14982" y="8667"/>
                  <a:pt x="15001" y="8767"/>
                  <a:pt x="14957" y="8781"/>
                </a:cubicBezTo>
                <a:cubicBezTo>
                  <a:pt x="14897" y="8800"/>
                  <a:pt x="14851" y="8848"/>
                  <a:pt x="14784" y="8855"/>
                </a:cubicBezTo>
                <a:cubicBezTo>
                  <a:pt x="14734" y="8860"/>
                  <a:pt x="14699" y="8866"/>
                  <a:pt x="14684" y="8806"/>
                </a:cubicBezTo>
                <a:cubicBezTo>
                  <a:pt x="14665" y="8733"/>
                  <a:pt x="14660" y="8660"/>
                  <a:pt x="14660" y="8582"/>
                </a:cubicBezTo>
                <a:cubicBezTo>
                  <a:pt x="14660" y="8504"/>
                  <a:pt x="14657" y="8486"/>
                  <a:pt x="14709" y="8434"/>
                </a:cubicBezTo>
                <a:cubicBezTo>
                  <a:pt x="14750" y="8393"/>
                  <a:pt x="14826" y="8354"/>
                  <a:pt x="14858" y="8310"/>
                </a:cubicBezTo>
                <a:cubicBezTo>
                  <a:pt x="14889" y="8267"/>
                  <a:pt x="14908" y="8237"/>
                  <a:pt x="14908" y="8186"/>
                </a:cubicBezTo>
                <a:cubicBezTo>
                  <a:pt x="14908" y="8178"/>
                  <a:pt x="14908" y="8169"/>
                  <a:pt x="14908" y="8161"/>
                </a:cubicBezTo>
              </a:path>
              <a:path w="919" h="770">
                <a:moveTo>
                  <a:pt x="15230" y="8483"/>
                </a:moveTo>
                <a:cubicBezTo>
                  <a:pt x="15230" y="8491"/>
                  <a:pt x="15230" y="8500"/>
                  <a:pt x="15230" y="8508"/>
                </a:cubicBezTo>
                <a:cubicBezTo>
                  <a:pt x="15296" y="8508"/>
                  <a:pt x="15363" y="8508"/>
                  <a:pt x="15429" y="8508"/>
                </a:cubicBezTo>
              </a:path>
              <a:path w="919" h="770">
                <a:moveTo>
                  <a:pt x="15304" y="8706"/>
                </a:moveTo>
                <a:cubicBezTo>
                  <a:pt x="15370" y="8706"/>
                  <a:pt x="15437" y="8706"/>
                  <a:pt x="15503" y="870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786280" y="2874960"/>
            <a:ext cx="428760" cy="384120"/>
          </a:xfrm>
          <a:custGeom>
            <a:avLst/>
            <a:gdLst/>
            <a:ahLst/>
            <a:rect l="l" t="t" r="r" b="b"/>
            <a:pathLst>
              <a:path w="1192" h="1068">
                <a:moveTo>
                  <a:pt x="16073" y="8161"/>
                </a:moveTo>
                <a:cubicBezTo>
                  <a:pt x="16073" y="8442"/>
                  <a:pt x="16073" y="8723"/>
                  <a:pt x="16073" y="9004"/>
                </a:cubicBezTo>
              </a:path>
              <a:path w="1192" h="1068">
                <a:moveTo>
                  <a:pt x="16421" y="8285"/>
                </a:moveTo>
                <a:cubicBezTo>
                  <a:pt x="16449" y="8268"/>
                  <a:pt x="16471" y="8282"/>
                  <a:pt x="16495" y="8260"/>
                </a:cubicBezTo>
                <a:cubicBezTo>
                  <a:pt x="16512" y="8244"/>
                  <a:pt x="16556" y="8163"/>
                  <a:pt x="16570" y="8136"/>
                </a:cubicBezTo>
                <a:cubicBezTo>
                  <a:pt x="16603" y="8072"/>
                  <a:pt x="16613" y="8093"/>
                  <a:pt x="16644" y="8062"/>
                </a:cubicBezTo>
                <a:cubicBezTo>
                  <a:pt x="16672" y="8034"/>
                  <a:pt x="16680" y="7998"/>
                  <a:pt x="16718" y="7987"/>
                </a:cubicBezTo>
                <a:cubicBezTo>
                  <a:pt x="16781" y="7969"/>
                  <a:pt x="16920" y="7974"/>
                  <a:pt x="16966" y="8012"/>
                </a:cubicBezTo>
                <a:cubicBezTo>
                  <a:pt x="17013" y="8050"/>
                  <a:pt x="16991" y="8155"/>
                  <a:pt x="16991" y="8210"/>
                </a:cubicBezTo>
                <a:cubicBezTo>
                  <a:pt x="16991" y="8346"/>
                  <a:pt x="17009" y="8472"/>
                  <a:pt x="16942" y="8582"/>
                </a:cubicBezTo>
                <a:cubicBezTo>
                  <a:pt x="16907" y="8640"/>
                  <a:pt x="16866" y="8683"/>
                  <a:pt x="16818" y="8731"/>
                </a:cubicBezTo>
                <a:cubicBezTo>
                  <a:pt x="16804" y="8746"/>
                  <a:pt x="16719" y="8803"/>
                  <a:pt x="16718" y="8806"/>
                </a:cubicBezTo>
                <a:cubicBezTo>
                  <a:pt x="16692" y="8858"/>
                  <a:pt x="16689" y="8883"/>
                  <a:pt x="16669" y="8930"/>
                </a:cubicBezTo>
                <a:cubicBezTo>
                  <a:pt x="16666" y="8937"/>
                  <a:pt x="16630" y="8990"/>
                  <a:pt x="16619" y="9004"/>
                </a:cubicBezTo>
                <a:cubicBezTo>
                  <a:pt x="16612" y="9013"/>
                  <a:pt x="16568" y="9044"/>
                  <a:pt x="16545" y="9054"/>
                </a:cubicBezTo>
                <a:cubicBezTo>
                  <a:pt x="16537" y="9054"/>
                  <a:pt x="16528" y="9054"/>
                  <a:pt x="16520" y="9054"/>
                </a:cubicBezTo>
                <a:cubicBezTo>
                  <a:pt x="16550" y="9001"/>
                  <a:pt x="16564" y="8995"/>
                  <a:pt x="16619" y="8954"/>
                </a:cubicBezTo>
                <a:cubicBezTo>
                  <a:pt x="16643" y="8936"/>
                  <a:pt x="16672" y="8914"/>
                  <a:pt x="16718" y="8905"/>
                </a:cubicBezTo>
                <a:cubicBezTo>
                  <a:pt x="16884" y="8872"/>
                  <a:pt x="17094" y="8905"/>
                  <a:pt x="17264" y="890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303640" y="3938760"/>
            <a:ext cx="161640" cy="133200"/>
          </a:xfrm>
          <a:custGeom>
            <a:avLst/>
            <a:gdLst/>
            <a:ahLst/>
            <a:rect l="l" t="t" r="r" b="b"/>
            <a:pathLst>
              <a:path w="447" h="373">
                <a:moveTo>
                  <a:pt x="6548" y="10939"/>
                </a:moveTo>
                <a:cubicBezTo>
                  <a:pt x="6548" y="11063"/>
                  <a:pt x="6548" y="11187"/>
                  <a:pt x="6548" y="11311"/>
                </a:cubicBezTo>
              </a:path>
              <a:path w="447" h="373">
                <a:moveTo>
                  <a:pt x="6400" y="11112"/>
                </a:moveTo>
                <a:cubicBezTo>
                  <a:pt x="6491" y="11112"/>
                  <a:pt x="6569" y="11111"/>
                  <a:pt x="6648" y="11088"/>
                </a:cubicBezTo>
                <a:cubicBezTo>
                  <a:pt x="6703" y="11072"/>
                  <a:pt x="6788" y="11088"/>
                  <a:pt x="6846" y="1108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867120" y="4714920"/>
            <a:ext cx="339840" cy="312840"/>
          </a:xfrm>
          <a:custGeom>
            <a:avLst/>
            <a:gdLst/>
            <a:ahLst/>
            <a:rect l="l" t="t" r="r" b="b"/>
            <a:pathLst>
              <a:path w="944" h="869">
                <a:moveTo>
                  <a:pt x="10740" y="13097"/>
                </a:moveTo>
                <a:cubicBezTo>
                  <a:pt x="10785" y="13245"/>
                  <a:pt x="10765" y="13411"/>
                  <a:pt x="10765" y="13568"/>
                </a:cubicBezTo>
                <a:cubicBezTo>
                  <a:pt x="10765" y="13709"/>
                  <a:pt x="10765" y="14081"/>
                  <a:pt x="10765" y="13940"/>
                </a:cubicBezTo>
                <a:cubicBezTo>
                  <a:pt x="10765" y="13801"/>
                  <a:pt x="10730" y="13593"/>
                  <a:pt x="10790" y="13469"/>
                </a:cubicBezTo>
                <a:cubicBezTo>
                  <a:pt x="10812" y="13424"/>
                  <a:pt x="10902" y="13321"/>
                  <a:pt x="10939" y="13295"/>
                </a:cubicBezTo>
                <a:cubicBezTo>
                  <a:pt x="10961" y="13280"/>
                  <a:pt x="10974" y="13250"/>
                  <a:pt x="11013" y="13246"/>
                </a:cubicBezTo>
                <a:cubicBezTo>
                  <a:pt x="11043" y="13243"/>
                  <a:pt x="11125" y="13232"/>
                  <a:pt x="11137" y="13271"/>
                </a:cubicBezTo>
                <a:cubicBezTo>
                  <a:pt x="11160" y="13345"/>
                  <a:pt x="11186" y="13423"/>
                  <a:pt x="11212" y="13494"/>
                </a:cubicBezTo>
                <a:cubicBezTo>
                  <a:pt x="11232" y="13547"/>
                  <a:pt x="11237" y="13563"/>
                  <a:pt x="11237" y="13618"/>
                </a:cubicBezTo>
                <a:cubicBezTo>
                  <a:pt x="11237" y="13701"/>
                  <a:pt x="11237" y="13783"/>
                  <a:pt x="11237" y="13866"/>
                </a:cubicBezTo>
              </a:path>
              <a:path w="944" h="869">
                <a:moveTo>
                  <a:pt x="11584" y="13320"/>
                </a:moveTo>
                <a:cubicBezTo>
                  <a:pt x="11584" y="13444"/>
                  <a:pt x="11584" y="13568"/>
                  <a:pt x="11584" y="13692"/>
                </a:cubicBezTo>
              </a:path>
              <a:path w="944" h="869">
                <a:moveTo>
                  <a:pt x="11435" y="13568"/>
                </a:moveTo>
                <a:cubicBezTo>
                  <a:pt x="11443" y="13568"/>
                  <a:pt x="11452" y="13568"/>
                  <a:pt x="11460" y="13568"/>
                </a:cubicBezTo>
                <a:cubicBezTo>
                  <a:pt x="11473" y="13529"/>
                  <a:pt x="11472" y="13558"/>
                  <a:pt x="11485" y="13519"/>
                </a:cubicBezTo>
                <a:cubicBezTo>
                  <a:pt x="11526" y="13519"/>
                  <a:pt x="11568" y="13519"/>
                  <a:pt x="11609" y="13519"/>
                </a:cubicBezTo>
                <a:cubicBezTo>
                  <a:pt x="11621" y="13481"/>
                  <a:pt x="11638" y="13494"/>
                  <a:pt x="11683" y="1349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321080" y="4705200"/>
            <a:ext cx="1800" cy="295560"/>
          </a:xfrm>
          <a:custGeom>
            <a:avLst/>
            <a:gdLst/>
            <a:ahLst/>
            <a:rect l="l" t="t" r="r" b="b"/>
            <a:pathLst>
              <a:path w="1" h="820">
                <a:moveTo>
                  <a:pt x="12005" y="13072"/>
                </a:moveTo>
                <a:cubicBezTo>
                  <a:pt x="12005" y="13345"/>
                  <a:pt x="12005" y="13618"/>
                  <a:pt x="12005" y="1389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429080" y="4714920"/>
            <a:ext cx="196920" cy="233280"/>
          </a:xfrm>
          <a:custGeom>
            <a:avLst/>
            <a:gdLst/>
            <a:ahLst/>
            <a:rect l="l" t="t" r="r" b="b"/>
            <a:pathLst>
              <a:path w="547" h="646">
                <a:moveTo>
                  <a:pt x="12303" y="13146"/>
                </a:moveTo>
                <a:cubicBezTo>
                  <a:pt x="12341" y="13134"/>
                  <a:pt x="12341" y="13112"/>
                  <a:pt x="12402" y="13097"/>
                </a:cubicBezTo>
                <a:cubicBezTo>
                  <a:pt x="12445" y="13086"/>
                  <a:pt x="12507" y="13097"/>
                  <a:pt x="12551" y="13097"/>
                </a:cubicBezTo>
                <a:cubicBezTo>
                  <a:pt x="12551" y="13242"/>
                  <a:pt x="12559" y="13349"/>
                  <a:pt x="12502" y="13469"/>
                </a:cubicBezTo>
                <a:cubicBezTo>
                  <a:pt x="12466" y="13545"/>
                  <a:pt x="12406" y="13617"/>
                  <a:pt x="12378" y="13692"/>
                </a:cubicBezTo>
                <a:cubicBezTo>
                  <a:pt x="12363" y="13730"/>
                  <a:pt x="12366" y="13703"/>
                  <a:pt x="12353" y="13742"/>
                </a:cubicBezTo>
                <a:cubicBezTo>
                  <a:pt x="12458" y="13724"/>
                  <a:pt x="12568" y="13702"/>
                  <a:pt x="12675" y="13692"/>
                </a:cubicBezTo>
                <a:cubicBezTo>
                  <a:pt x="12731" y="13687"/>
                  <a:pt x="12793" y="13692"/>
                  <a:pt x="12849" y="1369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59200" y="4724280"/>
            <a:ext cx="465120" cy="258840"/>
          </a:xfrm>
          <a:custGeom>
            <a:avLst/>
            <a:gdLst/>
            <a:ahLst/>
            <a:rect l="l" t="t" r="r" b="b"/>
            <a:pathLst>
              <a:path w="1291" h="720">
                <a:moveTo>
                  <a:pt x="13221" y="13370"/>
                </a:moveTo>
                <a:cubicBezTo>
                  <a:pt x="13221" y="13362"/>
                  <a:pt x="13221" y="13353"/>
                  <a:pt x="13221" y="13345"/>
                </a:cubicBezTo>
                <a:cubicBezTo>
                  <a:pt x="13260" y="13335"/>
                  <a:pt x="13276" y="13320"/>
                  <a:pt x="13320" y="13320"/>
                </a:cubicBezTo>
                <a:cubicBezTo>
                  <a:pt x="13353" y="13320"/>
                  <a:pt x="13386" y="13320"/>
                  <a:pt x="13419" y="13320"/>
                </a:cubicBezTo>
              </a:path>
              <a:path w="1291" h="720">
                <a:moveTo>
                  <a:pt x="13246" y="13618"/>
                </a:moveTo>
                <a:cubicBezTo>
                  <a:pt x="13271" y="13618"/>
                  <a:pt x="13279" y="13618"/>
                  <a:pt x="13295" y="13618"/>
                </a:cubicBezTo>
              </a:path>
              <a:path w="1291" h="720">
                <a:moveTo>
                  <a:pt x="13320" y="13618"/>
                </a:moveTo>
                <a:cubicBezTo>
                  <a:pt x="13386" y="13618"/>
                  <a:pt x="13453" y="13618"/>
                  <a:pt x="13519" y="13618"/>
                </a:cubicBezTo>
              </a:path>
              <a:path w="1291" h="720">
                <a:moveTo>
                  <a:pt x="13742" y="13295"/>
                </a:moveTo>
                <a:cubicBezTo>
                  <a:pt x="13761" y="13221"/>
                  <a:pt x="13813" y="13225"/>
                  <a:pt x="13866" y="13196"/>
                </a:cubicBezTo>
                <a:cubicBezTo>
                  <a:pt x="13912" y="13171"/>
                  <a:pt x="13930" y="13171"/>
                  <a:pt x="13990" y="13171"/>
                </a:cubicBezTo>
                <a:cubicBezTo>
                  <a:pt x="13990" y="13283"/>
                  <a:pt x="14019" y="13450"/>
                  <a:pt x="13965" y="13543"/>
                </a:cubicBezTo>
                <a:cubicBezTo>
                  <a:pt x="13942" y="13582"/>
                  <a:pt x="13907" y="13634"/>
                  <a:pt x="13866" y="13643"/>
                </a:cubicBezTo>
                <a:cubicBezTo>
                  <a:pt x="13841" y="13643"/>
                  <a:pt x="13833" y="13643"/>
                  <a:pt x="13816" y="13643"/>
                </a:cubicBezTo>
                <a:cubicBezTo>
                  <a:pt x="13816" y="13697"/>
                  <a:pt x="13808" y="13693"/>
                  <a:pt x="13791" y="13717"/>
                </a:cubicBezTo>
                <a:cubicBezTo>
                  <a:pt x="13771" y="13745"/>
                  <a:pt x="13728" y="13800"/>
                  <a:pt x="13717" y="13816"/>
                </a:cubicBezTo>
                <a:cubicBezTo>
                  <a:pt x="13717" y="13824"/>
                  <a:pt x="13717" y="13833"/>
                  <a:pt x="13717" y="13841"/>
                </a:cubicBezTo>
                <a:cubicBezTo>
                  <a:pt x="13787" y="13824"/>
                  <a:pt x="13777" y="13796"/>
                  <a:pt x="13866" y="13791"/>
                </a:cubicBezTo>
                <a:cubicBezTo>
                  <a:pt x="13915" y="13789"/>
                  <a:pt x="13966" y="13791"/>
                  <a:pt x="14015" y="13791"/>
                </a:cubicBezTo>
              </a:path>
              <a:path w="1291" h="720">
                <a:moveTo>
                  <a:pt x="14436" y="13146"/>
                </a:moveTo>
                <a:cubicBezTo>
                  <a:pt x="14370" y="13222"/>
                  <a:pt x="14316" y="13296"/>
                  <a:pt x="14288" y="13395"/>
                </a:cubicBezTo>
                <a:cubicBezTo>
                  <a:pt x="14277" y="13433"/>
                  <a:pt x="14263" y="13450"/>
                  <a:pt x="14263" y="13494"/>
                </a:cubicBezTo>
                <a:cubicBezTo>
                  <a:pt x="14263" y="13527"/>
                  <a:pt x="14263" y="13560"/>
                  <a:pt x="14263" y="13593"/>
                </a:cubicBezTo>
                <a:cubicBezTo>
                  <a:pt x="14328" y="13593"/>
                  <a:pt x="14407" y="13607"/>
                  <a:pt x="14436" y="13568"/>
                </a:cubicBezTo>
                <a:cubicBezTo>
                  <a:pt x="14461" y="13535"/>
                  <a:pt x="14482" y="13524"/>
                  <a:pt x="14486" y="13494"/>
                </a:cubicBezTo>
                <a:cubicBezTo>
                  <a:pt x="14493" y="13439"/>
                  <a:pt x="14502" y="13368"/>
                  <a:pt x="14511" y="13345"/>
                </a:cubicBezTo>
                <a:cubicBezTo>
                  <a:pt x="14528" y="13299"/>
                  <a:pt x="14514" y="13203"/>
                  <a:pt x="14486" y="13171"/>
                </a:cubicBezTo>
                <a:cubicBezTo>
                  <a:pt x="14464" y="13146"/>
                  <a:pt x="14434" y="13125"/>
                  <a:pt x="14412" y="13122"/>
                </a:cubicBezTo>
                <a:cubicBezTo>
                  <a:pt x="14404" y="13122"/>
                  <a:pt x="14395" y="13122"/>
                  <a:pt x="14387" y="1312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3929040" y="3956040"/>
            <a:ext cx="169920" cy="179280"/>
          </a:xfrm>
          <a:custGeom>
            <a:avLst/>
            <a:gdLst/>
            <a:ahLst/>
            <a:rect l="l" t="t" r="r" b="b"/>
            <a:pathLst>
              <a:path w="472" h="498">
                <a:moveTo>
                  <a:pt x="10939" y="10988"/>
                </a:moveTo>
                <a:cubicBezTo>
                  <a:pt x="10901" y="11001"/>
                  <a:pt x="10914" y="11018"/>
                  <a:pt x="10914" y="11063"/>
                </a:cubicBezTo>
                <a:cubicBezTo>
                  <a:pt x="10914" y="11187"/>
                  <a:pt x="10914" y="11311"/>
                  <a:pt x="10914" y="11435"/>
                </a:cubicBezTo>
                <a:cubicBezTo>
                  <a:pt x="10914" y="11511"/>
                  <a:pt x="10914" y="11375"/>
                  <a:pt x="10914" y="11361"/>
                </a:cubicBezTo>
                <a:cubicBezTo>
                  <a:pt x="10914" y="11333"/>
                  <a:pt x="10921" y="11276"/>
                  <a:pt x="10939" y="11261"/>
                </a:cubicBezTo>
                <a:cubicBezTo>
                  <a:pt x="10978" y="11229"/>
                  <a:pt x="11008" y="11228"/>
                  <a:pt x="11013" y="11187"/>
                </a:cubicBezTo>
                <a:cubicBezTo>
                  <a:pt x="11018" y="11147"/>
                  <a:pt x="11052" y="11160"/>
                  <a:pt x="11063" y="11137"/>
                </a:cubicBezTo>
                <a:cubicBezTo>
                  <a:pt x="11071" y="11121"/>
                  <a:pt x="11084" y="11077"/>
                  <a:pt x="11112" y="11063"/>
                </a:cubicBezTo>
                <a:cubicBezTo>
                  <a:pt x="11155" y="11041"/>
                  <a:pt x="11183" y="11013"/>
                  <a:pt x="11237" y="11013"/>
                </a:cubicBezTo>
                <a:cubicBezTo>
                  <a:pt x="11299" y="11013"/>
                  <a:pt x="11331" y="11023"/>
                  <a:pt x="11361" y="11038"/>
                </a:cubicBezTo>
                <a:cubicBezTo>
                  <a:pt x="11394" y="11055"/>
                  <a:pt x="11385" y="11065"/>
                  <a:pt x="11385" y="11112"/>
                </a:cubicBezTo>
                <a:cubicBezTo>
                  <a:pt x="11385" y="11236"/>
                  <a:pt x="11385" y="11361"/>
                  <a:pt x="11385" y="1148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93">
                                            <p:txEl>
                                              <p:pRg st="2" end="2"/>
                                            </p:txEl>
                                          </p:spTgt>
                                        </p:tgtEl>
                                        <p:attrNameLst>
                                          <p:attrName>style.visibility</p:attrName>
                                        </p:attrNameLst>
                                      </p:cBhvr>
                                      <p:to>
                                        <p:strVal val="visible"/>
                                      </p:to>
                                    </p:set>
                                    <p:anim calcmode="lin" valueType="num">
                                      <p:cBhvr additive="base">
                                        <p:cTn id="69" dur="500" fill="hold"/>
                                        <p:tgtEl>
                                          <p:spTgt spid="193">
                                            <p:txEl>
                                              <p:pRg st="2" end="2"/>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93">
                                            <p:txEl>
                                              <p:pRg st="3" end="3"/>
                                            </p:txEl>
                                          </p:spTgt>
                                        </p:tgtEl>
                                        <p:attrNameLst>
                                          <p:attrName>style.visibility</p:attrName>
                                        </p:attrNameLst>
                                      </p:cBhvr>
                                      <p:to>
                                        <p:strVal val="visible"/>
                                      </p:to>
                                    </p:set>
                                    <p:anim calcmode="lin" valueType="num">
                                      <p:cBhvr additive="base">
                                        <p:cTn id="75" dur="500" fill="hold"/>
                                        <p:tgtEl>
                                          <p:spTgt spid="193">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93">
                                            <p:txEl>
                                              <p:pRg st="5" end="5"/>
                                            </p:txEl>
                                          </p:spTgt>
                                        </p:tgtEl>
                                        <p:attrNameLst>
                                          <p:attrName>style.visibility</p:attrName>
                                        </p:attrNameLst>
                                      </p:cBhvr>
                                      <p:to>
                                        <p:strVal val="visible"/>
                                      </p:to>
                                    </p:set>
                                    <p:anim calcmode="lin" valueType="num">
                                      <p:cBhvr additive="base">
                                        <p:cTn id="81" dur="500" fill="hold"/>
                                        <p:tgtEl>
                                          <p:spTgt spid="193">
                                            <p:txEl>
                                              <p:pRg st="5" end="5"/>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9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380880" y="152280"/>
            <a:ext cx="7925040" cy="6400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Objective: </a:t>
            </a:r>
            <a:r>
              <a:rPr b="0" lang="en-US" sz="1400" spc="-1" strike="noStrike">
                <a:solidFill>
                  <a:srgbClr val="000000"/>
                </a:solidFill>
                <a:latin typeface="Comic Sans MS"/>
              </a:rPr>
              <a:t>Students will identify and write equations and inequalities to represent relationships.</a:t>
            </a:r>
            <a:endParaRPr b="0" lang="en-US" sz="14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Examples: Write an equation for each sentenc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 x divided by 6 is 4</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 18 minus a number is 11</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6.) The quotient of 24 and a number is 6</a:t>
            </a:r>
            <a:endParaRPr b="0" lang="en-US" sz="3200" spc="-1" strike="noStrike">
              <a:solidFill>
                <a:srgbClr val="000000"/>
              </a:solidFill>
              <a:latin typeface="Comic Sans MS"/>
            </a:endParaRPr>
          </a:p>
        </p:txBody>
      </p:sp>
      <p:sp>
        <p:nvSpPr>
          <p:cNvPr id="2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9" name=""/>
          <p:cNvSpPr/>
          <p:nvPr/>
        </p:nvSpPr>
        <p:spPr>
          <a:xfrm>
            <a:off x="2125800" y="1660680"/>
            <a:ext cx="179280" cy="214200"/>
          </a:xfrm>
          <a:custGeom>
            <a:avLst/>
            <a:gdLst/>
            <a:ahLst/>
            <a:rect l="l" t="t" r="r" b="b"/>
            <a:pathLst>
              <a:path w="497" h="596">
                <a:moveTo>
                  <a:pt x="5904" y="4961"/>
                </a:moveTo>
                <a:cubicBezTo>
                  <a:pt x="5904" y="4936"/>
                  <a:pt x="5904" y="4928"/>
                  <a:pt x="5904" y="4911"/>
                </a:cubicBezTo>
                <a:cubicBezTo>
                  <a:pt x="6069" y="4911"/>
                  <a:pt x="6235" y="4911"/>
                  <a:pt x="6400" y="4911"/>
                </a:cubicBezTo>
              </a:path>
              <a:path w="497" h="596">
                <a:moveTo>
                  <a:pt x="6251" y="4614"/>
                </a:moveTo>
                <a:lnTo>
                  <a:pt x="6251" y="4614"/>
                </a:lnTo>
              </a:path>
              <a:path w="497" h="596">
                <a:moveTo>
                  <a:pt x="6251" y="5209"/>
                </a:moveTo>
                <a:lnTo>
                  <a:pt x="6251" y="5209"/>
                </a:ln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97320" y="1919160"/>
            <a:ext cx="473400" cy="376200"/>
          </a:xfrm>
          <a:custGeom>
            <a:avLst/>
            <a:gdLst/>
            <a:ahLst/>
            <a:rect l="l" t="t" r="r" b="b"/>
            <a:pathLst>
              <a:path w="1316" h="1043">
                <a:moveTo>
                  <a:pt x="14436" y="5407"/>
                </a:moveTo>
                <a:cubicBezTo>
                  <a:pt x="14533" y="5407"/>
                  <a:pt x="14629" y="5381"/>
                  <a:pt x="14684" y="5457"/>
                </a:cubicBezTo>
                <a:cubicBezTo>
                  <a:pt x="14745" y="5543"/>
                  <a:pt x="14826" y="5656"/>
                  <a:pt x="14858" y="5755"/>
                </a:cubicBezTo>
                <a:cubicBezTo>
                  <a:pt x="14877" y="5813"/>
                  <a:pt x="14908" y="5851"/>
                  <a:pt x="14957" y="5904"/>
                </a:cubicBezTo>
                <a:cubicBezTo>
                  <a:pt x="14989" y="5939"/>
                  <a:pt x="14982" y="5957"/>
                  <a:pt x="14982" y="6003"/>
                </a:cubicBezTo>
              </a:path>
              <a:path w="1316" h="1043">
                <a:moveTo>
                  <a:pt x="14957" y="5358"/>
                </a:moveTo>
                <a:cubicBezTo>
                  <a:pt x="14894" y="5389"/>
                  <a:pt x="14887" y="5433"/>
                  <a:pt x="14883" y="5507"/>
                </a:cubicBezTo>
                <a:cubicBezTo>
                  <a:pt x="14874" y="5679"/>
                  <a:pt x="14831" y="5857"/>
                  <a:pt x="14808" y="6028"/>
                </a:cubicBezTo>
                <a:cubicBezTo>
                  <a:pt x="14806" y="6042"/>
                  <a:pt x="14785" y="6349"/>
                  <a:pt x="14759" y="6375"/>
                </a:cubicBezTo>
                <a:cubicBezTo>
                  <a:pt x="14751" y="6375"/>
                  <a:pt x="14742" y="6375"/>
                  <a:pt x="14734" y="6375"/>
                </a:cubicBezTo>
              </a:path>
              <a:path w="1316" h="1043">
                <a:moveTo>
                  <a:pt x="15404" y="5606"/>
                </a:moveTo>
                <a:cubicBezTo>
                  <a:pt x="15420" y="5655"/>
                  <a:pt x="15496" y="5631"/>
                  <a:pt x="15553" y="5631"/>
                </a:cubicBezTo>
                <a:cubicBezTo>
                  <a:pt x="15619" y="5631"/>
                  <a:pt x="15685" y="5631"/>
                  <a:pt x="15751" y="5631"/>
                </a:cubicBezTo>
              </a:path>
              <a:path w="1316" h="1043">
                <a:moveTo>
                  <a:pt x="15627" y="5333"/>
                </a:moveTo>
                <a:lnTo>
                  <a:pt x="15627" y="5333"/>
                </a:lnTo>
              </a:path>
              <a:path w="1316" h="1043">
                <a:moveTo>
                  <a:pt x="15627" y="5804"/>
                </a:moveTo>
                <a:cubicBezTo>
                  <a:pt x="15627" y="5812"/>
                  <a:pt x="15627" y="5821"/>
                  <a:pt x="15627" y="582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830920" y="1847880"/>
            <a:ext cx="615960" cy="366840"/>
          </a:xfrm>
          <a:custGeom>
            <a:avLst/>
            <a:gdLst/>
            <a:ahLst/>
            <a:rect l="l" t="t" r="r" b="b"/>
            <a:pathLst>
              <a:path w="1713" h="1018">
                <a:moveTo>
                  <a:pt x="16197" y="5259"/>
                </a:moveTo>
                <a:cubicBezTo>
                  <a:pt x="16197" y="5427"/>
                  <a:pt x="16172" y="5630"/>
                  <a:pt x="16222" y="5779"/>
                </a:cubicBezTo>
                <a:cubicBezTo>
                  <a:pt x="16236" y="5820"/>
                  <a:pt x="16302" y="5887"/>
                  <a:pt x="16346" y="5904"/>
                </a:cubicBezTo>
                <a:cubicBezTo>
                  <a:pt x="16414" y="5931"/>
                  <a:pt x="16520" y="5950"/>
                  <a:pt x="16594" y="5953"/>
                </a:cubicBezTo>
                <a:cubicBezTo>
                  <a:pt x="16660" y="5956"/>
                  <a:pt x="16727" y="5953"/>
                  <a:pt x="16793" y="5953"/>
                </a:cubicBezTo>
                <a:cubicBezTo>
                  <a:pt x="16793" y="5894"/>
                  <a:pt x="16802" y="5855"/>
                  <a:pt x="16768" y="5829"/>
                </a:cubicBezTo>
                <a:cubicBezTo>
                  <a:pt x="16711" y="5786"/>
                  <a:pt x="16721" y="5779"/>
                  <a:pt x="16644" y="5779"/>
                </a:cubicBezTo>
                <a:cubicBezTo>
                  <a:pt x="16610" y="5779"/>
                  <a:pt x="16564" y="5766"/>
                  <a:pt x="16545" y="5804"/>
                </a:cubicBezTo>
                <a:cubicBezTo>
                  <a:pt x="16538" y="5819"/>
                  <a:pt x="16545" y="5862"/>
                  <a:pt x="16545" y="5879"/>
                </a:cubicBezTo>
              </a:path>
              <a:path w="1713" h="1018">
                <a:moveTo>
                  <a:pt x="16966" y="5655"/>
                </a:moveTo>
                <a:cubicBezTo>
                  <a:pt x="17008" y="5647"/>
                  <a:pt x="17080" y="5627"/>
                  <a:pt x="17115" y="5606"/>
                </a:cubicBezTo>
                <a:cubicBezTo>
                  <a:pt x="17151" y="5584"/>
                  <a:pt x="17200" y="5569"/>
                  <a:pt x="17239" y="5556"/>
                </a:cubicBezTo>
                <a:cubicBezTo>
                  <a:pt x="17247" y="5556"/>
                  <a:pt x="17256" y="5556"/>
                  <a:pt x="17264" y="5556"/>
                </a:cubicBezTo>
              </a:path>
              <a:path w="1713" h="1018">
                <a:moveTo>
                  <a:pt x="17016" y="5804"/>
                </a:moveTo>
                <a:cubicBezTo>
                  <a:pt x="17099" y="5804"/>
                  <a:pt x="17181" y="5804"/>
                  <a:pt x="17264" y="5804"/>
                </a:cubicBezTo>
              </a:path>
              <a:path w="1713" h="1018">
                <a:moveTo>
                  <a:pt x="17462" y="5407"/>
                </a:moveTo>
                <a:cubicBezTo>
                  <a:pt x="17462" y="5506"/>
                  <a:pt x="17462" y="5606"/>
                  <a:pt x="17462" y="5705"/>
                </a:cubicBezTo>
                <a:cubicBezTo>
                  <a:pt x="17555" y="5705"/>
                  <a:pt x="17550" y="5702"/>
                  <a:pt x="17611" y="5655"/>
                </a:cubicBezTo>
                <a:cubicBezTo>
                  <a:pt x="17661" y="5616"/>
                  <a:pt x="17773" y="5620"/>
                  <a:pt x="17835" y="5606"/>
                </a:cubicBezTo>
                <a:cubicBezTo>
                  <a:pt x="17856" y="5601"/>
                  <a:pt x="17887" y="5606"/>
                  <a:pt x="17909" y="5606"/>
                </a:cubicBezTo>
              </a:path>
              <a:path w="1713" h="1018">
                <a:moveTo>
                  <a:pt x="17661" y="5135"/>
                </a:moveTo>
                <a:cubicBezTo>
                  <a:pt x="17661" y="5385"/>
                  <a:pt x="17612" y="5688"/>
                  <a:pt x="17686" y="5928"/>
                </a:cubicBezTo>
                <a:cubicBezTo>
                  <a:pt x="17710" y="6007"/>
                  <a:pt x="17735" y="6069"/>
                  <a:pt x="17735" y="615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2071800" y="2919240"/>
            <a:ext cx="160200" cy="90720"/>
          </a:xfrm>
          <a:custGeom>
            <a:avLst/>
            <a:gdLst/>
            <a:ahLst/>
            <a:rect l="l" t="t" r="r" b="b"/>
            <a:pathLst>
              <a:path w="447" h="249">
                <a:moveTo>
                  <a:pt x="5755" y="8111"/>
                </a:moveTo>
                <a:cubicBezTo>
                  <a:pt x="5769" y="8169"/>
                  <a:pt x="5800" y="8203"/>
                  <a:pt x="5854" y="8235"/>
                </a:cubicBezTo>
                <a:cubicBezTo>
                  <a:pt x="5925" y="8276"/>
                  <a:pt x="5995" y="8343"/>
                  <a:pt x="6077" y="8359"/>
                </a:cubicBezTo>
                <a:cubicBezTo>
                  <a:pt x="6113" y="8366"/>
                  <a:pt x="6163" y="8359"/>
                  <a:pt x="6201" y="8359"/>
                </a:cubicBezTo>
              </a:path>
            </a:pathLst>
          </a:custGeom>
          <a:noFill/>
          <a:ln cap="rnd" w="34920">
            <a:solidFill>
              <a:srgbClr val="ff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23" name=""/>
          <p:cNvSpPr/>
          <p:nvPr/>
        </p:nvSpPr>
        <p:spPr>
          <a:xfrm>
            <a:off x="3394080" y="2795760"/>
            <a:ext cx="214200" cy="187200"/>
          </a:xfrm>
          <a:custGeom>
            <a:avLst/>
            <a:gdLst/>
            <a:ahLst/>
            <a:rect l="l" t="t" r="r" b="b"/>
            <a:pathLst>
              <a:path w="596" h="522">
                <a:moveTo>
                  <a:pt x="9426" y="7813"/>
                </a:moveTo>
                <a:cubicBezTo>
                  <a:pt x="9515" y="7831"/>
                  <a:pt x="9607" y="7871"/>
                  <a:pt x="9674" y="7938"/>
                </a:cubicBezTo>
                <a:cubicBezTo>
                  <a:pt x="9750" y="8014"/>
                  <a:pt x="9815" y="8145"/>
                  <a:pt x="9897" y="8210"/>
                </a:cubicBezTo>
                <a:cubicBezTo>
                  <a:pt x="9930" y="8210"/>
                  <a:pt x="9939" y="8218"/>
                  <a:pt x="9922" y="8260"/>
                </a:cubicBezTo>
                <a:cubicBezTo>
                  <a:pt x="9955" y="8260"/>
                  <a:pt x="9988" y="8260"/>
                  <a:pt x="10021" y="8260"/>
                </a:cubicBezTo>
              </a:path>
              <a:path w="596" h="522">
                <a:moveTo>
                  <a:pt x="9847" y="7764"/>
                </a:moveTo>
                <a:cubicBezTo>
                  <a:pt x="9799" y="7830"/>
                  <a:pt x="9785" y="7912"/>
                  <a:pt x="9748" y="7987"/>
                </a:cubicBezTo>
                <a:cubicBezTo>
                  <a:pt x="9720" y="8044"/>
                  <a:pt x="9637" y="8214"/>
                  <a:pt x="9599" y="8260"/>
                </a:cubicBezTo>
                <a:cubicBezTo>
                  <a:pt x="9575" y="8260"/>
                  <a:pt x="9567" y="8260"/>
                  <a:pt x="9575" y="828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938920" y="2894040"/>
            <a:ext cx="1517400" cy="320760"/>
          </a:xfrm>
          <a:custGeom>
            <a:avLst/>
            <a:gdLst/>
            <a:ahLst/>
            <a:rect l="l" t="t" r="r" b="b"/>
            <a:pathLst>
              <a:path w="4218" h="894">
                <a:moveTo>
                  <a:pt x="16495" y="8111"/>
                </a:moveTo>
                <a:cubicBezTo>
                  <a:pt x="16495" y="8220"/>
                  <a:pt x="16528" y="8288"/>
                  <a:pt x="16545" y="8359"/>
                </a:cubicBezTo>
                <a:cubicBezTo>
                  <a:pt x="16575" y="8484"/>
                  <a:pt x="16638" y="8606"/>
                  <a:pt x="16669" y="8731"/>
                </a:cubicBezTo>
                <a:cubicBezTo>
                  <a:pt x="16669" y="8748"/>
                  <a:pt x="16669" y="8764"/>
                  <a:pt x="16669" y="8781"/>
                </a:cubicBezTo>
              </a:path>
              <a:path w="4218" h="894">
                <a:moveTo>
                  <a:pt x="17090" y="8111"/>
                </a:moveTo>
                <a:cubicBezTo>
                  <a:pt x="17003" y="8111"/>
                  <a:pt x="16961" y="8101"/>
                  <a:pt x="16892" y="8161"/>
                </a:cubicBezTo>
                <a:cubicBezTo>
                  <a:pt x="16824" y="8221"/>
                  <a:pt x="16793" y="8220"/>
                  <a:pt x="16793" y="8310"/>
                </a:cubicBezTo>
                <a:cubicBezTo>
                  <a:pt x="16793" y="8368"/>
                  <a:pt x="16779" y="8382"/>
                  <a:pt x="16842" y="8409"/>
                </a:cubicBezTo>
                <a:cubicBezTo>
                  <a:pt x="16946" y="8454"/>
                  <a:pt x="17071" y="8429"/>
                  <a:pt x="17165" y="8483"/>
                </a:cubicBezTo>
                <a:cubicBezTo>
                  <a:pt x="17219" y="8514"/>
                  <a:pt x="17232" y="8511"/>
                  <a:pt x="17264" y="8558"/>
                </a:cubicBezTo>
                <a:cubicBezTo>
                  <a:pt x="17296" y="8606"/>
                  <a:pt x="17289" y="8646"/>
                  <a:pt x="17289" y="8706"/>
                </a:cubicBezTo>
                <a:cubicBezTo>
                  <a:pt x="17289" y="8731"/>
                  <a:pt x="17289" y="8739"/>
                  <a:pt x="17289" y="8756"/>
                </a:cubicBezTo>
                <a:cubicBezTo>
                  <a:pt x="17251" y="8756"/>
                  <a:pt x="17052" y="8779"/>
                  <a:pt x="17041" y="8731"/>
                </a:cubicBezTo>
                <a:cubicBezTo>
                  <a:pt x="17024" y="8652"/>
                  <a:pt x="17016" y="8565"/>
                  <a:pt x="17016" y="8483"/>
                </a:cubicBezTo>
                <a:cubicBezTo>
                  <a:pt x="17016" y="8390"/>
                  <a:pt x="17026" y="8376"/>
                  <a:pt x="17066" y="8310"/>
                </a:cubicBezTo>
                <a:cubicBezTo>
                  <a:pt x="17083" y="8283"/>
                  <a:pt x="17072" y="8268"/>
                  <a:pt x="17090" y="8235"/>
                </a:cubicBezTo>
                <a:cubicBezTo>
                  <a:pt x="17113" y="8193"/>
                  <a:pt x="17115" y="8187"/>
                  <a:pt x="17115" y="8136"/>
                </a:cubicBezTo>
                <a:cubicBezTo>
                  <a:pt x="17115" y="8110"/>
                  <a:pt x="17108" y="8049"/>
                  <a:pt x="17090" y="8037"/>
                </a:cubicBezTo>
                <a:cubicBezTo>
                  <a:pt x="17082" y="8037"/>
                  <a:pt x="17074" y="8037"/>
                  <a:pt x="17066" y="8037"/>
                </a:cubicBezTo>
              </a:path>
              <a:path w="4218" h="894">
                <a:moveTo>
                  <a:pt x="17686" y="8508"/>
                </a:moveTo>
                <a:cubicBezTo>
                  <a:pt x="17686" y="8483"/>
                  <a:pt x="17686" y="8475"/>
                  <a:pt x="17686" y="8458"/>
                </a:cubicBezTo>
              </a:path>
              <a:path w="4218" h="894">
                <a:moveTo>
                  <a:pt x="17686" y="8483"/>
                </a:moveTo>
                <a:cubicBezTo>
                  <a:pt x="17752" y="8483"/>
                  <a:pt x="17818" y="8483"/>
                  <a:pt x="17884" y="8483"/>
                </a:cubicBezTo>
              </a:path>
              <a:path w="4218" h="894">
                <a:moveTo>
                  <a:pt x="18380" y="8359"/>
                </a:moveTo>
                <a:cubicBezTo>
                  <a:pt x="18355" y="8359"/>
                  <a:pt x="18347" y="8359"/>
                  <a:pt x="18355" y="8334"/>
                </a:cubicBezTo>
                <a:cubicBezTo>
                  <a:pt x="18469" y="8367"/>
                  <a:pt x="18599" y="8449"/>
                  <a:pt x="18703" y="8508"/>
                </a:cubicBezTo>
                <a:cubicBezTo>
                  <a:pt x="18782" y="8553"/>
                  <a:pt x="18974" y="8622"/>
                  <a:pt x="19025" y="8706"/>
                </a:cubicBezTo>
                <a:cubicBezTo>
                  <a:pt x="19025" y="8714"/>
                  <a:pt x="19025" y="8723"/>
                  <a:pt x="19025" y="8731"/>
                </a:cubicBezTo>
              </a:path>
              <a:path w="4218" h="894">
                <a:moveTo>
                  <a:pt x="18976" y="8285"/>
                </a:moveTo>
                <a:cubicBezTo>
                  <a:pt x="18874" y="8285"/>
                  <a:pt x="18904" y="8336"/>
                  <a:pt x="18876" y="8409"/>
                </a:cubicBezTo>
                <a:cubicBezTo>
                  <a:pt x="18844" y="8493"/>
                  <a:pt x="18807" y="8574"/>
                  <a:pt x="18777" y="8657"/>
                </a:cubicBezTo>
                <a:cubicBezTo>
                  <a:pt x="18743" y="8749"/>
                  <a:pt x="18705" y="8778"/>
                  <a:pt x="18653" y="8855"/>
                </a:cubicBezTo>
                <a:cubicBezTo>
                  <a:pt x="18633" y="8896"/>
                  <a:pt x="18624" y="8902"/>
                  <a:pt x="18628" y="8930"/>
                </a:cubicBezTo>
              </a:path>
              <a:path w="4218" h="894">
                <a:moveTo>
                  <a:pt x="19472" y="8384"/>
                </a:moveTo>
                <a:cubicBezTo>
                  <a:pt x="19502" y="8361"/>
                  <a:pt x="19558" y="8337"/>
                  <a:pt x="19596" y="8334"/>
                </a:cubicBezTo>
                <a:cubicBezTo>
                  <a:pt x="19743" y="8323"/>
                  <a:pt x="19894" y="8334"/>
                  <a:pt x="20042" y="8334"/>
                </a:cubicBezTo>
              </a:path>
              <a:path w="4218" h="894">
                <a:moveTo>
                  <a:pt x="19621" y="8582"/>
                </a:moveTo>
                <a:cubicBezTo>
                  <a:pt x="19748" y="8582"/>
                  <a:pt x="19881" y="8594"/>
                  <a:pt x="19993" y="8558"/>
                </a:cubicBezTo>
                <a:cubicBezTo>
                  <a:pt x="20033" y="8545"/>
                  <a:pt x="20056" y="8541"/>
                  <a:pt x="20067" y="8508"/>
                </a:cubicBezTo>
              </a:path>
              <a:path w="4218" h="894">
                <a:moveTo>
                  <a:pt x="20439" y="8086"/>
                </a:moveTo>
                <a:cubicBezTo>
                  <a:pt x="20439" y="8285"/>
                  <a:pt x="20439" y="8483"/>
                  <a:pt x="20439" y="8682"/>
                </a:cubicBezTo>
              </a:path>
              <a:path w="4218" h="894">
                <a:moveTo>
                  <a:pt x="20687" y="8037"/>
                </a:moveTo>
                <a:cubicBezTo>
                  <a:pt x="20695" y="8037"/>
                  <a:pt x="20704" y="8037"/>
                  <a:pt x="20712" y="8037"/>
                </a:cubicBezTo>
                <a:cubicBezTo>
                  <a:pt x="20712" y="8260"/>
                  <a:pt x="20712" y="8483"/>
                  <a:pt x="20712" y="870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2633760" y="3857760"/>
            <a:ext cx="3475080" cy="393480"/>
          </a:xfrm>
          <a:custGeom>
            <a:avLst/>
            <a:gdLst/>
            <a:ahLst/>
            <a:rect l="l" t="t" r="r" b="b"/>
            <a:pathLst>
              <a:path w="9650" h="1092">
                <a:moveTo>
                  <a:pt x="7317" y="11485"/>
                </a:moveTo>
                <a:cubicBezTo>
                  <a:pt x="7317" y="11477"/>
                  <a:pt x="7317" y="11468"/>
                  <a:pt x="7317" y="11460"/>
                </a:cubicBezTo>
                <a:cubicBezTo>
                  <a:pt x="7416" y="11460"/>
                  <a:pt x="7516" y="11460"/>
                  <a:pt x="7615" y="11460"/>
                </a:cubicBezTo>
              </a:path>
              <a:path w="9650" h="1092">
                <a:moveTo>
                  <a:pt x="7516" y="11311"/>
                </a:moveTo>
                <a:lnTo>
                  <a:pt x="7516" y="11311"/>
                </a:lnTo>
              </a:path>
              <a:path w="9650" h="1092">
                <a:moveTo>
                  <a:pt x="7516" y="11782"/>
                </a:moveTo>
                <a:lnTo>
                  <a:pt x="7516" y="11782"/>
                </a:lnTo>
              </a:path>
              <a:path w="9650" h="1092">
                <a:moveTo>
                  <a:pt x="16768" y="11137"/>
                </a:moveTo>
                <a:cubicBezTo>
                  <a:pt x="16755" y="11099"/>
                  <a:pt x="16739" y="11112"/>
                  <a:pt x="16694" y="11112"/>
                </a:cubicBezTo>
                <a:cubicBezTo>
                  <a:pt x="16643" y="11112"/>
                  <a:pt x="16608" y="11103"/>
                  <a:pt x="16570" y="11137"/>
                </a:cubicBezTo>
                <a:cubicBezTo>
                  <a:pt x="16540" y="11164"/>
                  <a:pt x="16530" y="11228"/>
                  <a:pt x="16520" y="11261"/>
                </a:cubicBezTo>
                <a:cubicBezTo>
                  <a:pt x="16508" y="11302"/>
                  <a:pt x="16520" y="11367"/>
                  <a:pt x="16520" y="11410"/>
                </a:cubicBezTo>
                <a:cubicBezTo>
                  <a:pt x="16561" y="11410"/>
                  <a:pt x="16603" y="11410"/>
                  <a:pt x="16644" y="11410"/>
                </a:cubicBezTo>
                <a:cubicBezTo>
                  <a:pt x="16644" y="11333"/>
                  <a:pt x="16647" y="11276"/>
                  <a:pt x="16669" y="11212"/>
                </a:cubicBezTo>
                <a:cubicBezTo>
                  <a:pt x="16682" y="11174"/>
                  <a:pt x="16676" y="11173"/>
                  <a:pt x="16718" y="11162"/>
                </a:cubicBezTo>
                <a:cubicBezTo>
                  <a:pt x="16718" y="11377"/>
                  <a:pt x="16718" y="11592"/>
                  <a:pt x="16718" y="11807"/>
                </a:cubicBezTo>
                <a:cubicBezTo>
                  <a:pt x="16794" y="11807"/>
                  <a:pt x="16912" y="11837"/>
                  <a:pt x="16942" y="11757"/>
                </a:cubicBezTo>
                <a:cubicBezTo>
                  <a:pt x="16955" y="11722"/>
                  <a:pt x="16966" y="11735"/>
                  <a:pt x="16966" y="11683"/>
                </a:cubicBezTo>
                <a:cubicBezTo>
                  <a:pt x="16966" y="11650"/>
                  <a:pt x="16966" y="11617"/>
                  <a:pt x="16966" y="11584"/>
                </a:cubicBezTo>
              </a:path>
              <a:path w="9650" h="1092">
                <a:moveTo>
                  <a:pt x="8086" y="11311"/>
                </a:moveTo>
                <a:cubicBezTo>
                  <a:pt x="8109" y="11301"/>
                  <a:pt x="8181" y="11251"/>
                  <a:pt x="8235" y="11237"/>
                </a:cubicBezTo>
                <a:cubicBezTo>
                  <a:pt x="8457" y="11179"/>
                  <a:pt x="8682" y="11118"/>
                  <a:pt x="8905" y="11063"/>
                </a:cubicBezTo>
                <a:cubicBezTo>
                  <a:pt x="9071" y="11022"/>
                  <a:pt x="9236" y="11001"/>
                  <a:pt x="9401" y="10964"/>
                </a:cubicBezTo>
                <a:cubicBezTo>
                  <a:pt x="9635" y="10912"/>
                  <a:pt x="9860" y="10830"/>
                  <a:pt x="10096" y="10790"/>
                </a:cubicBezTo>
                <a:cubicBezTo>
                  <a:pt x="10236" y="10766"/>
                  <a:pt x="10374" y="10768"/>
                  <a:pt x="10517" y="10765"/>
                </a:cubicBezTo>
                <a:cubicBezTo>
                  <a:pt x="10787" y="10760"/>
                  <a:pt x="11047" y="10758"/>
                  <a:pt x="11311" y="10815"/>
                </a:cubicBezTo>
                <a:cubicBezTo>
                  <a:pt x="11401" y="10834"/>
                  <a:pt x="11427" y="10825"/>
                  <a:pt x="11509" y="10815"/>
                </a:cubicBezTo>
                <a:cubicBezTo>
                  <a:pt x="11972" y="10758"/>
                  <a:pt x="12405" y="10716"/>
                  <a:pt x="12874" y="10716"/>
                </a:cubicBezTo>
                <a:cubicBezTo>
                  <a:pt x="13065" y="10716"/>
                  <a:pt x="13261" y="10704"/>
                  <a:pt x="13444" y="10740"/>
                </a:cubicBezTo>
                <a:cubicBezTo>
                  <a:pt x="13485" y="10748"/>
                  <a:pt x="13582" y="10787"/>
                  <a:pt x="13593" y="10790"/>
                </a:cubicBezTo>
                <a:cubicBezTo>
                  <a:pt x="13655" y="10805"/>
                  <a:pt x="13704" y="10820"/>
                  <a:pt x="13767" y="10840"/>
                </a:cubicBezTo>
                <a:cubicBezTo>
                  <a:pt x="13833" y="10861"/>
                  <a:pt x="13884" y="10878"/>
                  <a:pt x="13940" y="10914"/>
                </a:cubicBezTo>
                <a:cubicBezTo>
                  <a:pt x="13975" y="10936"/>
                  <a:pt x="14038" y="10976"/>
                  <a:pt x="14064" y="11013"/>
                </a:cubicBezTo>
                <a:cubicBezTo>
                  <a:pt x="14073" y="11026"/>
                  <a:pt x="14086" y="11096"/>
                  <a:pt x="14089" y="11112"/>
                </a:cubicBezTo>
                <a:cubicBezTo>
                  <a:pt x="14112" y="11228"/>
                  <a:pt x="14089" y="11366"/>
                  <a:pt x="14089" y="11485"/>
                </a:cubicBezTo>
              </a:path>
              <a:path w="9650" h="1092">
                <a:moveTo>
                  <a:pt x="13866" y="11261"/>
                </a:moveTo>
                <a:cubicBezTo>
                  <a:pt x="13866" y="11321"/>
                  <a:pt x="13876" y="11360"/>
                  <a:pt x="13891" y="11410"/>
                </a:cubicBezTo>
                <a:cubicBezTo>
                  <a:pt x="13900" y="11438"/>
                  <a:pt x="13908" y="11456"/>
                  <a:pt x="13915" y="11485"/>
                </a:cubicBezTo>
                <a:cubicBezTo>
                  <a:pt x="13952" y="11497"/>
                  <a:pt x="13937" y="11509"/>
                  <a:pt x="13990" y="11509"/>
                </a:cubicBezTo>
                <a:cubicBezTo>
                  <a:pt x="14073" y="11509"/>
                  <a:pt x="14165" y="11508"/>
                  <a:pt x="14213" y="11485"/>
                </a:cubicBezTo>
                <a:cubicBezTo>
                  <a:pt x="14221" y="11485"/>
                  <a:pt x="14230" y="11485"/>
                  <a:pt x="14238" y="11485"/>
                </a:cubicBezTo>
                <a:cubicBezTo>
                  <a:pt x="14248" y="11455"/>
                  <a:pt x="14280" y="11443"/>
                  <a:pt x="14312" y="11410"/>
                </a:cubicBezTo>
                <a:cubicBezTo>
                  <a:pt x="14352" y="11369"/>
                  <a:pt x="14321" y="11357"/>
                  <a:pt x="14337" y="11311"/>
                </a:cubicBezTo>
                <a:cubicBezTo>
                  <a:pt x="14358" y="11251"/>
                  <a:pt x="14414" y="11214"/>
                  <a:pt x="14436" y="11162"/>
                </a:cubicBezTo>
                <a:cubicBezTo>
                  <a:pt x="14443" y="11146"/>
                  <a:pt x="14436" y="11106"/>
                  <a:pt x="14436" y="1108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054320" y="4776840"/>
            <a:ext cx="1768680" cy="608040"/>
          </a:xfrm>
          <a:custGeom>
            <a:avLst/>
            <a:gdLst/>
            <a:ahLst/>
            <a:rect l="l" t="t" r="r" b="b"/>
            <a:pathLst>
              <a:path w="4913" h="1687">
                <a:moveTo>
                  <a:pt x="11410" y="13519"/>
                </a:moveTo>
                <a:cubicBezTo>
                  <a:pt x="11493" y="13519"/>
                  <a:pt x="11575" y="13519"/>
                  <a:pt x="11658" y="13519"/>
                </a:cubicBezTo>
                <a:cubicBezTo>
                  <a:pt x="11658" y="13561"/>
                  <a:pt x="11667" y="13610"/>
                  <a:pt x="11633" y="13643"/>
                </a:cubicBezTo>
                <a:cubicBezTo>
                  <a:pt x="11534" y="13737"/>
                  <a:pt x="11411" y="13857"/>
                  <a:pt x="11311" y="13940"/>
                </a:cubicBezTo>
                <a:cubicBezTo>
                  <a:pt x="11254" y="13987"/>
                  <a:pt x="11261" y="13967"/>
                  <a:pt x="11261" y="14039"/>
                </a:cubicBezTo>
                <a:cubicBezTo>
                  <a:pt x="11261" y="14064"/>
                  <a:pt x="11261" y="14089"/>
                  <a:pt x="11261" y="14114"/>
                </a:cubicBezTo>
                <a:cubicBezTo>
                  <a:pt x="11476" y="14114"/>
                  <a:pt x="11691" y="14114"/>
                  <a:pt x="11906" y="14114"/>
                </a:cubicBezTo>
              </a:path>
              <a:path w="4913" h="1687">
                <a:moveTo>
                  <a:pt x="11782" y="13370"/>
                </a:moveTo>
                <a:cubicBezTo>
                  <a:pt x="11782" y="13453"/>
                  <a:pt x="11782" y="13535"/>
                  <a:pt x="11782" y="13618"/>
                </a:cubicBezTo>
                <a:cubicBezTo>
                  <a:pt x="11914" y="13618"/>
                  <a:pt x="12047" y="13618"/>
                  <a:pt x="12179" y="13618"/>
                </a:cubicBezTo>
                <a:cubicBezTo>
                  <a:pt x="12179" y="13582"/>
                  <a:pt x="12172" y="13546"/>
                  <a:pt x="12154" y="13519"/>
                </a:cubicBezTo>
                <a:cubicBezTo>
                  <a:pt x="12131" y="13485"/>
                  <a:pt x="12109" y="13477"/>
                  <a:pt x="12080" y="13444"/>
                </a:cubicBezTo>
                <a:cubicBezTo>
                  <a:pt x="12051" y="13411"/>
                  <a:pt x="12035" y="13366"/>
                  <a:pt x="12030" y="13320"/>
                </a:cubicBezTo>
                <a:cubicBezTo>
                  <a:pt x="12021" y="13231"/>
                  <a:pt x="12030" y="13315"/>
                  <a:pt x="12030" y="13370"/>
                </a:cubicBezTo>
                <a:cubicBezTo>
                  <a:pt x="12030" y="13577"/>
                  <a:pt x="12030" y="13783"/>
                  <a:pt x="12030" y="13990"/>
                </a:cubicBezTo>
              </a:path>
              <a:path w="4913" h="1687">
                <a:moveTo>
                  <a:pt x="12526" y="13841"/>
                </a:moveTo>
                <a:cubicBezTo>
                  <a:pt x="12605" y="13782"/>
                  <a:pt x="12703" y="13804"/>
                  <a:pt x="12799" y="13791"/>
                </a:cubicBezTo>
                <a:cubicBezTo>
                  <a:pt x="12902" y="13777"/>
                  <a:pt x="12993" y="13767"/>
                  <a:pt x="13097" y="13767"/>
                </a:cubicBezTo>
                <a:cubicBezTo>
                  <a:pt x="13138" y="13767"/>
                  <a:pt x="13146" y="13767"/>
                  <a:pt x="13171" y="13767"/>
                </a:cubicBezTo>
              </a:path>
              <a:path w="4913" h="1687">
                <a:moveTo>
                  <a:pt x="12874" y="13469"/>
                </a:moveTo>
                <a:lnTo>
                  <a:pt x="12874" y="13469"/>
                </a:lnTo>
              </a:path>
              <a:path w="4913" h="1687">
                <a:moveTo>
                  <a:pt x="12874" y="14312"/>
                </a:moveTo>
                <a:lnTo>
                  <a:pt x="12874" y="14312"/>
                </a:lnTo>
              </a:path>
              <a:path w="4913" h="1687">
                <a:moveTo>
                  <a:pt x="14089" y="13940"/>
                </a:moveTo>
                <a:cubicBezTo>
                  <a:pt x="14085" y="13911"/>
                  <a:pt x="14082" y="13873"/>
                  <a:pt x="14064" y="13866"/>
                </a:cubicBezTo>
                <a:cubicBezTo>
                  <a:pt x="13994" y="13839"/>
                  <a:pt x="13662" y="13832"/>
                  <a:pt x="13643" y="13915"/>
                </a:cubicBezTo>
                <a:cubicBezTo>
                  <a:pt x="13618" y="14021"/>
                  <a:pt x="13619" y="14266"/>
                  <a:pt x="13667" y="14362"/>
                </a:cubicBezTo>
                <a:cubicBezTo>
                  <a:pt x="13698" y="14424"/>
                  <a:pt x="13873" y="14476"/>
                  <a:pt x="13940" y="14486"/>
                </a:cubicBezTo>
                <a:cubicBezTo>
                  <a:pt x="14002" y="14495"/>
                  <a:pt x="14053" y="14495"/>
                  <a:pt x="14089" y="14436"/>
                </a:cubicBezTo>
                <a:cubicBezTo>
                  <a:pt x="14154" y="14331"/>
                  <a:pt x="14171" y="14193"/>
                  <a:pt x="14238" y="14089"/>
                </a:cubicBezTo>
                <a:cubicBezTo>
                  <a:pt x="14263" y="14089"/>
                  <a:pt x="14271" y="14089"/>
                  <a:pt x="14263" y="14064"/>
                </a:cubicBezTo>
                <a:cubicBezTo>
                  <a:pt x="14269" y="14154"/>
                  <a:pt x="14301" y="14225"/>
                  <a:pt x="14312" y="14312"/>
                </a:cubicBezTo>
                <a:cubicBezTo>
                  <a:pt x="14326" y="14425"/>
                  <a:pt x="14321" y="14457"/>
                  <a:pt x="14362" y="14560"/>
                </a:cubicBezTo>
                <a:cubicBezTo>
                  <a:pt x="14403" y="14663"/>
                  <a:pt x="14487" y="14769"/>
                  <a:pt x="14560" y="14858"/>
                </a:cubicBezTo>
                <a:cubicBezTo>
                  <a:pt x="14571" y="14871"/>
                  <a:pt x="14652" y="14951"/>
                  <a:pt x="14660" y="14957"/>
                </a:cubicBezTo>
                <a:cubicBezTo>
                  <a:pt x="14668" y="14957"/>
                  <a:pt x="14676" y="14957"/>
                  <a:pt x="14684" y="14957"/>
                </a:cubicBezTo>
                <a:cubicBezTo>
                  <a:pt x="14754" y="14923"/>
                  <a:pt x="14734" y="14911"/>
                  <a:pt x="14734" y="14808"/>
                </a:cubicBezTo>
                <a:cubicBezTo>
                  <a:pt x="14734" y="14684"/>
                  <a:pt x="14734" y="14560"/>
                  <a:pt x="14734" y="14436"/>
                </a:cubicBezTo>
              </a:path>
              <a:path w="4913" h="1687">
                <a:moveTo>
                  <a:pt x="14908" y="13866"/>
                </a:moveTo>
                <a:cubicBezTo>
                  <a:pt x="15043" y="13798"/>
                  <a:pt x="15166" y="13758"/>
                  <a:pt x="15304" y="13717"/>
                </a:cubicBezTo>
                <a:cubicBezTo>
                  <a:pt x="15356" y="13702"/>
                  <a:pt x="15355" y="13692"/>
                  <a:pt x="15404" y="13692"/>
                </a:cubicBezTo>
              </a:path>
              <a:path w="4913" h="1687">
                <a:moveTo>
                  <a:pt x="14982" y="14114"/>
                </a:moveTo>
                <a:cubicBezTo>
                  <a:pt x="15123" y="14114"/>
                  <a:pt x="15263" y="14114"/>
                  <a:pt x="15404" y="14114"/>
                </a:cubicBezTo>
              </a:path>
              <a:path w="4913" h="1687">
                <a:moveTo>
                  <a:pt x="15751" y="13643"/>
                </a:moveTo>
                <a:cubicBezTo>
                  <a:pt x="15751" y="13698"/>
                  <a:pt x="15701" y="14176"/>
                  <a:pt x="15776" y="14213"/>
                </a:cubicBezTo>
                <a:cubicBezTo>
                  <a:pt x="15838" y="14244"/>
                  <a:pt x="16122" y="14222"/>
                  <a:pt x="16148" y="14188"/>
                </a:cubicBezTo>
                <a:cubicBezTo>
                  <a:pt x="16177" y="14150"/>
                  <a:pt x="16173" y="14137"/>
                  <a:pt x="16173" y="14089"/>
                </a:cubicBezTo>
                <a:cubicBezTo>
                  <a:pt x="16173" y="14036"/>
                  <a:pt x="16140" y="14039"/>
                  <a:pt x="16098" y="14039"/>
                </a:cubicBezTo>
                <a:cubicBezTo>
                  <a:pt x="16036" y="14039"/>
                  <a:pt x="15976" y="14027"/>
                  <a:pt x="15949" y="14064"/>
                </a:cubicBezTo>
                <a:cubicBezTo>
                  <a:pt x="15938" y="14079"/>
                  <a:pt x="15929" y="14160"/>
                  <a:pt x="15925" y="14163"/>
                </a:cubicBezTo>
                <a:cubicBezTo>
                  <a:pt x="15900" y="14163"/>
                  <a:pt x="15892" y="14163"/>
                  <a:pt x="15900" y="1418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15">
                                            <p:txEl>
                                              <p:pRg st="1" end="1"/>
                                            </p:txEl>
                                          </p:spTgt>
                                        </p:tgtEl>
                                        <p:attrNameLst>
                                          <p:attrName>style.visibility</p:attrName>
                                        </p:attrNameLst>
                                      </p:cBhvr>
                                      <p:to>
                                        <p:strVal val="visible"/>
                                      </p:to>
                                    </p:set>
                                    <p:anim calcmode="lin" valueType="num">
                                      <p:cBhvr additive="base">
                                        <p:cTn id="89" dur="5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2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15">
                                            <p:txEl>
                                              <p:pRg st="0" end="0"/>
                                            </p:txEl>
                                          </p:spTgt>
                                        </p:tgtEl>
                                        <p:attrNameLst>
                                          <p:attrName>style.visibility</p:attrName>
                                        </p:attrNameLst>
                                      </p:cBhvr>
                                      <p:to>
                                        <p:strVal val="visible"/>
                                      </p:to>
                                    </p:set>
                                    <p:anim calcmode="lin" valueType="num">
                                      <p:cBhvr additive="base">
                                        <p:cTn id="95"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215">
                                            <p:txEl>
                                              <p:pRg st="2" end="2"/>
                                            </p:txEl>
                                          </p:spTgt>
                                        </p:tgtEl>
                                        <p:attrNameLst>
                                          <p:attrName>style.visibility</p:attrName>
                                        </p:attrNameLst>
                                      </p:cBhvr>
                                      <p:to>
                                        <p:strVal val="visible"/>
                                      </p:to>
                                    </p:set>
                                    <p:anim calcmode="lin" valueType="num">
                                      <p:cBhvr additive="base">
                                        <p:cTn id="101" dur="500" fill="hold"/>
                                        <p:tgtEl>
                                          <p:spTgt spid="215">
                                            <p:txEl>
                                              <p:pRg st="2" end="2"/>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2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215">
                                            <p:txEl>
                                              <p:pRg st="4" end="4"/>
                                            </p:txEl>
                                          </p:spTgt>
                                        </p:tgtEl>
                                        <p:attrNameLst>
                                          <p:attrName>style.visibility</p:attrName>
                                        </p:attrNameLst>
                                      </p:cBhvr>
                                      <p:to>
                                        <p:strVal val="visible"/>
                                      </p:to>
                                    </p:set>
                                    <p:anim calcmode="lin" valueType="num">
                                      <p:cBhvr additive="base">
                                        <p:cTn id="107" dur="500" fill="hold"/>
                                        <p:tgtEl>
                                          <p:spTgt spid="215">
                                            <p:txEl>
                                              <p:pRg st="4" end="4"/>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2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215">
                                            <p:txEl>
                                              <p:pRg st="6" end="6"/>
                                            </p:txEl>
                                          </p:spTgt>
                                        </p:tgtEl>
                                        <p:attrNameLst>
                                          <p:attrName>style.visibility</p:attrName>
                                        </p:attrNameLst>
                                      </p:cBhvr>
                                      <p:to>
                                        <p:strVal val="visible"/>
                                      </p:to>
                                    </p:set>
                                    <p:anim calcmode="lin" valueType="num">
                                      <p:cBhvr additive="base">
                                        <p:cTn id="113" dur="500" fill="hold"/>
                                        <p:tgtEl>
                                          <p:spTgt spid="215">
                                            <p:txEl>
                                              <p:pRg st="6" end="6"/>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21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380520" y="152280"/>
            <a:ext cx="7543800" cy="54864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mic Sans MS"/>
              </a:rPr>
              <a:t>Objective: </a:t>
            </a:r>
            <a:r>
              <a:rPr b="0" lang="en-US" sz="1200" spc="-1" strike="noStrike">
                <a:solidFill>
                  <a:srgbClr val="000000"/>
                </a:solidFill>
                <a:latin typeface="Comic Sans MS"/>
              </a:rPr>
              <a:t>Students will identify and write equations and inequalities to represent relationships.</a:t>
            </a:r>
            <a:endParaRPr b="0" lang="en-US" sz="12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n inequality vs. an equation:</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difference between inequalities and equations is that inequalities have an inequality symbol instead of an equal sign. To translate sentences into inequalities look for the following phrases.</a:t>
            </a:r>
            <a:r>
              <a:rPr b="0" lang="en-US" sz="1800" spc="-1" strike="noStrike">
                <a:solidFill>
                  <a:srgbClr val="000000"/>
                </a:solidFill>
                <a:latin typeface="Comic Sans MS"/>
              </a:rPr>
              <a:t> (Inequalities often have more than one correct answer.)</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	</a:t>
            </a:r>
            <a:r>
              <a:rPr b="0" lang="en-US" sz="2000" spc="-1" strike="noStrike" u="sng">
                <a:solidFill>
                  <a:srgbClr val="006600"/>
                </a:solidFill>
                <a:uFillTx/>
                <a:latin typeface="Comic Sans MS"/>
              </a:rPr>
              <a:t>Phrase</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   </a:t>
            </a:r>
            <a:r>
              <a:rPr b="0" lang="en-US" sz="2000" spc="-1" strike="noStrike">
                <a:solidFill>
                  <a:srgbClr val="006600"/>
                </a:solidFill>
                <a:latin typeface="Comic Sans MS"/>
              </a:rPr>
              <a:t>is less than</a:t>
            </a:r>
            <a:r>
              <a:rPr b="0" lang="en-US" sz="2000" spc="-1" strike="noStrike">
                <a:solidFill>
                  <a:srgbClr val="006600"/>
                </a:solidFill>
                <a:latin typeface="Comic Sans MS"/>
              </a:rPr>
              <a:t>	</a:t>
            </a:r>
            <a:r>
              <a:rPr b="0" lang="en-US" sz="2000" spc="-1" strike="noStrike">
                <a:solidFill>
                  <a:srgbClr val="006600"/>
                </a:solidFill>
                <a:latin typeface="Comic Sans MS"/>
              </a:rPr>
              <a:t>	</a:t>
            </a:r>
            <a:r>
              <a:rPr b="0" lang="en-US" sz="2000" spc="-1" strike="noStrike">
                <a:solidFill>
                  <a:srgbClr val="006600"/>
                </a:solidFill>
                <a:latin typeface="Comic Sans MS"/>
              </a:rPr>
              <a:t>	</a:t>
            </a:r>
            <a:r>
              <a:rPr b="0" lang="en-US" sz="2000" spc="-1" strike="noStrike">
                <a:solidFill>
                  <a:srgbClr val="006600"/>
                </a:solidFill>
                <a:latin typeface="Comic Sans MS"/>
              </a:rPr>
              <a:t>	</a:t>
            </a:r>
            <a:r>
              <a:rPr b="0" lang="en-US" sz="2000" spc="-1" strike="noStrike">
                <a:solidFill>
                  <a:srgbClr val="006600"/>
                </a:solidFill>
                <a:latin typeface="Comic Sans MS"/>
              </a:rPr>
              <a:t>&lt;</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   </a:t>
            </a:r>
            <a:r>
              <a:rPr b="0" lang="en-US" sz="2000" spc="-1" strike="noStrike">
                <a:solidFill>
                  <a:srgbClr val="006600"/>
                </a:solidFill>
                <a:latin typeface="Comic Sans MS"/>
              </a:rPr>
              <a:t>is less than or equal to</a:t>
            </a:r>
            <a:r>
              <a:rPr b="0" lang="en-US" sz="2000" spc="-1" strike="noStrike">
                <a:solidFill>
                  <a:srgbClr val="006600"/>
                </a:solidFill>
                <a:latin typeface="Comic Sans MS"/>
              </a:rPr>
              <a:t>	</a:t>
            </a:r>
            <a:r>
              <a:rPr b="0" lang="en-US" sz="2000" spc="-1" strike="noStrike">
                <a:solidFill>
                  <a:srgbClr val="006600"/>
                </a:solidFill>
                <a:latin typeface="Comic Sans MS"/>
              </a:rPr>
              <a:t>	</a:t>
            </a:r>
            <a:r>
              <a:rPr b="0" lang="en-US" sz="2000" spc="-1" strike="noStrike">
                <a:solidFill>
                  <a:srgbClr val="006600"/>
                </a:solidFill>
                <a:latin typeface="Comic Sans MS"/>
              </a:rPr>
              <a:t>≤</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   </a:t>
            </a:r>
            <a:r>
              <a:rPr b="0" lang="en-US" sz="2000" spc="-1" strike="noStrike">
                <a:solidFill>
                  <a:srgbClr val="006600"/>
                </a:solidFill>
                <a:latin typeface="Comic Sans MS"/>
              </a:rPr>
              <a:t>is greater than</a:t>
            </a:r>
            <a:r>
              <a:rPr b="0" lang="en-US" sz="2000" spc="-1" strike="noStrike">
                <a:solidFill>
                  <a:srgbClr val="006600"/>
                </a:solidFill>
                <a:latin typeface="Comic Sans MS"/>
              </a:rPr>
              <a:t>	</a:t>
            </a:r>
            <a:r>
              <a:rPr b="0" lang="en-US" sz="2000" spc="-1" strike="noStrike">
                <a:solidFill>
                  <a:srgbClr val="006600"/>
                </a:solidFill>
                <a:latin typeface="Comic Sans MS"/>
              </a:rPr>
              <a:t>	</a:t>
            </a:r>
            <a:r>
              <a:rPr b="0" lang="en-US" sz="2000" spc="-1" strike="noStrike">
                <a:solidFill>
                  <a:srgbClr val="006600"/>
                </a:solidFill>
                <a:latin typeface="Comic Sans MS"/>
              </a:rPr>
              <a:t>	</a:t>
            </a:r>
            <a:r>
              <a:rPr b="0" lang="en-US" sz="2000" spc="-1" strike="noStrike">
                <a:solidFill>
                  <a:srgbClr val="006600"/>
                </a:solidFill>
                <a:latin typeface="Comic Sans MS"/>
              </a:rPr>
              <a:t>&gt;</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   </a:t>
            </a:r>
            <a:r>
              <a:rPr b="0" lang="en-US" sz="2000" spc="-1" strike="noStrike">
                <a:solidFill>
                  <a:srgbClr val="006600"/>
                </a:solidFill>
                <a:latin typeface="Comic Sans MS"/>
              </a:rPr>
              <a:t>is greater than or equal to</a:t>
            </a:r>
            <a:r>
              <a:rPr b="0" lang="en-US" sz="2000" spc="-1" strike="noStrike">
                <a:solidFill>
                  <a:srgbClr val="006600"/>
                </a:solidFill>
                <a:latin typeface="Comic Sans MS"/>
              </a:rPr>
              <a:t>	</a:t>
            </a:r>
            <a:r>
              <a:rPr b="0" lang="en-US" sz="2000" spc="-1" strike="noStrike">
                <a:solidFill>
                  <a:srgbClr val="006600"/>
                </a:solidFill>
                <a:latin typeface="Comic Sans MS"/>
              </a:rPr>
              <a:t>	</a:t>
            </a:r>
            <a:r>
              <a:rPr b="0" lang="en-US" sz="2000" spc="-1" strike="noStrike">
                <a:solidFill>
                  <a:srgbClr val="006600"/>
                </a:solidFill>
                <a:latin typeface="Comic Sans MS"/>
              </a:rPr>
              <a:t>≥</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1" name=""/>
          <p:cNvSpPr/>
          <p:nvPr/>
        </p:nvSpPr>
        <p:spPr>
          <a:xfrm>
            <a:off x="7858080" y="1633680"/>
            <a:ext cx="196920" cy="144360"/>
          </a:xfrm>
          <a:custGeom>
            <a:avLst/>
            <a:gdLst/>
            <a:ahLst/>
            <a:rect l="l" t="t" r="r" b="b"/>
            <a:pathLst>
              <a:path w="547" h="398">
                <a:moveTo>
                  <a:pt x="21828" y="4539"/>
                </a:moveTo>
                <a:cubicBezTo>
                  <a:pt x="22002" y="4539"/>
                  <a:pt x="22175" y="4539"/>
                  <a:pt x="22349" y="4539"/>
                </a:cubicBezTo>
              </a:path>
              <a:path w="547" h="398">
                <a:moveTo>
                  <a:pt x="21903" y="4936"/>
                </a:moveTo>
                <a:cubicBezTo>
                  <a:pt x="21903" y="4928"/>
                  <a:pt x="21903" y="4919"/>
                  <a:pt x="21903" y="4911"/>
                </a:cubicBezTo>
                <a:cubicBezTo>
                  <a:pt x="21944" y="4911"/>
                  <a:pt x="21940" y="4921"/>
                  <a:pt x="21952" y="4887"/>
                </a:cubicBezTo>
                <a:cubicBezTo>
                  <a:pt x="22093" y="4887"/>
                  <a:pt x="22233" y="4887"/>
                  <a:pt x="22374" y="488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929720" y="2000160"/>
            <a:ext cx="142560" cy="366840"/>
          </a:xfrm>
          <a:custGeom>
            <a:avLst/>
            <a:gdLst/>
            <a:ahLst/>
            <a:rect l="l" t="t" r="r" b="b"/>
            <a:pathLst>
              <a:path w="397" h="1018">
                <a:moveTo>
                  <a:pt x="22423" y="5556"/>
                </a:moveTo>
                <a:cubicBezTo>
                  <a:pt x="22357" y="5556"/>
                  <a:pt x="22334" y="5624"/>
                  <a:pt x="22299" y="5680"/>
                </a:cubicBezTo>
                <a:cubicBezTo>
                  <a:pt x="22268" y="5730"/>
                  <a:pt x="22261" y="5788"/>
                  <a:pt x="22225" y="5829"/>
                </a:cubicBezTo>
                <a:cubicBezTo>
                  <a:pt x="22189" y="5869"/>
                  <a:pt x="22153" y="5907"/>
                  <a:pt x="22126" y="5953"/>
                </a:cubicBezTo>
                <a:cubicBezTo>
                  <a:pt x="22098" y="6000"/>
                  <a:pt x="22047" y="5998"/>
                  <a:pt x="22027" y="6028"/>
                </a:cubicBezTo>
                <a:cubicBezTo>
                  <a:pt x="21989" y="6084"/>
                  <a:pt x="22108" y="6138"/>
                  <a:pt x="22126" y="6152"/>
                </a:cubicBezTo>
                <a:cubicBezTo>
                  <a:pt x="22180" y="6194"/>
                  <a:pt x="22210" y="6248"/>
                  <a:pt x="22250" y="6300"/>
                </a:cubicBezTo>
                <a:cubicBezTo>
                  <a:pt x="22271" y="6327"/>
                  <a:pt x="22310" y="6368"/>
                  <a:pt x="22324" y="6400"/>
                </a:cubicBezTo>
                <a:cubicBezTo>
                  <a:pt x="22329" y="6410"/>
                  <a:pt x="22344" y="6495"/>
                  <a:pt x="22349" y="6499"/>
                </a:cubicBezTo>
                <a:cubicBezTo>
                  <a:pt x="22378" y="6522"/>
                  <a:pt x="22374" y="6520"/>
                  <a:pt x="22374" y="657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885080" y="2608200"/>
            <a:ext cx="214200" cy="249480"/>
          </a:xfrm>
          <a:custGeom>
            <a:avLst/>
            <a:gdLst/>
            <a:ahLst/>
            <a:rect l="l" t="t" r="r" b="b"/>
            <a:pathLst>
              <a:path w="596" h="696">
                <a:moveTo>
                  <a:pt x="21903" y="7243"/>
                </a:moveTo>
                <a:cubicBezTo>
                  <a:pt x="22026" y="7243"/>
                  <a:pt x="22046" y="7250"/>
                  <a:pt x="22151" y="7317"/>
                </a:cubicBezTo>
                <a:cubicBezTo>
                  <a:pt x="22210" y="7355"/>
                  <a:pt x="22256" y="7400"/>
                  <a:pt x="22324" y="7417"/>
                </a:cubicBezTo>
                <a:cubicBezTo>
                  <a:pt x="22344" y="7422"/>
                  <a:pt x="22374" y="7427"/>
                  <a:pt x="22399" y="7441"/>
                </a:cubicBezTo>
                <a:cubicBezTo>
                  <a:pt x="22437" y="7462"/>
                  <a:pt x="22474" y="7480"/>
                  <a:pt x="22498" y="7516"/>
                </a:cubicBezTo>
                <a:cubicBezTo>
                  <a:pt x="22523" y="7553"/>
                  <a:pt x="22485" y="7581"/>
                  <a:pt x="22473" y="7590"/>
                </a:cubicBezTo>
                <a:cubicBezTo>
                  <a:pt x="22433" y="7620"/>
                  <a:pt x="22391" y="7642"/>
                  <a:pt x="22374" y="7689"/>
                </a:cubicBezTo>
                <a:cubicBezTo>
                  <a:pt x="22347" y="7764"/>
                  <a:pt x="22362" y="7721"/>
                  <a:pt x="22299" y="7764"/>
                </a:cubicBezTo>
                <a:cubicBezTo>
                  <a:pt x="22273" y="7781"/>
                  <a:pt x="22234" y="7834"/>
                  <a:pt x="22225" y="7838"/>
                </a:cubicBezTo>
                <a:cubicBezTo>
                  <a:pt x="22184" y="7858"/>
                  <a:pt x="22172" y="7860"/>
                  <a:pt x="22151" y="7888"/>
                </a:cubicBezTo>
                <a:cubicBezTo>
                  <a:pt x="22129" y="7917"/>
                  <a:pt x="22109" y="7922"/>
                  <a:pt x="22076" y="7938"/>
                </a:cubicBezTo>
                <a:cubicBezTo>
                  <a:pt x="22062" y="7945"/>
                  <a:pt x="22018" y="7938"/>
                  <a:pt x="22002" y="793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769160" y="3062160"/>
            <a:ext cx="285840" cy="519120"/>
          </a:xfrm>
          <a:custGeom>
            <a:avLst/>
            <a:gdLst/>
            <a:ahLst/>
            <a:rect l="l" t="t" r="r" b="b"/>
            <a:pathLst>
              <a:path w="795" h="1440">
                <a:moveTo>
                  <a:pt x="22374" y="8508"/>
                </a:moveTo>
                <a:cubicBezTo>
                  <a:pt x="22293" y="8589"/>
                  <a:pt x="22242" y="8666"/>
                  <a:pt x="22175" y="8756"/>
                </a:cubicBezTo>
                <a:cubicBezTo>
                  <a:pt x="22122" y="8827"/>
                  <a:pt x="22060" y="8901"/>
                  <a:pt x="22002" y="8954"/>
                </a:cubicBezTo>
                <a:cubicBezTo>
                  <a:pt x="21966" y="8987"/>
                  <a:pt x="21908" y="9044"/>
                  <a:pt x="21878" y="9079"/>
                </a:cubicBezTo>
                <a:cubicBezTo>
                  <a:pt x="21861" y="9099"/>
                  <a:pt x="21842" y="9139"/>
                  <a:pt x="21828" y="9153"/>
                </a:cubicBezTo>
                <a:cubicBezTo>
                  <a:pt x="21812" y="9169"/>
                  <a:pt x="21778" y="9185"/>
                  <a:pt x="21754" y="9203"/>
                </a:cubicBezTo>
                <a:cubicBezTo>
                  <a:pt x="21729" y="9203"/>
                  <a:pt x="21721" y="9203"/>
                  <a:pt x="21729" y="9227"/>
                </a:cubicBezTo>
                <a:cubicBezTo>
                  <a:pt x="21752" y="9250"/>
                  <a:pt x="21749" y="9258"/>
                  <a:pt x="21779" y="9277"/>
                </a:cubicBezTo>
                <a:cubicBezTo>
                  <a:pt x="21827" y="9309"/>
                  <a:pt x="21862" y="9334"/>
                  <a:pt x="21903" y="9376"/>
                </a:cubicBezTo>
                <a:cubicBezTo>
                  <a:pt x="21944" y="9417"/>
                  <a:pt x="21958" y="9381"/>
                  <a:pt x="22002" y="9401"/>
                </a:cubicBezTo>
                <a:cubicBezTo>
                  <a:pt x="22045" y="9421"/>
                  <a:pt x="22050" y="9423"/>
                  <a:pt x="22101" y="9426"/>
                </a:cubicBezTo>
                <a:cubicBezTo>
                  <a:pt x="22156" y="9429"/>
                  <a:pt x="22149" y="9430"/>
                  <a:pt x="22175" y="9451"/>
                </a:cubicBezTo>
                <a:cubicBezTo>
                  <a:pt x="22199" y="9470"/>
                  <a:pt x="22204" y="9480"/>
                  <a:pt x="22225" y="9500"/>
                </a:cubicBezTo>
                <a:cubicBezTo>
                  <a:pt x="22242" y="9517"/>
                  <a:pt x="22258" y="9532"/>
                  <a:pt x="22275" y="9550"/>
                </a:cubicBezTo>
                <a:cubicBezTo>
                  <a:pt x="22296" y="9572"/>
                  <a:pt x="22308" y="9569"/>
                  <a:pt x="22349" y="9575"/>
                </a:cubicBezTo>
              </a:path>
              <a:path w="795" h="1440">
                <a:moveTo>
                  <a:pt x="21580" y="9649"/>
                </a:moveTo>
                <a:cubicBezTo>
                  <a:pt x="21580" y="9624"/>
                  <a:pt x="21580" y="9600"/>
                  <a:pt x="21580" y="9575"/>
                </a:cubicBezTo>
                <a:cubicBezTo>
                  <a:pt x="21605" y="9575"/>
                  <a:pt x="21629" y="9575"/>
                  <a:pt x="21654" y="9575"/>
                </a:cubicBezTo>
                <a:cubicBezTo>
                  <a:pt x="21666" y="9609"/>
                  <a:pt x="21662" y="9599"/>
                  <a:pt x="21704" y="9599"/>
                </a:cubicBezTo>
                <a:cubicBezTo>
                  <a:pt x="21715" y="9631"/>
                  <a:pt x="21738" y="9639"/>
                  <a:pt x="21779" y="9649"/>
                </a:cubicBezTo>
                <a:cubicBezTo>
                  <a:pt x="21787" y="9681"/>
                  <a:pt x="21816" y="9732"/>
                  <a:pt x="21853" y="9748"/>
                </a:cubicBezTo>
                <a:cubicBezTo>
                  <a:pt x="21890" y="9764"/>
                  <a:pt x="21915" y="9806"/>
                  <a:pt x="21952" y="9823"/>
                </a:cubicBezTo>
                <a:cubicBezTo>
                  <a:pt x="21960" y="9823"/>
                  <a:pt x="21969" y="9823"/>
                  <a:pt x="21977" y="9823"/>
                </a:cubicBezTo>
                <a:cubicBezTo>
                  <a:pt x="21989" y="9857"/>
                  <a:pt x="21985" y="9847"/>
                  <a:pt x="22027" y="9847"/>
                </a:cubicBezTo>
                <a:cubicBezTo>
                  <a:pt x="22034" y="9877"/>
                  <a:pt x="22044" y="9892"/>
                  <a:pt x="22051" y="9922"/>
                </a:cubicBezTo>
                <a:cubicBezTo>
                  <a:pt x="22089" y="9935"/>
                  <a:pt x="22072" y="9947"/>
                  <a:pt x="22126" y="994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858080" y="3830760"/>
            <a:ext cx="428760" cy="509400"/>
          </a:xfrm>
          <a:custGeom>
            <a:avLst/>
            <a:gdLst/>
            <a:ahLst/>
            <a:rect l="l" t="t" r="r" b="b"/>
            <a:pathLst>
              <a:path w="1192" h="1415">
                <a:moveTo>
                  <a:pt x="21828" y="10641"/>
                </a:moveTo>
                <a:cubicBezTo>
                  <a:pt x="21894" y="10674"/>
                  <a:pt x="21960" y="10716"/>
                  <a:pt x="22027" y="10765"/>
                </a:cubicBezTo>
                <a:cubicBezTo>
                  <a:pt x="22171" y="10871"/>
                  <a:pt x="22341" y="10888"/>
                  <a:pt x="22498" y="10988"/>
                </a:cubicBezTo>
                <a:cubicBezTo>
                  <a:pt x="22546" y="11018"/>
                  <a:pt x="22607" y="11036"/>
                  <a:pt x="22647" y="11063"/>
                </a:cubicBezTo>
                <a:cubicBezTo>
                  <a:pt x="22682" y="11086"/>
                  <a:pt x="22705" y="11103"/>
                  <a:pt x="22746" y="11112"/>
                </a:cubicBezTo>
                <a:cubicBezTo>
                  <a:pt x="22803" y="11124"/>
                  <a:pt x="22839" y="11102"/>
                  <a:pt x="22895" y="11137"/>
                </a:cubicBezTo>
                <a:cubicBezTo>
                  <a:pt x="22920" y="11137"/>
                  <a:pt x="22928" y="11137"/>
                  <a:pt x="22920" y="11162"/>
                </a:cubicBezTo>
                <a:cubicBezTo>
                  <a:pt x="22867" y="11162"/>
                  <a:pt x="22837" y="11179"/>
                  <a:pt x="22796" y="11187"/>
                </a:cubicBezTo>
                <a:cubicBezTo>
                  <a:pt x="22730" y="11200"/>
                  <a:pt x="22694" y="11250"/>
                  <a:pt x="22622" y="11286"/>
                </a:cubicBezTo>
                <a:cubicBezTo>
                  <a:pt x="22550" y="11322"/>
                  <a:pt x="22496" y="11373"/>
                  <a:pt x="22423" y="11410"/>
                </a:cubicBezTo>
                <a:cubicBezTo>
                  <a:pt x="22349" y="11447"/>
                  <a:pt x="22303" y="11470"/>
                  <a:pt x="22250" y="11509"/>
                </a:cubicBezTo>
                <a:cubicBezTo>
                  <a:pt x="22226" y="11527"/>
                  <a:pt x="22157" y="11576"/>
                  <a:pt x="22126" y="11584"/>
                </a:cubicBezTo>
                <a:cubicBezTo>
                  <a:pt x="22073" y="11598"/>
                  <a:pt x="22024" y="11562"/>
                  <a:pt x="21977" y="11609"/>
                </a:cubicBezTo>
                <a:cubicBezTo>
                  <a:pt x="21960" y="11626"/>
                  <a:pt x="21953" y="11642"/>
                  <a:pt x="21927" y="11658"/>
                </a:cubicBezTo>
              </a:path>
              <a:path w="1192" h="1415">
                <a:moveTo>
                  <a:pt x="23019" y="11435"/>
                </a:moveTo>
                <a:cubicBezTo>
                  <a:pt x="22964" y="11435"/>
                  <a:pt x="22919" y="11427"/>
                  <a:pt x="22870" y="11460"/>
                </a:cubicBezTo>
                <a:cubicBezTo>
                  <a:pt x="22841" y="11480"/>
                  <a:pt x="22766" y="11536"/>
                  <a:pt x="22746" y="11559"/>
                </a:cubicBezTo>
                <a:cubicBezTo>
                  <a:pt x="22708" y="11601"/>
                  <a:pt x="22641" y="11686"/>
                  <a:pt x="22622" y="11733"/>
                </a:cubicBezTo>
                <a:cubicBezTo>
                  <a:pt x="22577" y="11744"/>
                  <a:pt x="22557" y="11773"/>
                  <a:pt x="22523" y="11807"/>
                </a:cubicBezTo>
                <a:cubicBezTo>
                  <a:pt x="22486" y="11844"/>
                  <a:pt x="22503" y="11868"/>
                  <a:pt x="22448" y="11881"/>
                </a:cubicBezTo>
                <a:cubicBezTo>
                  <a:pt x="22436" y="11916"/>
                  <a:pt x="22441" y="11906"/>
                  <a:pt x="22399" y="11906"/>
                </a:cubicBezTo>
                <a:cubicBezTo>
                  <a:pt x="22386" y="11946"/>
                  <a:pt x="22387" y="11916"/>
                  <a:pt x="22374" y="11956"/>
                </a:cubicBezTo>
                <a:cubicBezTo>
                  <a:pt x="22294" y="11969"/>
                  <a:pt x="22346" y="11998"/>
                  <a:pt x="22275" y="12030"/>
                </a:cubicBezTo>
                <a:cubicBezTo>
                  <a:pt x="22267" y="12030"/>
                  <a:pt x="22258" y="12030"/>
                  <a:pt x="22250" y="12030"/>
                </a:cubicBezTo>
                <a:cubicBezTo>
                  <a:pt x="22237" y="12068"/>
                  <a:pt x="22220" y="12055"/>
                  <a:pt x="22175" y="1205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2" presetSubtype="4">
                                  <p:stCondLst>
                                    <p:cond delay="0"/>
                                  </p:stCondLst>
                                  <p:childTnLst>
                                    <p:set>
                                      <p:cBhvr>
                                        <p:cTn id="120" dur="1" fill="hold">
                                          <p:stCondLst>
                                            <p:cond delay="0"/>
                                          </p:stCondLst>
                                        </p:cTn>
                                        <p:tgtEl>
                                          <p:spTgt spid="227">
                                            <p:txEl>
                                              <p:pRg st="0" end="0"/>
                                            </p:txEl>
                                          </p:spTgt>
                                        </p:tgtEl>
                                        <p:attrNameLst>
                                          <p:attrName>style.visibility</p:attrName>
                                        </p:attrNameLst>
                                      </p:cBhvr>
                                      <p:to>
                                        <p:strVal val="visible"/>
                                      </p:to>
                                    </p:set>
                                    <p:anim calcmode="lin" valueType="num">
                                      <p:cBhvr additive="base">
                                        <p:cTn id="121" dur="5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27">
                                            <p:txEl>
                                              <p:pRg st="1" end="1"/>
                                            </p:txEl>
                                          </p:spTgt>
                                        </p:tgtEl>
                                        <p:attrNameLst>
                                          <p:attrName>style.visibility</p:attrName>
                                        </p:attrNameLst>
                                      </p:cBhvr>
                                      <p:to>
                                        <p:strVal val="visible"/>
                                      </p:to>
                                    </p:set>
                                    <p:anim calcmode="lin" valueType="num">
                                      <p:cBhvr additive="base">
                                        <p:cTn id="127" dur="500" fill="hold"/>
                                        <p:tgtEl>
                                          <p:spTgt spid="227">
                                            <p:txEl>
                                              <p:pRg st="1" end="1"/>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27">
                                            <p:txEl>
                                              <p:pRg st="2" end="2"/>
                                            </p:txEl>
                                          </p:spTgt>
                                        </p:tgtEl>
                                        <p:attrNameLst>
                                          <p:attrName>style.visibility</p:attrName>
                                        </p:attrNameLst>
                                      </p:cBhvr>
                                      <p:to>
                                        <p:strVal val="visible"/>
                                      </p:to>
                                    </p:set>
                                    <p:anim calcmode="lin" valueType="num">
                                      <p:cBhvr additive="base">
                                        <p:cTn id="133" dur="5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227">
                                            <p:txEl>
                                              <p:pRg st="4" end="4"/>
                                            </p:txEl>
                                          </p:spTgt>
                                        </p:tgtEl>
                                        <p:attrNameLst>
                                          <p:attrName>style.visibility</p:attrName>
                                        </p:attrNameLst>
                                      </p:cBhvr>
                                      <p:to>
                                        <p:strVal val="visible"/>
                                      </p:to>
                                    </p:set>
                                    <p:anim calcmode="lin" valueType="num">
                                      <p:cBhvr additive="base">
                                        <p:cTn id="139" dur="500" fill="hold"/>
                                        <p:tgtEl>
                                          <p:spTgt spid="227">
                                            <p:txEl>
                                              <p:pRg st="4" end="4"/>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22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227">
                                            <p:txEl>
                                              <p:pRg st="5" end="5"/>
                                            </p:txEl>
                                          </p:spTgt>
                                        </p:tgtEl>
                                        <p:attrNameLst>
                                          <p:attrName>style.visibility</p:attrName>
                                        </p:attrNameLst>
                                      </p:cBhvr>
                                      <p:to>
                                        <p:strVal val="visible"/>
                                      </p:to>
                                    </p:set>
                                    <p:anim calcmode="lin" valueType="num">
                                      <p:cBhvr additive="base">
                                        <p:cTn id="145" dur="500" fill="hold"/>
                                        <p:tgtEl>
                                          <p:spTgt spid="227">
                                            <p:txEl>
                                              <p:pRg st="5" end="5"/>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22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227">
                                            <p:txEl>
                                              <p:pRg st="6" end="6"/>
                                            </p:txEl>
                                          </p:spTgt>
                                        </p:tgtEl>
                                        <p:attrNameLst>
                                          <p:attrName>style.visibility</p:attrName>
                                        </p:attrNameLst>
                                      </p:cBhvr>
                                      <p:to>
                                        <p:strVal val="visible"/>
                                      </p:to>
                                    </p:set>
                                    <p:anim calcmode="lin" valueType="num">
                                      <p:cBhvr additive="base">
                                        <p:cTn id="151" dur="500" fill="hold"/>
                                        <p:tgtEl>
                                          <p:spTgt spid="227">
                                            <p:txEl>
                                              <p:pRg st="6" end="6"/>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22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227">
                                            <p:txEl>
                                              <p:pRg st="7" end="7"/>
                                            </p:txEl>
                                          </p:spTgt>
                                        </p:tgtEl>
                                        <p:attrNameLst>
                                          <p:attrName>style.visibility</p:attrName>
                                        </p:attrNameLst>
                                      </p:cBhvr>
                                      <p:to>
                                        <p:strVal val="visible"/>
                                      </p:to>
                                    </p:set>
                                    <p:anim calcmode="lin" valueType="num">
                                      <p:cBhvr additive="base">
                                        <p:cTn id="157" dur="500" fill="hold"/>
                                        <p:tgtEl>
                                          <p:spTgt spid="227">
                                            <p:txEl>
                                              <p:pRg st="7" end="7"/>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22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227">
                                            <p:txEl>
                                              <p:pRg st="8" end="8"/>
                                            </p:txEl>
                                          </p:spTgt>
                                        </p:tgtEl>
                                        <p:attrNameLst>
                                          <p:attrName>style.visibility</p:attrName>
                                        </p:attrNameLst>
                                      </p:cBhvr>
                                      <p:to>
                                        <p:strVal val="visible"/>
                                      </p:to>
                                    </p:set>
                                    <p:anim calcmode="lin" valueType="num">
                                      <p:cBhvr additive="base">
                                        <p:cTn id="163" dur="500" fill="hold"/>
                                        <p:tgtEl>
                                          <p:spTgt spid="227">
                                            <p:txEl>
                                              <p:pRg st="8" end="8"/>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22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28240" y="456840"/>
            <a:ext cx="853452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Objective: </a:t>
            </a:r>
            <a:r>
              <a:rPr b="0" lang="en-US" sz="2000" spc="-1" strike="noStrike">
                <a:solidFill>
                  <a:srgbClr val="000000"/>
                </a:solidFill>
                <a:latin typeface="Comic Sans MS"/>
              </a:rPr>
              <a:t>Students will identify and write equations and inequalities to represent relationships.</a:t>
            </a:r>
            <a:r>
              <a:rPr b="0" lang="en-US" sz="2000" spc="-1" strike="noStrike">
                <a:solidFill>
                  <a:srgbClr val="ff0000"/>
                </a:solidFill>
                <a:latin typeface="Comic Sans MS"/>
              </a:rPr>
              <a:t> </a:t>
            </a:r>
            <a:br>
              <a:rPr sz="2000"/>
            </a:br>
            <a:r>
              <a:rPr b="0" lang="en-US" sz="2000" spc="-1" strike="noStrike">
                <a:solidFill>
                  <a:srgbClr val="ff0000"/>
                </a:solidFill>
                <a:latin typeface="Comic Sans MS"/>
              </a:rPr>
              <a:t>Examples: Write an inequality for each sentence.</a:t>
            </a:r>
            <a:endParaRPr b="0" lang="en-US" sz="2000" spc="-1" strike="noStrike">
              <a:solidFill>
                <a:srgbClr val="000000"/>
              </a:solidFill>
              <a:latin typeface="Comic Sans MS"/>
            </a:endParaRPr>
          </a:p>
        </p:txBody>
      </p:sp>
      <p:sp>
        <p:nvSpPr>
          <p:cNvPr id="237" name="PlaceHolder 2"/>
          <p:cNvSpPr>
            <a:spLocks noGrp="1"/>
          </p:cNvSpPr>
          <p:nvPr>
            <p:ph/>
          </p:nvPr>
        </p:nvSpPr>
        <p:spPr>
          <a:xfrm>
            <a:off x="304920" y="1828800"/>
            <a:ext cx="8534160" cy="3657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A number plus 4 is less than 9</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 Twice a number is greater than or equal to 10</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A number minus 12 is less than or equal to 9 </a:t>
            </a:r>
            <a:endParaRPr b="0" lang="en-US" sz="2800" spc="-1" strike="noStrike">
              <a:solidFill>
                <a:srgbClr val="000000"/>
              </a:solidFill>
              <a:latin typeface="Comic Sans MS"/>
            </a:endParaRPr>
          </a:p>
        </p:txBody>
      </p:sp>
      <p:sp>
        <p:nvSpPr>
          <p:cNvPr id="238" name=""/>
          <p:cNvSpPr/>
          <p:nvPr/>
        </p:nvSpPr>
        <p:spPr>
          <a:xfrm>
            <a:off x="965160" y="1687680"/>
            <a:ext cx="1170000" cy="758520"/>
          </a:xfrm>
          <a:custGeom>
            <a:avLst/>
            <a:gdLst/>
            <a:ahLst/>
            <a:rect l="l" t="t" r="r" b="b"/>
            <a:pathLst>
              <a:path w="3250" h="2109">
                <a:moveTo>
                  <a:pt x="2704" y="6796"/>
                </a:moveTo>
                <a:cubicBezTo>
                  <a:pt x="2808" y="6721"/>
                  <a:pt x="2915" y="6675"/>
                  <a:pt x="3125" y="6672"/>
                </a:cubicBezTo>
                <a:cubicBezTo>
                  <a:pt x="3342" y="6669"/>
                  <a:pt x="3555" y="6653"/>
                  <a:pt x="3770" y="6648"/>
                </a:cubicBezTo>
                <a:cubicBezTo>
                  <a:pt x="3937" y="6644"/>
                  <a:pt x="4097" y="6623"/>
                  <a:pt x="4266" y="6623"/>
                </a:cubicBezTo>
                <a:cubicBezTo>
                  <a:pt x="4474" y="6623"/>
                  <a:pt x="4680" y="6583"/>
                  <a:pt x="4887" y="6573"/>
                </a:cubicBezTo>
                <a:cubicBezTo>
                  <a:pt x="5137" y="6560"/>
                  <a:pt x="5382" y="6515"/>
                  <a:pt x="5631" y="6499"/>
                </a:cubicBezTo>
                <a:cubicBezTo>
                  <a:pt x="5729" y="6493"/>
                  <a:pt x="5830" y="6499"/>
                  <a:pt x="5928" y="6499"/>
                </a:cubicBezTo>
              </a:path>
              <a:path w="3250" h="2109">
                <a:moveTo>
                  <a:pt x="4440" y="4787"/>
                </a:moveTo>
                <a:cubicBezTo>
                  <a:pt x="4546" y="4927"/>
                  <a:pt x="4658" y="5093"/>
                  <a:pt x="4787" y="5209"/>
                </a:cubicBezTo>
                <a:cubicBezTo>
                  <a:pt x="4804" y="5217"/>
                  <a:pt x="4820" y="5226"/>
                  <a:pt x="4837" y="5234"/>
                </a:cubicBezTo>
              </a:path>
              <a:path w="3250" h="2109">
                <a:moveTo>
                  <a:pt x="4812" y="4688"/>
                </a:moveTo>
                <a:cubicBezTo>
                  <a:pt x="4728" y="4834"/>
                  <a:pt x="4644" y="4984"/>
                  <a:pt x="4564" y="5135"/>
                </a:cubicBezTo>
                <a:cubicBezTo>
                  <a:pt x="4517" y="5227"/>
                  <a:pt x="4505" y="5254"/>
                  <a:pt x="4465" y="530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2803680" y="1677960"/>
            <a:ext cx="117360" cy="127080"/>
          </a:xfrm>
          <a:custGeom>
            <a:avLst/>
            <a:gdLst/>
            <a:ahLst/>
            <a:rect l="l" t="t" r="r" b="b"/>
            <a:pathLst>
              <a:path w="323" h="349">
                <a:moveTo>
                  <a:pt x="7938" y="4663"/>
                </a:moveTo>
                <a:cubicBezTo>
                  <a:pt x="7938" y="4783"/>
                  <a:pt x="7929" y="4898"/>
                  <a:pt x="7962" y="5011"/>
                </a:cubicBezTo>
              </a:path>
              <a:path w="323" h="349">
                <a:moveTo>
                  <a:pt x="7789" y="4787"/>
                </a:moveTo>
                <a:cubicBezTo>
                  <a:pt x="7896" y="4787"/>
                  <a:pt x="8004" y="4787"/>
                  <a:pt x="8111" y="478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3375000" y="1670040"/>
            <a:ext cx="90360" cy="179280"/>
          </a:xfrm>
          <a:custGeom>
            <a:avLst/>
            <a:gdLst/>
            <a:ahLst/>
            <a:rect l="l" t="t" r="r" b="b"/>
            <a:pathLst>
              <a:path w="249" h="498">
                <a:moveTo>
                  <a:pt x="9451" y="4762"/>
                </a:moveTo>
                <a:cubicBezTo>
                  <a:pt x="9395" y="4708"/>
                  <a:pt x="9407" y="4813"/>
                  <a:pt x="9376" y="4911"/>
                </a:cubicBezTo>
                <a:cubicBezTo>
                  <a:pt x="9475" y="4941"/>
                  <a:pt x="9520" y="4931"/>
                  <a:pt x="9624" y="4911"/>
                </a:cubicBezTo>
              </a:path>
              <a:path w="249" h="498">
                <a:moveTo>
                  <a:pt x="9624" y="4638"/>
                </a:moveTo>
                <a:cubicBezTo>
                  <a:pt x="9593" y="4794"/>
                  <a:pt x="9599" y="4949"/>
                  <a:pt x="9599" y="5110"/>
                </a:cubicBezTo>
                <a:cubicBezTo>
                  <a:pt x="9599" y="5118"/>
                  <a:pt x="9599" y="5127"/>
                  <a:pt x="9599" y="513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4313160" y="1660680"/>
            <a:ext cx="258840" cy="214200"/>
          </a:xfrm>
          <a:custGeom>
            <a:avLst/>
            <a:gdLst/>
            <a:ahLst/>
            <a:rect l="l" t="t" r="r" b="b"/>
            <a:pathLst>
              <a:path w="720" h="596">
                <a:moveTo>
                  <a:pt x="12576" y="4614"/>
                </a:moveTo>
                <a:cubicBezTo>
                  <a:pt x="12397" y="4688"/>
                  <a:pt x="12217" y="4842"/>
                  <a:pt x="12030" y="4936"/>
                </a:cubicBezTo>
                <a:cubicBezTo>
                  <a:pt x="12014" y="4944"/>
                  <a:pt x="11997" y="4953"/>
                  <a:pt x="11981" y="4961"/>
                </a:cubicBezTo>
                <a:cubicBezTo>
                  <a:pt x="12148" y="5048"/>
                  <a:pt x="12323" y="5065"/>
                  <a:pt x="12502" y="5135"/>
                </a:cubicBezTo>
                <a:cubicBezTo>
                  <a:pt x="12599" y="5173"/>
                  <a:pt x="12605" y="5209"/>
                  <a:pt x="12700" y="520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5537160" y="1652760"/>
            <a:ext cx="133560" cy="169560"/>
          </a:xfrm>
          <a:custGeom>
            <a:avLst/>
            <a:gdLst/>
            <a:ahLst/>
            <a:rect l="l" t="t" r="r" b="b"/>
            <a:pathLst>
              <a:path w="373" h="472">
                <a:moveTo>
                  <a:pt x="15652" y="4762"/>
                </a:moveTo>
                <a:cubicBezTo>
                  <a:pt x="15711" y="4732"/>
                  <a:pt x="15748" y="4622"/>
                  <a:pt x="15627" y="4589"/>
                </a:cubicBezTo>
                <a:cubicBezTo>
                  <a:pt x="15513" y="4558"/>
                  <a:pt x="15297" y="4715"/>
                  <a:pt x="15404" y="4837"/>
                </a:cubicBezTo>
                <a:cubicBezTo>
                  <a:pt x="15496" y="4941"/>
                  <a:pt x="15651" y="4806"/>
                  <a:pt x="15701" y="4738"/>
                </a:cubicBezTo>
                <a:cubicBezTo>
                  <a:pt x="15736" y="4860"/>
                  <a:pt x="15751" y="4930"/>
                  <a:pt x="15751" y="506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6375240" y="1946160"/>
            <a:ext cx="179640" cy="260640"/>
          </a:xfrm>
          <a:custGeom>
            <a:avLst/>
            <a:gdLst/>
            <a:ahLst/>
            <a:rect l="l" t="t" r="r" b="b"/>
            <a:pathLst>
              <a:path w="497" h="721">
                <a:moveTo>
                  <a:pt x="17711" y="5432"/>
                </a:moveTo>
                <a:cubicBezTo>
                  <a:pt x="17887" y="5586"/>
                  <a:pt x="18002" y="5837"/>
                  <a:pt x="18132" y="6052"/>
                </a:cubicBezTo>
                <a:cubicBezTo>
                  <a:pt x="18152" y="6093"/>
                  <a:pt x="18161" y="6099"/>
                  <a:pt x="18157" y="6127"/>
                </a:cubicBezTo>
              </a:path>
              <a:path w="497" h="721">
                <a:moveTo>
                  <a:pt x="18207" y="5407"/>
                </a:moveTo>
                <a:cubicBezTo>
                  <a:pt x="18063" y="5642"/>
                  <a:pt x="17931" y="5861"/>
                  <a:pt x="17760" y="607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6786720" y="1884240"/>
            <a:ext cx="393480" cy="268560"/>
          </a:xfrm>
          <a:custGeom>
            <a:avLst/>
            <a:gdLst/>
            <a:ahLst/>
            <a:rect l="l" t="t" r="r" b="b"/>
            <a:pathLst>
              <a:path w="1092" h="745">
                <a:moveTo>
                  <a:pt x="19025" y="5333"/>
                </a:moveTo>
                <a:cubicBezTo>
                  <a:pt x="19025" y="5492"/>
                  <a:pt x="18990" y="5646"/>
                  <a:pt x="18976" y="5804"/>
                </a:cubicBezTo>
                <a:cubicBezTo>
                  <a:pt x="18976" y="5829"/>
                  <a:pt x="18976" y="5854"/>
                  <a:pt x="18976" y="5879"/>
                </a:cubicBezTo>
              </a:path>
              <a:path w="1092" h="745">
                <a:moveTo>
                  <a:pt x="18852" y="5606"/>
                </a:moveTo>
                <a:cubicBezTo>
                  <a:pt x="18976" y="5606"/>
                  <a:pt x="19100" y="5606"/>
                  <a:pt x="19224" y="5606"/>
                </a:cubicBezTo>
              </a:path>
              <a:path w="1092" h="745">
                <a:moveTo>
                  <a:pt x="19546" y="5308"/>
                </a:moveTo>
                <a:cubicBezTo>
                  <a:pt x="19540" y="5384"/>
                  <a:pt x="19529" y="5456"/>
                  <a:pt x="19521" y="5531"/>
                </a:cubicBezTo>
                <a:cubicBezTo>
                  <a:pt x="19547" y="5609"/>
                  <a:pt x="19799" y="5579"/>
                  <a:pt x="19869" y="5581"/>
                </a:cubicBezTo>
                <a:cubicBezTo>
                  <a:pt x="19894" y="5581"/>
                  <a:pt x="19918" y="5581"/>
                  <a:pt x="19943" y="5581"/>
                </a:cubicBezTo>
              </a:path>
              <a:path w="1092" h="745">
                <a:moveTo>
                  <a:pt x="19943" y="5234"/>
                </a:moveTo>
                <a:cubicBezTo>
                  <a:pt x="19930" y="5466"/>
                  <a:pt x="19899" y="5695"/>
                  <a:pt x="19893" y="5928"/>
                </a:cubicBezTo>
                <a:cubicBezTo>
                  <a:pt x="19893" y="5945"/>
                  <a:pt x="19893" y="5961"/>
                  <a:pt x="19893" y="597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7358040" y="1857240"/>
            <a:ext cx="492120" cy="339840"/>
          </a:xfrm>
          <a:custGeom>
            <a:avLst/>
            <a:gdLst/>
            <a:ahLst/>
            <a:rect l="l" t="t" r="r" b="b"/>
            <a:pathLst>
              <a:path w="1365" h="944">
                <a:moveTo>
                  <a:pt x="20786" y="5283"/>
                </a:moveTo>
                <a:cubicBezTo>
                  <a:pt x="20682" y="5430"/>
                  <a:pt x="20579" y="5542"/>
                  <a:pt x="20439" y="5655"/>
                </a:cubicBezTo>
                <a:cubicBezTo>
                  <a:pt x="20594" y="5733"/>
                  <a:pt x="20739" y="5815"/>
                  <a:pt x="20886" y="5904"/>
                </a:cubicBezTo>
              </a:path>
              <a:path w="1365" h="944">
                <a:moveTo>
                  <a:pt x="21779" y="5531"/>
                </a:moveTo>
                <a:cubicBezTo>
                  <a:pt x="21826" y="5435"/>
                  <a:pt x="21808" y="5353"/>
                  <a:pt x="21754" y="5259"/>
                </a:cubicBezTo>
                <a:cubicBezTo>
                  <a:pt x="21676" y="5122"/>
                  <a:pt x="21595" y="5139"/>
                  <a:pt x="21481" y="5234"/>
                </a:cubicBezTo>
                <a:cubicBezTo>
                  <a:pt x="21380" y="5318"/>
                  <a:pt x="21279" y="5506"/>
                  <a:pt x="21481" y="5556"/>
                </a:cubicBezTo>
                <a:cubicBezTo>
                  <a:pt x="21617" y="5590"/>
                  <a:pt x="21729" y="5474"/>
                  <a:pt x="21754" y="5358"/>
                </a:cubicBezTo>
                <a:cubicBezTo>
                  <a:pt x="21754" y="5350"/>
                  <a:pt x="21754" y="5341"/>
                  <a:pt x="21754" y="5333"/>
                </a:cubicBezTo>
                <a:cubicBezTo>
                  <a:pt x="21776" y="5542"/>
                  <a:pt x="21754" y="5762"/>
                  <a:pt x="21754" y="5978"/>
                </a:cubicBezTo>
                <a:cubicBezTo>
                  <a:pt x="21754" y="6052"/>
                  <a:pt x="21754" y="6061"/>
                  <a:pt x="21754" y="610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769160" y="2652840"/>
            <a:ext cx="17640" cy="152280"/>
          </a:xfrm>
          <a:custGeom>
            <a:avLst/>
            <a:gdLst/>
            <a:ahLst/>
            <a:rect l="l" t="t" r="r" b="b"/>
            <a:pathLst>
              <a:path w="51" h="423">
                <a:moveTo>
                  <a:pt x="21605" y="7392"/>
                </a:moveTo>
                <a:cubicBezTo>
                  <a:pt x="21612" y="7406"/>
                  <a:pt x="21587" y="7672"/>
                  <a:pt x="21580" y="778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885080" y="2643120"/>
            <a:ext cx="125280" cy="169920"/>
          </a:xfrm>
          <a:custGeom>
            <a:avLst/>
            <a:gdLst/>
            <a:ahLst/>
            <a:rect l="l" t="t" r="r" b="b"/>
            <a:pathLst>
              <a:path w="348" h="472">
                <a:moveTo>
                  <a:pt x="22051" y="7342"/>
                </a:moveTo>
                <a:cubicBezTo>
                  <a:pt x="21920" y="7550"/>
                  <a:pt x="21845" y="7630"/>
                  <a:pt x="22002" y="7813"/>
                </a:cubicBezTo>
                <a:cubicBezTo>
                  <a:pt x="22128" y="7751"/>
                  <a:pt x="22465" y="7477"/>
                  <a:pt x="22126" y="7367"/>
                </a:cubicBezTo>
                <a:cubicBezTo>
                  <a:pt x="22076" y="7375"/>
                  <a:pt x="22027" y="7384"/>
                  <a:pt x="21977" y="739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320840" y="2581200"/>
            <a:ext cx="376200" cy="241200"/>
          </a:xfrm>
          <a:custGeom>
            <a:avLst/>
            <a:gdLst/>
            <a:ahLst/>
            <a:rect l="l" t="t" r="r" b="b"/>
            <a:pathLst>
              <a:path w="1043" h="670">
                <a:moveTo>
                  <a:pt x="4390" y="7417"/>
                </a:moveTo>
                <a:cubicBezTo>
                  <a:pt x="4507" y="7456"/>
                  <a:pt x="4583" y="7550"/>
                  <a:pt x="4663" y="7665"/>
                </a:cubicBezTo>
                <a:cubicBezTo>
                  <a:pt x="4671" y="7681"/>
                  <a:pt x="4680" y="7698"/>
                  <a:pt x="4688" y="7714"/>
                </a:cubicBezTo>
              </a:path>
              <a:path w="1043" h="670">
                <a:moveTo>
                  <a:pt x="4713" y="7342"/>
                </a:moveTo>
                <a:cubicBezTo>
                  <a:pt x="4632" y="7439"/>
                  <a:pt x="4490" y="7519"/>
                  <a:pt x="4440" y="7640"/>
                </a:cubicBezTo>
                <a:cubicBezTo>
                  <a:pt x="4420" y="7689"/>
                  <a:pt x="4420" y="7711"/>
                  <a:pt x="4390" y="7764"/>
                </a:cubicBezTo>
              </a:path>
              <a:path w="1043" h="670">
                <a:moveTo>
                  <a:pt x="3870" y="7317"/>
                </a:moveTo>
                <a:cubicBezTo>
                  <a:pt x="3843" y="7238"/>
                  <a:pt x="3869" y="7185"/>
                  <a:pt x="3969" y="7169"/>
                </a:cubicBezTo>
                <a:cubicBezTo>
                  <a:pt x="4037" y="7169"/>
                  <a:pt x="4056" y="7166"/>
                  <a:pt x="4093" y="7193"/>
                </a:cubicBezTo>
                <a:cubicBezTo>
                  <a:pt x="4085" y="7281"/>
                  <a:pt x="4072" y="7358"/>
                  <a:pt x="3994" y="7417"/>
                </a:cubicBezTo>
                <a:cubicBezTo>
                  <a:pt x="3933" y="7464"/>
                  <a:pt x="3880" y="7509"/>
                  <a:pt x="3820" y="7565"/>
                </a:cubicBezTo>
                <a:cubicBezTo>
                  <a:pt x="3742" y="7638"/>
                  <a:pt x="3707" y="7716"/>
                  <a:pt x="3671" y="7813"/>
                </a:cubicBezTo>
                <a:cubicBezTo>
                  <a:pt x="3693" y="7769"/>
                  <a:pt x="3742" y="7641"/>
                  <a:pt x="3820" y="7689"/>
                </a:cubicBezTo>
                <a:cubicBezTo>
                  <a:pt x="3970" y="7781"/>
                  <a:pt x="3903" y="7844"/>
                  <a:pt x="4093" y="7813"/>
                </a:cubicBezTo>
                <a:cubicBezTo>
                  <a:pt x="4177" y="7793"/>
                  <a:pt x="4203" y="7798"/>
                  <a:pt x="4217" y="773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2017800" y="2589120"/>
            <a:ext cx="1305000" cy="1162080"/>
          </a:xfrm>
          <a:custGeom>
            <a:avLst/>
            <a:gdLst/>
            <a:ahLst/>
            <a:rect l="l" t="t" r="r" b="b"/>
            <a:pathLst>
              <a:path w="3622" h="3226">
                <a:moveTo>
                  <a:pt x="5606" y="8830"/>
                </a:moveTo>
                <a:cubicBezTo>
                  <a:pt x="5771" y="8830"/>
                  <a:pt x="5975" y="8867"/>
                  <a:pt x="6127" y="8855"/>
                </a:cubicBezTo>
                <a:cubicBezTo>
                  <a:pt x="6205" y="8849"/>
                  <a:pt x="6268" y="8830"/>
                  <a:pt x="6350" y="8830"/>
                </a:cubicBezTo>
                <a:cubicBezTo>
                  <a:pt x="6789" y="8830"/>
                  <a:pt x="7229" y="8829"/>
                  <a:pt x="7665" y="8855"/>
                </a:cubicBezTo>
                <a:cubicBezTo>
                  <a:pt x="7863" y="8867"/>
                  <a:pt x="8063" y="8877"/>
                  <a:pt x="8260" y="8880"/>
                </a:cubicBezTo>
                <a:cubicBezTo>
                  <a:pt x="8448" y="8883"/>
                  <a:pt x="8623" y="8873"/>
                  <a:pt x="8806" y="8855"/>
                </a:cubicBezTo>
                <a:cubicBezTo>
                  <a:pt x="8897" y="8846"/>
                  <a:pt x="8991" y="8838"/>
                  <a:pt x="9079" y="8830"/>
                </a:cubicBezTo>
                <a:cubicBezTo>
                  <a:pt x="9128" y="8825"/>
                  <a:pt x="9178" y="8832"/>
                  <a:pt x="9227" y="8830"/>
                </a:cubicBezTo>
              </a:path>
              <a:path w="3622" h="3226">
                <a:moveTo>
                  <a:pt x="7293" y="7392"/>
                </a:moveTo>
                <a:cubicBezTo>
                  <a:pt x="7270" y="7496"/>
                  <a:pt x="7305" y="7597"/>
                  <a:pt x="7268" y="7714"/>
                </a:cubicBezTo>
                <a:cubicBezTo>
                  <a:pt x="7226" y="7844"/>
                  <a:pt x="7120" y="8059"/>
                  <a:pt x="6945" y="7962"/>
                </a:cubicBezTo>
                <a:cubicBezTo>
                  <a:pt x="6899" y="7893"/>
                  <a:pt x="6887" y="7873"/>
                  <a:pt x="6846" y="7838"/>
                </a:cubicBezTo>
              </a:path>
              <a:path w="3622" h="3226">
                <a:moveTo>
                  <a:pt x="7218" y="7193"/>
                </a:moveTo>
                <a:lnTo>
                  <a:pt x="7218" y="7193"/>
                </a:lnTo>
              </a:path>
              <a:path w="3622" h="3226">
                <a:moveTo>
                  <a:pt x="8235" y="10393"/>
                </a:moveTo>
                <a:cubicBezTo>
                  <a:pt x="8352" y="10420"/>
                  <a:pt x="8461" y="10418"/>
                  <a:pt x="8582" y="10418"/>
                </a:cubicBezTo>
                <a:cubicBezTo>
                  <a:pt x="8599" y="10418"/>
                  <a:pt x="8615" y="10418"/>
                  <a:pt x="8632" y="1041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3714840" y="3554280"/>
            <a:ext cx="206280" cy="177840"/>
          </a:xfrm>
          <a:custGeom>
            <a:avLst/>
            <a:gdLst/>
            <a:ahLst/>
            <a:rect l="l" t="t" r="r" b="b"/>
            <a:pathLst>
              <a:path w="571" h="497">
                <a:moveTo>
                  <a:pt x="10319" y="9971"/>
                </a:moveTo>
                <a:cubicBezTo>
                  <a:pt x="10319" y="10103"/>
                  <a:pt x="10319" y="10236"/>
                  <a:pt x="10319" y="10368"/>
                </a:cubicBezTo>
              </a:path>
              <a:path w="571" h="497">
                <a:moveTo>
                  <a:pt x="10592" y="9971"/>
                </a:moveTo>
                <a:cubicBezTo>
                  <a:pt x="10639" y="9888"/>
                  <a:pt x="10691" y="9851"/>
                  <a:pt x="10790" y="9897"/>
                </a:cubicBezTo>
                <a:cubicBezTo>
                  <a:pt x="10931" y="9963"/>
                  <a:pt x="10763" y="10079"/>
                  <a:pt x="10716" y="10120"/>
                </a:cubicBezTo>
                <a:cubicBezTo>
                  <a:pt x="10656" y="10172"/>
                  <a:pt x="10627" y="10224"/>
                  <a:pt x="10592" y="10294"/>
                </a:cubicBezTo>
                <a:cubicBezTo>
                  <a:pt x="10568" y="10342"/>
                  <a:pt x="10560" y="10361"/>
                  <a:pt x="10567" y="10294"/>
                </a:cubicBezTo>
                <a:cubicBezTo>
                  <a:pt x="10664" y="10272"/>
                  <a:pt x="10700" y="10306"/>
                  <a:pt x="10790" y="10344"/>
                </a:cubicBezTo>
                <a:cubicBezTo>
                  <a:pt x="10847" y="10363"/>
                  <a:pt x="10854" y="10371"/>
                  <a:pt x="10889" y="1036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072040" y="2536920"/>
            <a:ext cx="1536840" cy="1231920"/>
          </a:xfrm>
          <a:custGeom>
            <a:avLst/>
            <a:gdLst/>
            <a:ahLst/>
            <a:rect l="l" t="t" r="r" b="b"/>
            <a:pathLst>
              <a:path w="4267" h="3424">
                <a:moveTo>
                  <a:pt x="14436" y="7045"/>
                </a:moveTo>
                <a:cubicBezTo>
                  <a:pt x="14531" y="7106"/>
                  <a:pt x="14626" y="7155"/>
                  <a:pt x="14734" y="7193"/>
                </a:cubicBezTo>
                <a:cubicBezTo>
                  <a:pt x="14759" y="7201"/>
                  <a:pt x="14783" y="7210"/>
                  <a:pt x="14808" y="7218"/>
                </a:cubicBezTo>
                <a:cubicBezTo>
                  <a:pt x="14731" y="7361"/>
                  <a:pt x="14571" y="7454"/>
                  <a:pt x="14436" y="7565"/>
                </a:cubicBezTo>
                <a:cubicBezTo>
                  <a:pt x="14412" y="7590"/>
                  <a:pt x="14404" y="7599"/>
                  <a:pt x="14387" y="7615"/>
                </a:cubicBezTo>
              </a:path>
              <a:path w="4267" h="3424">
                <a:moveTo>
                  <a:pt x="14908" y="7466"/>
                </a:moveTo>
                <a:cubicBezTo>
                  <a:pt x="14937" y="7436"/>
                  <a:pt x="14948" y="7422"/>
                  <a:pt x="14957" y="7392"/>
                </a:cubicBezTo>
                <a:cubicBezTo>
                  <a:pt x="14841" y="7557"/>
                  <a:pt x="14722" y="7714"/>
                  <a:pt x="14585" y="7863"/>
                </a:cubicBezTo>
              </a:path>
              <a:path w="4267" h="3424">
                <a:moveTo>
                  <a:pt x="14089" y="9203"/>
                </a:moveTo>
                <a:lnTo>
                  <a:pt x="14089" y="9203"/>
                </a:lnTo>
              </a:path>
              <a:path w="4267" h="3424">
                <a:moveTo>
                  <a:pt x="14486" y="9203"/>
                </a:moveTo>
                <a:cubicBezTo>
                  <a:pt x="14465" y="9075"/>
                  <a:pt x="14658" y="9005"/>
                  <a:pt x="14784" y="8979"/>
                </a:cubicBezTo>
                <a:cubicBezTo>
                  <a:pt x="14817" y="8979"/>
                  <a:pt x="14850" y="8979"/>
                  <a:pt x="14883" y="8979"/>
                </a:cubicBezTo>
                <a:cubicBezTo>
                  <a:pt x="14896" y="9263"/>
                  <a:pt x="14786" y="9399"/>
                  <a:pt x="14610" y="9624"/>
                </a:cubicBezTo>
                <a:cubicBezTo>
                  <a:pt x="14532" y="9721"/>
                  <a:pt x="14515" y="9732"/>
                  <a:pt x="14486" y="9798"/>
                </a:cubicBezTo>
                <a:cubicBezTo>
                  <a:pt x="14678" y="9629"/>
                  <a:pt x="14718" y="9618"/>
                  <a:pt x="14957" y="9699"/>
                </a:cubicBezTo>
                <a:cubicBezTo>
                  <a:pt x="15081" y="9740"/>
                  <a:pt x="15106" y="9748"/>
                  <a:pt x="15180" y="9773"/>
                </a:cubicBezTo>
              </a:path>
              <a:path w="4267" h="3424">
                <a:moveTo>
                  <a:pt x="15354" y="9376"/>
                </a:moveTo>
                <a:cubicBezTo>
                  <a:pt x="15405" y="9528"/>
                  <a:pt x="15476" y="9657"/>
                  <a:pt x="15553" y="9798"/>
                </a:cubicBezTo>
              </a:path>
              <a:path w="4267" h="3424">
                <a:moveTo>
                  <a:pt x="15627" y="9302"/>
                </a:moveTo>
                <a:cubicBezTo>
                  <a:pt x="15515" y="9457"/>
                  <a:pt x="15424" y="9626"/>
                  <a:pt x="15304" y="9773"/>
                </a:cubicBezTo>
              </a:path>
              <a:path w="4267" h="3424">
                <a:moveTo>
                  <a:pt x="15974" y="9500"/>
                </a:moveTo>
                <a:cubicBezTo>
                  <a:pt x="16027" y="9665"/>
                  <a:pt x="16133" y="9937"/>
                  <a:pt x="15999" y="10096"/>
                </a:cubicBezTo>
                <a:cubicBezTo>
                  <a:pt x="15812" y="10319"/>
                  <a:pt x="15640" y="10156"/>
                  <a:pt x="15553" y="9996"/>
                </a:cubicBezTo>
              </a:path>
              <a:path w="4267" h="3424">
                <a:moveTo>
                  <a:pt x="15949" y="9178"/>
                </a:moveTo>
                <a:lnTo>
                  <a:pt x="15949" y="9178"/>
                </a:lnTo>
              </a:path>
              <a:path w="4267" h="3424">
                <a:moveTo>
                  <a:pt x="16545" y="9203"/>
                </a:moveTo>
                <a:cubicBezTo>
                  <a:pt x="16611" y="9226"/>
                  <a:pt x="16877" y="9300"/>
                  <a:pt x="16892" y="9376"/>
                </a:cubicBezTo>
                <a:cubicBezTo>
                  <a:pt x="16919" y="9517"/>
                  <a:pt x="16708" y="9605"/>
                  <a:pt x="16619" y="9674"/>
                </a:cubicBezTo>
              </a:path>
              <a:path w="4267" h="3424">
                <a:moveTo>
                  <a:pt x="17140" y="9500"/>
                </a:moveTo>
                <a:cubicBezTo>
                  <a:pt x="17054" y="9629"/>
                  <a:pt x="16963" y="9749"/>
                  <a:pt x="16867" y="9872"/>
                </a:cubicBezTo>
              </a:path>
              <a:path w="4267" h="3424">
                <a:moveTo>
                  <a:pt x="17537" y="9178"/>
                </a:moveTo>
                <a:cubicBezTo>
                  <a:pt x="17557" y="9339"/>
                  <a:pt x="17544" y="9486"/>
                  <a:pt x="17537" y="9649"/>
                </a:cubicBezTo>
              </a:path>
              <a:path w="4267" h="3424">
                <a:moveTo>
                  <a:pt x="18107" y="9103"/>
                </a:moveTo>
                <a:cubicBezTo>
                  <a:pt x="17941" y="9271"/>
                  <a:pt x="17911" y="9364"/>
                  <a:pt x="17934" y="9599"/>
                </a:cubicBezTo>
                <a:cubicBezTo>
                  <a:pt x="18153" y="9620"/>
                  <a:pt x="18355" y="9594"/>
                  <a:pt x="18355" y="9302"/>
                </a:cubicBezTo>
                <a:cubicBezTo>
                  <a:pt x="18355" y="9169"/>
                  <a:pt x="18249" y="9125"/>
                  <a:pt x="18157" y="9079"/>
                </a:cubicBezTo>
              </a:path>
              <a:path w="4267" h="3424">
                <a:moveTo>
                  <a:pt x="17338" y="9947"/>
                </a:moveTo>
                <a:cubicBezTo>
                  <a:pt x="17215" y="10032"/>
                  <a:pt x="17092" y="10114"/>
                  <a:pt x="16966" y="10195"/>
                </a:cubicBezTo>
                <a:cubicBezTo>
                  <a:pt x="17083" y="10240"/>
                  <a:pt x="17161" y="10281"/>
                  <a:pt x="17264" y="10344"/>
                </a:cubicBezTo>
                <a:cubicBezTo>
                  <a:pt x="17281" y="10352"/>
                  <a:pt x="17297" y="10360"/>
                  <a:pt x="17314" y="10368"/>
                </a:cubicBezTo>
              </a:path>
              <a:path w="4267" h="3424">
                <a:moveTo>
                  <a:pt x="16867" y="10368"/>
                </a:moveTo>
                <a:cubicBezTo>
                  <a:pt x="16894" y="10342"/>
                  <a:pt x="17004" y="10414"/>
                  <a:pt x="17066" y="10443"/>
                </a:cubicBezTo>
                <a:cubicBezTo>
                  <a:pt x="17106" y="10463"/>
                  <a:pt x="17112" y="10472"/>
                  <a:pt x="17140" y="1046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250040" y="3276720"/>
            <a:ext cx="1019160" cy="474480"/>
          </a:xfrm>
          <a:custGeom>
            <a:avLst/>
            <a:gdLst/>
            <a:ahLst/>
            <a:rect l="l" t="t" r="r" b="b"/>
            <a:pathLst>
              <a:path w="2829" h="1316">
                <a:moveTo>
                  <a:pt x="20315" y="9277"/>
                </a:moveTo>
                <a:cubicBezTo>
                  <a:pt x="20341" y="9174"/>
                  <a:pt x="20443" y="9103"/>
                  <a:pt x="20563" y="9103"/>
                </a:cubicBezTo>
                <a:cubicBezTo>
                  <a:pt x="20580" y="9111"/>
                  <a:pt x="20596" y="9120"/>
                  <a:pt x="20613" y="9128"/>
                </a:cubicBezTo>
                <a:cubicBezTo>
                  <a:pt x="20675" y="9364"/>
                  <a:pt x="20520" y="9547"/>
                  <a:pt x="20340" y="9723"/>
                </a:cubicBezTo>
                <a:cubicBezTo>
                  <a:pt x="20218" y="9825"/>
                  <a:pt x="20187" y="9837"/>
                  <a:pt x="20141" y="9922"/>
                </a:cubicBezTo>
                <a:cubicBezTo>
                  <a:pt x="20247" y="9855"/>
                  <a:pt x="20364" y="9784"/>
                  <a:pt x="20489" y="9823"/>
                </a:cubicBezTo>
                <a:cubicBezTo>
                  <a:pt x="20526" y="9860"/>
                  <a:pt x="20545" y="9884"/>
                  <a:pt x="20563" y="9922"/>
                </a:cubicBezTo>
              </a:path>
              <a:path w="2829" h="1316">
                <a:moveTo>
                  <a:pt x="20910" y="9699"/>
                </a:moveTo>
                <a:cubicBezTo>
                  <a:pt x="20958" y="9880"/>
                  <a:pt x="21026" y="10118"/>
                  <a:pt x="20861" y="10269"/>
                </a:cubicBezTo>
                <a:cubicBezTo>
                  <a:pt x="20730" y="10389"/>
                  <a:pt x="20639" y="10237"/>
                  <a:pt x="20563" y="10170"/>
                </a:cubicBezTo>
              </a:path>
              <a:path w="2829" h="1316">
                <a:moveTo>
                  <a:pt x="20861" y="9376"/>
                </a:moveTo>
                <a:lnTo>
                  <a:pt x="20861" y="9376"/>
                </a:lnTo>
              </a:path>
              <a:path w="2829" h="1316">
                <a:moveTo>
                  <a:pt x="21258" y="9203"/>
                </a:moveTo>
                <a:cubicBezTo>
                  <a:pt x="21383" y="9232"/>
                  <a:pt x="21532" y="9310"/>
                  <a:pt x="21654" y="9376"/>
                </a:cubicBezTo>
                <a:cubicBezTo>
                  <a:pt x="21662" y="9384"/>
                  <a:pt x="21671" y="9393"/>
                  <a:pt x="21679" y="9401"/>
                </a:cubicBezTo>
                <a:cubicBezTo>
                  <a:pt x="21581" y="9543"/>
                  <a:pt x="21433" y="9623"/>
                  <a:pt x="21282" y="9723"/>
                </a:cubicBezTo>
              </a:path>
              <a:path w="2829" h="1316">
                <a:moveTo>
                  <a:pt x="21853" y="9649"/>
                </a:moveTo>
                <a:cubicBezTo>
                  <a:pt x="21825" y="9619"/>
                  <a:pt x="21677" y="9736"/>
                  <a:pt x="21605" y="9823"/>
                </a:cubicBezTo>
                <a:cubicBezTo>
                  <a:pt x="21544" y="9904"/>
                  <a:pt x="21539" y="9926"/>
                  <a:pt x="21481" y="9947"/>
                </a:cubicBezTo>
              </a:path>
              <a:path w="2829" h="1316">
                <a:moveTo>
                  <a:pt x="22349" y="9277"/>
                </a:moveTo>
                <a:cubicBezTo>
                  <a:pt x="22349" y="9464"/>
                  <a:pt x="22316" y="9617"/>
                  <a:pt x="22275" y="9798"/>
                </a:cubicBezTo>
              </a:path>
              <a:path w="2829" h="1316">
                <a:moveTo>
                  <a:pt x="22721" y="9327"/>
                </a:moveTo>
                <a:cubicBezTo>
                  <a:pt x="22608" y="9372"/>
                  <a:pt x="22498" y="9477"/>
                  <a:pt x="22498" y="9624"/>
                </a:cubicBezTo>
                <a:cubicBezTo>
                  <a:pt x="22498" y="9785"/>
                  <a:pt x="22800" y="9732"/>
                  <a:pt x="22870" y="9674"/>
                </a:cubicBezTo>
                <a:cubicBezTo>
                  <a:pt x="22916" y="9636"/>
                  <a:pt x="23026" y="9390"/>
                  <a:pt x="22969" y="9327"/>
                </a:cubicBezTo>
                <a:cubicBezTo>
                  <a:pt x="22880" y="9282"/>
                  <a:pt x="22857" y="9269"/>
                  <a:pt x="22796" y="9252"/>
                </a:cubicBezTo>
              </a:path>
              <a:path w="2829" h="1316">
                <a:moveTo>
                  <a:pt x="22671" y="9996"/>
                </a:moveTo>
                <a:cubicBezTo>
                  <a:pt x="22562" y="9904"/>
                  <a:pt x="22454" y="9901"/>
                  <a:pt x="22349" y="10021"/>
                </a:cubicBezTo>
                <a:cubicBezTo>
                  <a:pt x="22341" y="10046"/>
                  <a:pt x="22332" y="10071"/>
                  <a:pt x="22324" y="10096"/>
                </a:cubicBezTo>
                <a:cubicBezTo>
                  <a:pt x="22491" y="10166"/>
                  <a:pt x="22520" y="10148"/>
                  <a:pt x="22647" y="10021"/>
                </a:cubicBezTo>
                <a:cubicBezTo>
                  <a:pt x="22631" y="10134"/>
                  <a:pt x="22611" y="10276"/>
                  <a:pt x="22572" y="10393"/>
                </a:cubicBezTo>
                <a:cubicBezTo>
                  <a:pt x="22564" y="10401"/>
                  <a:pt x="22555" y="10410"/>
                  <a:pt x="22547" y="1041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973080" y="3589200"/>
            <a:ext cx="1384200" cy="546120"/>
          </a:xfrm>
          <a:custGeom>
            <a:avLst/>
            <a:gdLst/>
            <a:ahLst/>
            <a:rect l="l" t="t" r="r" b="b"/>
            <a:pathLst>
              <a:path w="3845" h="1515">
                <a:moveTo>
                  <a:pt x="2704" y="11485"/>
                </a:moveTo>
                <a:cubicBezTo>
                  <a:pt x="2842" y="11474"/>
                  <a:pt x="2986" y="11475"/>
                  <a:pt x="3125" y="11460"/>
                </a:cubicBezTo>
                <a:cubicBezTo>
                  <a:pt x="3340" y="11437"/>
                  <a:pt x="3555" y="11405"/>
                  <a:pt x="3770" y="11385"/>
                </a:cubicBezTo>
                <a:cubicBezTo>
                  <a:pt x="3979" y="11366"/>
                  <a:pt x="4205" y="11320"/>
                  <a:pt x="4415" y="11336"/>
                </a:cubicBezTo>
                <a:cubicBezTo>
                  <a:pt x="4621" y="11351"/>
                  <a:pt x="4829" y="11345"/>
                  <a:pt x="5035" y="11361"/>
                </a:cubicBezTo>
                <a:cubicBezTo>
                  <a:pt x="5218" y="11375"/>
                  <a:pt x="5400" y="11422"/>
                  <a:pt x="5581" y="11435"/>
                </a:cubicBezTo>
                <a:cubicBezTo>
                  <a:pt x="5771" y="11449"/>
                  <a:pt x="5962" y="11444"/>
                  <a:pt x="6152" y="11460"/>
                </a:cubicBezTo>
                <a:cubicBezTo>
                  <a:pt x="6294" y="11472"/>
                  <a:pt x="6408" y="11468"/>
                  <a:pt x="6548" y="11460"/>
                </a:cubicBezTo>
              </a:path>
              <a:path w="3845" h="1515">
                <a:moveTo>
                  <a:pt x="4812" y="10195"/>
                </a:moveTo>
                <a:cubicBezTo>
                  <a:pt x="4844" y="10296"/>
                  <a:pt x="4901" y="10423"/>
                  <a:pt x="4812" y="10517"/>
                </a:cubicBezTo>
                <a:cubicBezTo>
                  <a:pt x="4725" y="10610"/>
                  <a:pt x="4649" y="10488"/>
                  <a:pt x="4589" y="10443"/>
                </a:cubicBezTo>
              </a:path>
              <a:path w="3845" h="1515">
                <a:moveTo>
                  <a:pt x="4762" y="9971"/>
                </a:moveTo>
                <a:lnTo>
                  <a:pt x="4762" y="9971"/>
                </a:ln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5884920" y="4276800"/>
            <a:ext cx="169920" cy="287280"/>
          </a:xfrm>
          <a:custGeom>
            <a:avLst/>
            <a:gdLst/>
            <a:ahLst/>
            <a:rect l="l" t="t" r="r" b="b"/>
            <a:pathLst>
              <a:path w="473" h="795">
                <a:moveTo>
                  <a:pt x="16694" y="12030"/>
                </a:moveTo>
                <a:cubicBezTo>
                  <a:pt x="16824" y="12161"/>
                  <a:pt x="16860" y="12371"/>
                  <a:pt x="16768" y="12551"/>
                </a:cubicBezTo>
                <a:cubicBezTo>
                  <a:pt x="16649" y="12783"/>
                  <a:pt x="16435" y="12655"/>
                  <a:pt x="16371" y="12477"/>
                </a:cubicBezTo>
                <a:cubicBezTo>
                  <a:pt x="16350" y="12352"/>
                  <a:pt x="16334" y="12325"/>
                  <a:pt x="16371" y="12254"/>
                </a:cubicBezTo>
              </a:path>
              <a:path w="473" h="795">
                <a:moveTo>
                  <a:pt x="16694" y="11881"/>
                </a:moveTo>
                <a:lnTo>
                  <a:pt x="16694" y="11881"/>
                </a:ln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6224760" y="4357800"/>
            <a:ext cx="79200" cy="17280"/>
          </a:xfrm>
          <a:custGeom>
            <a:avLst/>
            <a:gdLst/>
            <a:ahLst/>
            <a:rect l="l" t="t" r="r" b="b"/>
            <a:pathLst>
              <a:path w="224" h="50">
                <a:moveTo>
                  <a:pt x="17289" y="12154"/>
                </a:moveTo>
                <a:cubicBezTo>
                  <a:pt x="17366" y="12135"/>
                  <a:pt x="17434" y="12116"/>
                  <a:pt x="17512" y="12105"/>
                </a:cubicBezTo>
              </a:path>
            </a:pathLst>
          </a:custGeom>
          <a:noFill/>
          <a:ln cap="rnd" w="3492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56" name=""/>
          <p:cNvSpPr/>
          <p:nvPr/>
        </p:nvSpPr>
        <p:spPr>
          <a:xfrm>
            <a:off x="6411960" y="4276800"/>
            <a:ext cx="241200" cy="162000"/>
          </a:xfrm>
          <a:custGeom>
            <a:avLst/>
            <a:gdLst/>
            <a:ahLst/>
            <a:rect l="l" t="t" r="r" b="b"/>
            <a:pathLst>
              <a:path w="670" h="448">
                <a:moveTo>
                  <a:pt x="17810" y="11881"/>
                </a:moveTo>
                <a:cubicBezTo>
                  <a:pt x="17817" y="12015"/>
                  <a:pt x="17835" y="12144"/>
                  <a:pt x="17835" y="12278"/>
                </a:cubicBezTo>
              </a:path>
              <a:path w="670" h="448">
                <a:moveTo>
                  <a:pt x="18157" y="11906"/>
                </a:moveTo>
                <a:cubicBezTo>
                  <a:pt x="18249" y="11885"/>
                  <a:pt x="18290" y="11879"/>
                  <a:pt x="18380" y="11906"/>
                </a:cubicBezTo>
                <a:cubicBezTo>
                  <a:pt x="18353" y="12098"/>
                  <a:pt x="18268" y="12167"/>
                  <a:pt x="18132" y="12303"/>
                </a:cubicBezTo>
                <a:cubicBezTo>
                  <a:pt x="18249" y="12309"/>
                  <a:pt x="18363" y="12320"/>
                  <a:pt x="18479" y="1232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6912000" y="4276800"/>
            <a:ext cx="133200" cy="216000"/>
          </a:xfrm>
          <a:custGeom>
            <a:avLst/>
            <a:gdLst/>
            <a:ahLst/>
            <a:rect l="l" t="t" r="r" b="b"/>
            <a:pathLst>
              <a:path w="373" h="597">
                <a:moveTo>
                  <a:pt x="19521" y="11881"/>
                </a:moveTo>
                <a:cubicBezTo>
                  <a:pt x="19419" y="11925"/>
                  <a:pt x="19323" y="11978"/>
                  <a:pt x="19224" y="12030"/>
                </a:cubicBezTo>
                <a:cubicBezTo>
                  <a:pt x="19311" y="12131"/>
                  <a:pt x="19444" y="12142"/>
                  <a:pt x="19546" y="12229"/>
                </a:cubicBezTo>
                <a:cubicBezTo>
                  <a:pt x="19566" y="12269"/>
                  <a:pt x="19575" y="12275"/>
                  <a:pt x="19571" y="12303"/>
                </a:cubicBezTo>
              </a:path>
              <a:path w="373" h="597">
                <a:moveTo>
                  <a:pt x="19199" y="12278"/>
                </a:moveTo>
                <a:cubicBezTo>
                  <a:pt x="19280" y="12339"/>
                  <a:pt x="19350" y="12404"/>
                  <a:pt x="19422" y="1247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205760" y="4286160"/>
            <a:ext cx="144360" cy="169920"/>
          </a:xfrm>
          <a:custGeom>
            <a:avLst/>
            <a:gdLst/>
            <a:ahLst/>
            <a:rect l="l" t="t" r="r" b="b"/>
            <a:pathLst>
              <a:path w="398" h="473">
                <a:moveTo>
                  <a:pt x="20365" y="12179"/>
                </a:moveTo>
                <a:cubicBezTo>
                  <a:pt x="20399" y="12117"/>
                  <a:pt x="20453" y="12050"/>
                  <a:pt x="20389" y="11981"/>
                </a:cubicBezTo>
                <a:cubicBezTo>
                  <a:pt x="20336" y="11923"/>
                  <a:pt x="20162" y="11859"/>
                  <a:pt x="20092" y="11931"/>
                </a:cubicBezTo>
                <a:cubicBezTo>
                  <a:pt x="20029" y="12035"/>
                  <a:pt x="20004" y="12052"/>
                  <a:pt x="20017" y="12129"/>
                </a:cubicBezTo>
                <a:cubicBezTo>
                  <a:pt x="20131" y="12198"/>
                  <a:pt x="20204" y="12193"/>
                  <a:pt x="20315" y="12105"/>
                </a:cubicBezTo>
                <a:cubicBezTo>
                  <a:pt x="20345" y="12075"/>
                  <a:pt x="20356" y="12061"/>
                  <a:pt x="20365" y="12030"/>
                </a:cubicBezTo>
                <a:cubicBezTo>
                  <a:pt x="20357" y="12148"/>
                  <a:pt x="20332" y="12262"/>
                  <a:pt x="20315" y="1237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393920" y="6705720"/>
            <a:ext cx="1440" cy="1440"/>
          </a:xfrm>
          <a:custGeom>
            <a:avLst/>
            <a:gdLst/>
            <a:ahLst/>
            <a:rect l="l" t="t" r="r" b="b"/>
            <a:pathLst>
              <a:path w="1" h="1">
                <a:moveTo>
                  <a:pt x="3870" y="18628"/>
                </a:moveTo>
                <a:lnTo>
                  <a:pt x="3870" y="18628"/>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2" presetSubtype="4">
                                  <p:stCondLst>
                                    <p:cond delay="0"/>
                                  </p:stCondLst>
                                  <p:childTnLst>
                                    <p:set>
                                      <p:cBhvr>
                                        <p:cTn id="170" dur="1" fill="hold">
                                          <p:stCondLst>
                                            <p:cond delay="0"/>
                                          </p:stCondLst>
                                        </p:cTn>
                                        <p:tgtEl>
                                          <p:spTgt spid="236"/>
                                        </p:tgtEl>
                                        <p:attrNameLst>
                                          <p:attrName>style.visibility</p:attrName>
                                        </p:attrNameLst>
                                      </p:cBhvr>
                                      <p:to>
                                        <p:strVal val="visible"/>
                                      </p:to>
                                    </p:set>
                                    <p:anim calcmode="lin" valueType="num">
                                      <p:cBhvr additive="base">
                                        <p:cTn id="171" dur="500" fill="hold"/>
                                        <p:tgtEl>
                                          <p:spTgt spid="236"/>
                                        </p:tgtEl>
                                        <p:attrNameLst>
                                          <p:attrName>ppt_x</p:attrName>
                                        </p:attrNameLst>
                                      </p:cBhvr>
                                      <p:tavLst>
                                        <p:tav tm="0">
                                          <p:val>
                                            <p:strVal val="#ppt_x"/>
                                          </p:val>
                                        </p:tav>
                                        <p:tav tm="100000">
                                          <p:val>
                                            <p:strVal val="#ppt_x"/>
                                          </p:val>
                                        </p:tav>
                                      </p:tavLst>
                                    </p:anim>
                                    <p:anim calcmode="lin" valueType="num">
                                      <p:cBhvr additive="base">
                                        <p:cTn id="172"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237">
                                            <p:txEl>
                                              <p:pRg st="0" end="0"/>
                                            </p:txEl>
                                          </p:spTgt>
                                        </p:tgtEl>
                                        <p:attrNameLst>
                                          <p:attrName>style.visibility</p:attrName>
                                        </p:attrNameLst>
                                      </p:cBhvr>
                                      <p:to>
                                        <p:strVal val="visible"/>
                                      </p:to>
                                    </p:set>
                                    <p:anim calcmode="lin" valueType="num">
                                      <p:cBhvr additive="base">
                                        <p:cTn id="177" dur="500" fill="hold"/>
                                        <p:tgtEl>
                                          <p:spTgt spid="237">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2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237">
                                            <p:txEl>
                                              <p:pRg st="2" end="2"/>
                                            </p:txEl>
                                          </p:spTgt>
                                        </p:tgtEl>
                                        <p:attrNameLst>
                                          <p:attrName>style.visibility</p:attrName>
                                        </p:attrNameLst>
                                      </p:cBhvr>
                                      <p:to>
                                        <p:strVal val="visible"/>
                                      </p:to>
                                    </p:set>
                                    <p:anim calcmode="lin" valueType="num">
                                      <p:cBhvr additive="base">
                                        <p:cTn id="183" dur="500" fill="hold"/>
                                        <p:tgtEl>
                                          <p:spTgt spid="237">
                                            <p:txEl>
                                              <p:pRg st="2" end="2"/>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2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237">
                                            <p:txEl>
                                              <p:pRg st="4" end="4"/>
                                            </p:txEl>
                                          </p:spTgt>
                                        </p:tgtEl>
                                        <p:attrNameLst>
                                          <p:attrName>style.visibility</p:attrName>
                                        </p:attrNameLst>
                                      </p:cBhvr>
                                      <p:to>
                                        <p:strVal val="visible"/>
                                      </p:to>
                                    </p:set>
                                    <p:anim calcmode="lin" valueType="num">
                                      <p:cBhvr additive="base">
                                        <p:cTn id="189" dur="500" fill="hold"/>
                                        <p:tgtEl>
                                          <p:spTgt spid="237">
                                            <p:txEl>
                                              <p:pRg st="4" end="4"/>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23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2860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Objective: </a:t>
            </a:r>
            <a:r>
              <a:rPr b="0" lang="en-US" sz="2000" spc="-1" strike="noStrike">
                <a:solidFill>
                  <a:srgbClr val="000000"/>
                </a:solidFill>
                <a:latin typeface="Comic Sans MS"/>
              </a:rPr>
              <a:t>Students will identify and write equations and inequalities to represent relationships.</a:t>
            </a:r>
            <a:r>
              <a:rPr b="0" lang="en-US" sz="2000" spc="-1" strike="noStrike">
                <a:solidFill>
                  <a:srgbClr val="ff0000"/>
                </a:solidFill>
                <a:latin typeface="Comic Sans MS"/>
              </a:rPr>
              <a:t> </a:t>
            </a:r>
            <a:br>
              <a:rPr sz="2000"/>
            </a:br>
            <a:r>
              <a:rPr b="0" lang="en-US" sz="2000" spc="-1" strike="noStrike">
                <a:solidFill>
                  <a:srgbClr val="ff0000"/>
                </a:solidFill>
                <a:latin typeface="Comic Sans MS"/>
              </a:rPr>
              <a:t>Examples: Write an inequality for each sentence.</a:t>
            </a:r>
            <a:endParaRPr b="0" lang="en-US" sz="2000" spc="-1" strike="noStrike">
              <a:solidFill>
                <a:srgbClr val="000000"/>
              </a:solidFill>
              <a:latin typeface="Comic Sans MS"/>
            </a:endParaRPr>
          </a:p>
        </p:txBody>
      </p:sp>
      <p:sp>
        <p:nvSpPr>
          <p:cNvPr id="261" name="PlaceHolder 2"/>
          <p:cNvSpPr>
            <a:spLocks noGrp="1"/>
          </p:cNvSpPr>
          <p:nvPr>
            <p:ph/>
          </p:nvPr>
        </p:nvSpPr>
        <p:spPr>
          <a:xfrm>
            <a:off x="685800" y="1371600"/>
            <a:ext cx="76960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 5 more than a number is greater than 12</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 42 minus a number is less than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 n divided by 7 is less than or equal to 21</a:t>
            </a:r>
            <a:endParaRPr b="0" lang="en-US" sz="2800" spc="-1" strike="noStrike">
              <a:solidFill>
                <a:srgbClr val="000000"/>
              </a:solidFill>
              <a:latin typeface="Comic Sans MS"/>
            </a:endParaRPr>
          </a:p>
        </p:txBody>
      </p:sp>
      <p:graphicFrame>
        <p:nvGraphicFramePr>
          <p:cNvPr id="262" name=""/>
          <p:cNvGraphicFramePr/>
          <p:nvPr/>
        </p:nvGraphicFramePr>
        <p:xfrm>
          <a:off x="6477120" y="3124080"/>
          <a:ext cx="698400" cy="939960"/>
        </p:xfrm>
        <a:graphic>
          <a:graphicData uri="http://schemas.openxmlformats.org/presentationml/2006/ole">
            <p:oleObj r:id="rId1" spid="">
              <p:embed/>
              <p:pic>
                <p:nvPicPr>
                  <p:cNvPr id="263" name="" descr=""/>
                  <p:cNvPicPr/>
                  <p:nvPr/>
                </p:nvPicPr>
                <p:blipFill>
                  <a:blip r:embed="rId2"/>
                  <a:stretch/>
                </p:blipFill>
                <p:spPr>
                  <a:xfrm>
                    <a:off x="6477120" y="3124080"/>
                    <a:ext cx="698400" cy="939960"/>
                  </a:xfrm>
                  <a:prstGeom prst="rect">
                    <a:avLst/>
                  </a:prstGeom>
                  <a:ln w="0">
                    <a:noFill/>
                  </a:ln>
                </p:spPr>
              </p:pic>
            </p:oleObj>
          </a:graphicData>
        </a:graphic>
      </p:graphicFrame>
      <p:sp>
        <p:nvSpPr>
          <p:cNvPr id="264" name=""/>
          <p:cNvSpPr/>
          <p:nvPr/>
        </p:nvSpPr>
        <p:spPr>
          <a:xfrm>
            <a:off x="1446120" y="1197000"/>
            <a:ext cx="117720" cy="160200"/>
          </a:xfrm>
          <a:custGeom>
            <a:avLst/>
            <a:gdLst/>
            <a:ahLst/>
            <a:rect l="l" t="t" r="r" b="b"/>
            <a:pathLst>
              <a:path w="324" h="447">
                <a:moveTo>
                  <a:pt x="4316" y="3349"/>
                </a:moveTo>
                <a:cubicBezTo>
                  <a:pt x="4279" y="3312"/>
                  <a:pt x="4191" y="3324"/>
                  <a:pt x="4118" y="3324"/>
                </a:cubicBezTo>
                <a:cubicBezTo>
                  <a:pt x="4028" y="3324"/>
                  <a:pt x="4043" y="3438"/>
                  <a:pt x="4043" y="3497"/>
                </a:cubicBezTo>
                <a:cubicBezTo>
                  <a:pt x="4047" y="3497"/>
                  <a:pt x="4297" y="3439"/>
                  <a:pt x="4316" y="3473"/>
                </a:cubicBezTo>
                <a:cubicBezTo>
                  <a:pt x="4363" y="3556"/>
                  <a:pt x="4363" y="3685"/>
                  <a:pt x="4266" y="3721"/>
                </a:cubicBezTo>
                <a:cubicBezTo>
                  <a:pt x="4168" y="3757"/>
                  <a:pt x="4110" y="3764"/>
                  <a:pt x="4018" y="374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2160720" y="1303200"/>
            <a:ext cx="117360" cy="117720"/>
          </a:xfrm>
          <a:custGeom>
            <a:avLst/>
            <a:gdLst/>
            <a:ahLst/>
            <a:rect l="l" t="t" r="r" b="b"/>
            <a:pathLst>
              <a:path w="323" h="324">
                <a:moveTo>
                  <a:pt x="6176" y="3621"/>
                </a:moveTo>
                <a:cubicBezTo>
                  <a:pt x="6157" y="3731"/>
                  <a:pt x="6152" y="3832"/>
                  <a:pt x="6152" y="3944"/>
                </a:cubicBezTo>
              </a:path>
              <a:path w="323" h="324">
                <a:moveTo>
                  <a:pt x="6003" y="3746"/>
                </a:moveTo>
                <a:cubicBezTo>
                  <a:pt x="6110" y="3746"/>
                  <a:pt x="6218" y="3746"/>
                  <a:pt x="6325" y="374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2197080" y="1276200"/>
            <a:ext cx="3286080" cy="2152800"/>
          </a:xfrm>
          <a:custGeom>
            <a:avLst/>
            <a:gdLst/>
            <a:ahLst/>
            <a:rect l="l" t="t" r="r" b="b"/>
            <a:pathLst>
              <a:path w="9129" h="5979">
                <a:moveTo>
                  <a:pt x="11435" y="3547"/>
                </a:moveTo>
                <a:cubicBezTo>
                  <a:pt x="11417" y="3691"/>
                  <a:pt x="11410" y="3824"/>
                  <a:pt x="11410" y="3969"/>
                </a:cubicBezTo>
              </a:path>
              <a:path w="9129" h="5979">
                <a:moveTo>
                  <a:pt x="11633" y="3597"/>
                </a:moveTo>
                <a:cubicBezTo>
                  <a:pt x="11583" y="3664"/>
                  <a:pt x="11524" y="3694"/>
                  <a:pt x="11460" y="3746"/>
                </a:cubicBezTo>
                <a:cubicBezTo>
                  <a:pt x="11513" y="3798"/>
                  <a:pt x="11541" y="3860"/>
                  <a:pt x="11584" y="3919"/>
                </a:cubicBezTo>
                <a:cubicBezTo>
                  <a:pt x="11592" y="3927"/>
                  <a:pt x="11601" y="3936"/>
                  <a:pt x="11609" y="3944"/>
                </a:cubicBezTo>
              </a:path>
              <a:path w="9129" h="5979">
                <a:moveTo>
                  <a:pt x="9227" y="5531"/>
                </a:moveTo>
                <a:cubicBezTo>
                  <a:pt x="9084" y="5531"/>
                  <a:pt x="8948" y="5515"/>
                  <a:pt x="8806" y="5507"/>
                </a:cubicBezTo>
                <a:cubicBezTo>
                  <a:pt x="8794" y="5640"/>
                  <a:pt x="8765" y="5770"/>
                  <a:pt x="8756" y="5904"/>
                </a:cubicBezTo>
                <a:cubicBezTo>
                  <a:pt x="8861" y="5889"/>
                  <a:pt x="8950" y="5835"/>
                  <a:pt x="9054" y="5879"/>
                </a:cubicBezTo>
                <a:cubicBezTo>
                  <a:pt x="9209" y="5945"/>
                  <a:pt x="9160" y="6157"/>
                  <a:pt x="9029" y="6226"/>
                </a:cubicBezTo>
                <a:cubicBezTo>
                  <a:pt x="8904" y="6292"/>
                  <a:pt x="8741" y="6261"/>
                  <a:pt x="8657" y="6176"/>
                </a:cubicBezTo>
              </a:path>
              <a:path w="9129" h="5979">
                <a:moveTo>
                  <a:pt x="9748" y="5655"/>
                </a:moveTo>
                <a:cubicBezTo>
                  <a:pt x="9718" y="5790"/>
                  <a:pt x="9699" y="5914"/>
                  <a:pt x="9699" y="6052"/>
                </a:cubicBezTo>
              </a:path>
              <a:path w="9129" h="5979">
                <a:moveTo>
                  <a:pt x="9550" y="5854"/>
                </a:moveTo>
                <a:cubicBezTo>
                  <a:pt x="9642" y="5826"/>
                  <a:pt x="9724" y="5829"/>
                  <a:pt x="9823" y="5829"/>
                </a:cubicBezTo>
                <a:cubicBezTo>
                  <a:pt x="9839" y="5829"/>
                  <a:pt x="9856" y="5829"/>
                  <a:pt x="9872" y="5829"/>
                </a:cubicBezTo>
              </a:path>
              <a:path w="9129" h="5979">
                <a:moveTo>
                  <a:pt x="10244" y="5407"/>
                </a:moveTo>
                <a:cubicBezTo>
                  <a:pt x="10244" y="5609"/>
                  <a:pt x="10235" y="5803"/>
                  <a:pt x="10220" y="6003"/>
                </a:cubicBezTo>
                <a:cubicBezTo>
                  <a:pt x="10220" y="6028"/>
                  <a:pt x="10220" y="6052"/>
                  <a:pt x="10220" y="6077"/>
                </a:cubicBezTo>
              </a:path>
              <a:path w="9129" h="5979">
                <a:moveTo>
                  <a:pt x="10492" y="5482"/>
                </a:moveTo>
                <a:cubicBezTo>
                  <a:pt x="10441" y="5619"/>
                  <a:pt x="10394" y="5697"/>
                  <a:pt x="10269" y="5779"/>
                </a:cubicBezTo>
                <a:cubicBezTo>
                  <a:pt x="10363" y="5840"/>
                  <a:pt x="10460" y="5907"/>
                  <a:pt x="10492" y="6028"/>
                </a:cubicBezTo>
                <a:cubicBezTo>
                  <a:pt x="10492" y="6044"/>
                  <a:pt x="10492" y="6061"/>
                  <a:pt x="10492" y="6077"/>
                </a:cubicBezTo>
              </a:path>
              <a:path w="9129" h="5979">
                <a:moveTo>
                  <a:pt x="10914" y="5507"/>
                </a:moveTo>
                <a:cubicBezTo>
                  <a:pt x="11037" y="5600"/>
                  <a:pt x="11154" y="5700"/>
                  <a:pt x="11286" y="5779"/>
                </a:cubicBezTo>
                <a:cubicBezTo>
                  <a:pt x="11187" y="5873"/>
                  <a:pt x="11088" y="5960"/>
                  <a:pt x="10988" y="6052"/>
                </a:cubicBezTo>
              </a:path>
              <a:path w="9129" h="5979">
                <a:moveTo>
                  <a:pt x="11807" y="5457"/>
                </a:moveTo>
                <a:cubicBezTo>
                  <a:pt x="11801" y="5627"/>
                  <a:pt x="11778" y="5785"/>
                  <a:pt x="11757" y="5953"/>
                </a:cubicBezTo>
              </a:path>
              <a:path w="9129" h="5979">
                <a:moveTo>
                  <a:pt x="12204" y="5531"/>
                </a:moveTo>
                <a:cubicBezTo>
                  <a:pt x="12267" y="5455"/>
                  <a:pt x="12327" y="5389"/>
                  <a:pt x="12427" y="5358"/>
                </a:cubicBezTo>
                <a:cubicBezTo>
                  <a:pt x="12486" y="5340"/>
                  <a:pt x="12562" y="5405"/>
                  <a:pt x="12576" y="5457"/>
                </a:cubicBezTo>
                <a:cubicBezTo>
                  <a:pt x="12593" y="5521"/>
                  <a:pt x="12541" y="5608"/>
                  <a:pt x="12502" y="5655"/>
                </a:cubicBezTo>
                <a:cubicBezTo>
                  <a:pt x="12446" y="5723"/>
                  <a:pt x="12350" y="5781"/>
                  <a:pt x="12278" y="5829"/>
                </a:cubicBezTo>
                <a:cubicBezTo>
                  <a:pt x="12218" y="5869"/>
                  <a:pt x="12193" y="5892"/>
                  <a:pt x="12154" y="5953"/>
                </a:cubicBezTo>
                <a:cubicBezTo>
                  <a:pt x="12205" y="5910"/>
                  <a:pt x="12287" y="5822"/>
                  <a:pt x="12353" y="5804"/>
                </a:cubicBezTo>
                <a:cubicBezTo>
                  <a:pt x="12432" y="5783"/>
                  <a:pt x="12448" y="5902"/>
                  <a:pt x="12502" y="5928"/>
                </a:cubicBezTo>
                <a:cubicBezTo>
                  <a:pt x="12592" y="5951"/>
                  <a:pt x="12616" y="5959"/>
                  <a:pt x="12675" y="5953"/>
                </a:cubicBezTo>
              </a:path>
              <a:path w="9129" h="5979">
                <a:moveTo>
                  <a:pt x="6102" y="7863"/>
                </a:moveTo>
                <a:cubicBezTo>
                  <a:pt x="6246" y="7886"/>
                  <a:pt x="6378" y="7888"/>
                  <a:pt x="6524" y="7888"/>
                </a:cubicBezTo>
              </a:path>
              <a:path w="9129" h="5979">
                <a:moveTo>
                  <a:pt x="8086" y="9277"/>
                </a:moveTo>
                <a:cubicBezTo>
                  <a:pt x="8220" y="9253"/>
                  <a:pt x="8343" y="9252"/>
                  <a:pt x="8483" y="9252"/>
                </a:cubicBezTo>
                <a:cubicBezTo>
                  <a:pt x="8717" y="9252"/>
                  <a:pt x="8946" y="9263"/>
                  <a:pt x="9178" y="9277"/>
                </a:cubicBezTo>
                <a:cubicBezTo>
                  <a:pt x="9344" y="9287"/>
                  <a:pt x="9509" y="9282"/>
                  <a:pt x="9674" y="9302"/>
                </a:cubicBezTo>
                <a:cubicBezTo>
                  <a:pt x="9876" y="9326"/>
                  <a:pt x="10070" y="9367"/>
                  <a:pt x="10269" y="9401"/>
                </a:cubicBezTo>
                <a:cubicBezTo>
                  <a:pt x="10479" y="9437"/>
                  <a:pt x="10701" y="9485"/>
                  <a:pt x="10914" y="9500"/>
                </a:cubicBezTo>
                <a:cubicBezTo>
                  <a:pt x="11095" y="9513"/>
                  <a:pt x="11258" y="9513"/>
                  <a:pt x="11435" y="9500"/>
                </a:cubicBezTo>
                <a:cubicBezTo>
                  <a:pt x="11549" y="9492"/>
                  <a:pt x="11667" y="9500"/>
                  <a:pt x="11782" y="9500"/>
                </a:cubicBezTo>
              </a:path>
              <a:path w="9129" h="5979">
                <a:moveTo>
                  <a:pt x="9004" y="7640"/>
                </a:moveTo>
                <a:cubicBezTo>
                  <a:pt x="9004" y="7764"/>
                  <a:pt x="9004" y="7888"/>
                  <a:pt x="9004" y="8012"/>
                </a:cubicBezTo>
                <a:cubicBezTo>
                  <a:pt x="8986" y="7871"/>
                  <a:pt x="8973" y="7769"/>
                  <a:pt x="9128" y="7714"/>
                </a:cubicBezTo>
                <a:cubicBezTo>
                  <a:pt x="9254" y="7669"/>
                  <a:pt x="9421" y="7701"/>
                  <a:pt x="9426" y="7863"/>
                </a:cubicBezTo>
                <a:cubicBezTo>
                  <a:pt x="9418" y="7896"/>
                  <a:pt x="9409" y="7929"/>
                  <a:pt x="9401" y="7962"/>
                </a:cubicBezTo>
                <a:cubicBezTo>
                  <a:pt x="9401" y="8094"/>
                  <a:pt x="9396" y="7848"/>
                  <a:pt x="9426" y="7813"/>
                </a:cubicBezTo>
                <a:cubicBezTo>
                  <a:pt x="9497" y="7730"/>
                  <a:pt x="9584" y="7608"/>
                  <a:pt x="9699" y="7665"/>
                </a:cubicBezTo>
                <a:cubicBezTo>
                  <a:pt x="9827" y="7728"/>
                  <a:pt x="9842" y="7859"/>
                  <a:pt x="9847" y="7987"/>
                </a:cubicBezTo>
                <a:cubicBezTo>
                  <a:pt x="9847" y="8029"/>
                  <a:pt x="9847" y="8037"/>
                  <a:pt x="9847" y="8062"/>
                </a:cubicBezTo>
              </a:path>
              <a:path w="9129" h="5979">
                <a:moveTo>
                  <a:pt x="15180" y="7392"/>
                </a:moveTo>
                <a:cubicBezTo>
                  <a:pt x="15006" y="7458"/>
                  <a:pt x="14835" y="7531"/>
                  <a:pt x="14660" y="7590"/>
                </a:cubicBezTo>
                <a:cubicBezTo>
                  <a:pt x="14824" y="7695"/>
                  <a:pt x="15019" y="7753"/>
                  <a:pt x="15180" y="7863"/>
                </a:cubicBezTo>
                <a:cubicBezTo>
                  <a:pt x="15197" y="7880"/>
                  <a:pt x="15213" y="7896"/>
                  <a:pt x="15230" y="791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143760" y="1214280"/>
            <a:ext cx="134640" cy="160560"/>
          </a:xfrm>
          <a:custGeom>
            <a:avLst/>
            <a:gdLst/>
            <a:ahLst/>
            <a:rect l="l" t="t" r="r" b="b"/>
            <a:pathLst>
              <a:path w="373" h="448">
                <a:moveTo>
                  <a:pt x="17066" y="3373"/>
                </a:moveTo>
                <a:cubicBezTo>
                  <a:pt x="17161" y="3437"/>
                  <a:pt x="17265" y="3521"/>
                  <a:pt x="17363" y="3572"/>
                </a:cubicBezTo>
                <a:cubicBezTo>
                  <a:pt x="17388" y="3580"/>
                  <a:pt x="17413" y="3589"/>
                  <a:pt x="17438" y="3597"/>
                </a:cubicBezTo>
                <a:cubicBezTo>
                  <a:pt x="17332" y="3645"/>
                  <a:pt x="17244" y="3716"/>
                  <a:pt x="17140" y="3770"/>
                </a:cubicBezTo>
                <a:cubicBezTo>
                  <a:pt x="17096" y="3792"/>
                  <a:pt x="17085" y="3795"/>
                  <a:pt x="17066" y="382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653240" y="1251000"/>
            <a:ext cx="196920" cy="142920"/>
          </a:xfrm>
          <a:custGeom>
            <a:avLst/>
            <a:gdLst/>
            <a:ahLst/>
            <a:rect l="l" t="t" r="r" b="b"/>
            <a:pathLst>
              <a:path w="546" h="398">
                <a:moveTo>
                  <a:pt x="21258" y="3547"/>
                </a:moveTo>
                <a:cubicBezTo>
                  <a:pt x="21381" y="3421"/>
                  <a:pt x="21264" y="3748"/>
                  <a:pt x="21258" y="3820"/>
                </a:cubicBezTo>
              </a:path>
              <a:path w="546" h="398">
                <a:moveTo>
                  <a:pt x="21530" y="3522"/>
                </a:moveTo>
                <a:cubicBezTo>
                  <a:pt x="21617" y="3475"/>
                  <a:pt x="21636" y="3473"/>
                  <a:pt x="21729" y="3473"/>
                </a:cubicBezTo>
                <a:cubicBezTo>
                  <a:pt x="21716" y="3562"/>
                  <a:pt x="21657" y="3581"/>
                  <a:pt x="21605" y="3646"/>
                </a:cubicBezTo>
                <a:cubicBezTo>
                  <a:pt x="21548" y="3716"/>
                  <a:pt x="21482" y="3740"/>
                  <a:pt x="21406" y="3795"/>
                </a:cubicBezTo>
                <a:cubicBezTo>
                  <a:pt x="21377" y="3825"/>
                  <a:pt x="21366" y="3840"/>
                  <a:pt x="21357" y="3870"/>
                </a:cubicBezTo>
                <a:cubicBezTo>
                  <a:pt x="21482" y="3729"/>
                  <a:pt x="21466" y="3767"/>
                  <a:pt x="21605" y="3820"/>
                </a:cubicBezTo>
                <a:cubicBezTo>
                  <a:pt x="21665" y="3843"/>
                  <a:pt x="21747" y="3809"/>
                  <a:pt x="21803" y="379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1339920" y="2714760"/>
            <a:ext cx="303120" cy="169560"/>
          </a:xfrm>
          <a:custGeom>
            <a:avLst/>
            <a:gdLst/>
            <a:ahLst/>
            <a:rect l="l" t="t" r="r" b="b"/>
            <a:pathLst>
              <a:path w="844" h="472">
                <a:moveTo>
                  <a:pt x="3795" y="7541"/>
                </a:moveTo>
                <a:cubicBezTo>
                  <a:pt x="3762" y="7598"/>
                  <a:pt x="3732" y="7658"/>
                  <a:pt x="3721" y="7714"/>
                </a:cubicBezTo>
                <a:cubicBezTo>
                  <a:pt x="3700" y="7823"/>
                  <a:pt x="3854" y="7789"/>
                  <a:pt x="3919" y="7789"/>
                </a:cubicBezTo>
              </a:path>
              <a:path w="844" h="472">
                <a:moveTo>
                  <a:pt x="4018" y="7541"/>
                </a:moveTo>
                <a:cubicBezTo>
                  <a:pt x="3979" y="7689"/>
                  <a:pt x="3959" y="7840"/>
                  <a:pt x="3919" y="7987"/>
                </a:cubicBezTo>
              </a:path>
              <a:path w="844" h="472">
                <a:moveTo>
                  <a:pt x="4217" y="7590"/>
                </a:moveTo>
                <a:cubicBezTo>
                  <a:pt x="4338" y="7542"/>
                  <a:pt x="4376" y="7526"/>
                  <a:pt x="4465" y="7541"/>
                </a:cubicBezTo>
                <a:cubicBezTo>
                  <a:pt x="4522" y="7747"/>
                  <a:pt x="4436" y="7776"/>
                  <a:pt x="4291" y="7913"/>
                </a:cubicBezTo>
                <a:cubicBezTo>
                  <a:pt x="4266" y="7938"/>
                  <a:pt x="4242" y="7962"/>
                  <a:pt x="4217" y="7987"/>
                </a:cubicBezTo>
                <a:cubicBezTo>
                  <a:pt x="4318" y="7987"/>
                  <a:pt x="4413" y="8008"/>
                  <a:pt x="4514" y="8012"/>
                </a:cubicBezTo>
                <a:cubicBezTo>
                  <a:pt x="4531" y="8012"/>
                  <a:pt x="4547" y="8012"/>
                  <a:pt x="4564" y="801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6554880" y="2589120"/>
            <a:ext cx="276120" cy="189000"/>
          </a:xfrm>
          <a:custGeom>
            <a:avLst/>
            <a:gdLst/>
            <a:ahLst/>
            <a:rect l="l" t="t" r="r" b="b"/>
            <a:pathLst>
              <a:path w="770" h="522">
                <a:moveTo>
                  <a:pt x="18331" y="7243"/>
                </a:moveTo>
                <a:cubicBezTo>
                  <a:pt x="18281" y="7399"/>
                  <a:pt x="18227" y="7551"/>
                  <a:pt x="18207" y="7714"/>
                </a:cubicBezTo>
              </a:path>
              <a:path w="770" h="522">
                <a:moveTo>
                  <a:pt x="18628" y="7342"/>
                </a:moveTo>
                <a:cubicBezTo>
                  <a:pt x="18676" y="7247"/>
                  <a:pt x="18723" y="7203"/>
                  <a:pt x="18827" y="7193"/>
                </a:cubicBezTo>
                <a:cubicBezTo>
                  <a:pt x="18868" y="7193"/>
                  <a:pt x="18876" y="7193"/>
                  <a:pt x="18901" y="7193"/>
                </a:cubicBezTo>
                <a:cubicBezTo>
                  <a:pt x="18933" y="7331"/>
                  <a:pt x="18923" y="7420"/>
                  <a:pt x="18802" y="7516"/>
                </a:cubicBezTo>
                <a:cubicBezTo>
                  <a:pt x="18713" y="7587"/>
                  <a:pt x="18615" y="7637"/>
                  <a:pt x="18529" y="7714"/>
                </a:cubicBezTo>
                <a:cubicBezTo>
                  <a:pt x="18686" y="7646"/>
                  <a:pt x="18744" y="7620"/>
                  <a:pt x="18901" y="7689"/>
                </a:cubicBezTo>
                <a:cubicBezTo>
                  <a:pt x="18942" y="7709"/>
                  <a:pt x="18948" y="7718"/>
                  <a:pt x="18976" y="771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7045200" y="2455920"/>
            <a:ext cx="125640" cy="339840"/>
          </a:xfrm>
          <a:custGeom>
            <a:avLst/>
            <a:gdLst/>
            <a:ahLst/>
            <a:rect l="l" t="t" r="r" b="b"/>
            <a:pathLst>
              <a:path w="348" h="944">
                <a:moveTo>
                  <a:pt x="19645" y="6871"/>
                </a:moveTo>
                <a:cubicBezTo>
                  <a:pt x="19720" y="6848"/>
                  <a:pt x="19887" y="6745"/>
                  <a:pt x="19918" y="6871"/>
                </a:cubicBezTo>
                <a:cubicBezTo>
                  <a:pt x="19850" y="6926"/>
                  <a:pt x="19806" y="6953"/>
                  <a:pt x="19720" y="6970"/>
                </a:cubicBezTo>
                <a:cubicBezTo>
                  <a:pt x="19766" y="6975"/>
                  <a:pt x="19943" y="6973"/>
                  <a:pt x="19893" y="7069"/>
                </a:cubicBezTo>
                <a:cubicBezTo>
                  <a:pt x="19842" y="7166"/>
                  <a:pt x="19747" y="7112"/>
                  <a:pt x="19670" y="7094"/>
                </a:cubicBezTo>
              </a:path>
              <a:path w="348" h="944">
                <a:moveTo>
                  <a:pt x="19621" y="7293"/>
                </a:moveTo>
                <a:cubicBezTo>
                  <a:pt x="19744" y="7317"/>
                  <a:pt x="19785" y="7325"/>
                  <a:pt x="19869" y="7317"/>
                </a:cubicBezTo>
              </a:path>
              <a:path w="348" h="944">
                <a:moveTo>
                  <a:pt x="19645" y="7441"/>
                </a:moveTo>
                <a:cubicBezTo>
                  <a:pt x="19572" y="7516"/>
                  <a:pt x="19508" y="7574"/>
                  <a:pt x="19670" y="7615"/>
                </a:cubicBezTo>
                <a:cubicBezTo>
                  <a:pt x="19744" y="7615"/>
                  <a:pt x="19753" y="7615"/>
                  <a:pt x="19794" y="7615"/>
                </a:cubicBezTo>
              </a:path>
              <a:path w="348" h="944">
                <a:moveTo>
                  <a:pt x="19819" y="7417"/>
                </a:moveTo>
                <a:cubicBezTo>
                  <a:pt x="19772" y="7545"/>
                  <a:pt x="19745" y="7628"/>
                  <a:pt x="19745" y="776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714680" y="3705120"/>
            <a:ext cx="544320" cy="233640"/>
          </a:xfrm>
          <a:custGeom>
            <a:avLst/>
            <a:gdLst/>
            <a:ahLst/>
            <a:rect l="l" t="t" r="r" b="b"/>
            <a:pathLst>
              <a:path w="1515" h="646">
                <a:moveTo>
                  <a:pt x="4837" y="10344"/>
                </a:moveTo>
                <a:cubicBezTo>
                  <a:pt x="4816" y="10441"/>
                  <a:pt x="4799" y="10526"/>
                  <a:pt x="4762" y="10616"/>
                </a:cubicBezTo>
                <a:cubicBezTo>
                  <a:pt x="4881" y="10656"/>
                  <a:pt x="5047" y="10658"/>
                  <a:pt x="5184" y="10666"/>
                </a:cubicBezTo>
              </a:path>
              <a:path w="1515" h="646">
                <a:moveTo>
                  <a:pt x="5135" y="10294"/>
                </a:moveTo>
                <a:cubicBezTo>
                  <a:pt x="5120" y="10485"/>
                  <a:pt x="5079" y="10674"/>
                  <a:pt x="5060" y="10864"/>
                </a:cubicBezTo>
                <a:cubicBezTo>
                  <a:pt x="5060" y="10889"/>
                  <a:pt x="5060" y="10914"/>
                  <a:pt x="5060" y="10939"/>
                </a:cubicBezTo>
              </a:path>
              <a:path w="1515" h="646">
                <a:moveTo>
                  <a:pt x="5383" y="10492"/>
                </a:moveTo>
                <a:cubicBezTo>
                  <a:pt x="5409" y="10441"/>
                  <a:pt x="5570" y="10289"/>
                  <a:pt x="5655" y="10393"/>
                </a:cubicBezTo>
                <a:cubicBezTo>
                  <a:pt x="5774" y="10538"/>
                  <a:pt x="5603" y="10727"/>
                  <a:pt x="5507" y="10815"/>
                </a:cubicBezTo>
                <a:cubicBezTo>
                  <a:pt x="5466" y="10848"/>
                  <a:pt x="5424" y="10881"/>
                  <a:pt x="5383" y="10914"/>
                </a:cubicBezTo>
                <a:cubicBezTo>
                  <a:pt x="5379" y="11024"/>
                  <a:pt x="5524" y="10862"/>
                  <a:pt x="5631" y="10889"/>
                </a:cubicBezTo>
                <a:cubicBezTo>
                  <a:pt x="5679" y="10913"/>
                  <a:pt x="5693" y="10922"/>
                  <a:pt x="5730" y="10914"/>
                </a:cubicBezTo>
              </a:path>
              <a:path w="1515" h="646">
                <a:moveTo>
                  <a:pt x="6102" y="10716"/>
                </a:moveTo>
                <a:cubicBezTo>
                  <a:pt x="6185" y="10716"/>
                  <a:pt x="6218" y="10716"/>
                  <a:pt x="6276" y="1071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2401920" y="3830760"/>
            <a:ext cx="223920" cy="108000"/>
          </a:xfrm>
          <a:custGeom>
            <a:avLst/>
            <a:gdLst/>
            <a:ahLst/>
            <a:rect l="l" t="t" r="r" b="b"/>
            <a:pathLst>
              <a:path w="622" h="299">
                <a:moveTo>
                  <a:pt x="6697" y="10641"/>
                </a:moveTo>
                <a:cubicBezTo>
                  <a:pt x="6697" y="10732"/>
                  <a:pt x="6697" y="10823"/>
                  <a:pt x="6697" y="10914"/>
                </a:cubicBezTo>
                <a:cubicBezTo>
                  <a:pt x="6679" y="10824"/>
                  <a:pt x="6681" y="10670"/>
                  <a:pt x="6821" y="10666"/>
                </a:cubicBezTo>
                <a:cubicBezTo>
                  <a:pt x="6951" y="10662"/>
                  <a:pt x="7098" y="10915"/>
                  <a:pt x="7020" y="10840"/>
                </a:cubicBezTo>
                <a:cubicBezTo>
                  <a:pt x="7028" y="10717"/>
                  <a:pt x="7030" y="10593"/>
                  <a:pt x="7193" y="10666"/>
                </a:cubicBezTo>
                <a:cubicBezTo>
                  <a:pt x="7316" y="10721"/>
                  <a:pt x="7293" y="10825"/>
                  <a:pt x="7293" y="1093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2776680" y="3751200"/>
            <a:ext cx="134640" cy="160560"/>
          </a:xfrm>
          <a:custGeom>
            <a:avLst/>
            <a:gdLst/>
            <a:ahLst/>
            <a:rect l="l" t="t" r="r" b="b"/>
            <a:pathLst>
              <a:path w="373" h="447">
                <a:moveTo>
                  <a:pt x="7938" y="10418"/>
                </a:moveTo>
                <a:cubicBezTo>
                  <a:pt x="7864" y="10503"/>
                  <a:pt x="7794" y="10586"/>
                  <a:pt x="7714" y="10666"/>
                </a:cubicBezTo>
                <a:cubicBezTo>
                  <a:pt x="7833" y="10725"/>
                  <a:pt x="7959" y="10762"/>
                  <a:pt x="8062" y="10840"/>
                </a:cubicBezTo>
                <a:cubicBezTo>
                  <a:pt x="8070" y="10848"/>
                  <a:pt x="8078" y="10856"/>
                  <a:pt x="8086" y="1086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143160" y="3705120"/>
            <a:ext cx="231840" cy="233640"/>
          </a:xfrm>
          <a:custGeom>
            <a:avLst/>
            <a:gdLst/>
            <a:ahLst/>
            <a:rect l="l" t="t" r="r" b="b"/>
            <a:pathLst>
              <a:path w="646" h="646">
                <a:moveTo>
                  <a:pt x="8731" y="10294"/>
                </a:moveTo>
                <a:cubicBezTo>
                  <a:pt x="8756" y="10510"/>
                  <a:pt x="8756" y="10721"/>
                  <a:pt x="8756" y="10939"/>
                </a:cubicBezTo>
              </a:path>
              <a:path w="646" h="646">
                <a:moveTo>
                  <a:pt x="9004" y="10418"/>
                </a:moveTo>
                <a:cubicBezTo>
                  <a:pt x="9166" y="10348"/>
                  <a:pt x="9348" y="10328"/>
                  <a:pt x="9376" y="10567"/>
                </a:cubicBezTo>
                <a:cubicBezTo>
                  <a:pt x="9398" y="10754"/>
                  <a:pt x="9215" y="10949"/>
                  <a:pt x="9029" y="10864"/>
                </a:cubicBezTo>
                <a:cubicBezTo>
                  <a:pt x="9021" y="10848"/>
                  <a:pt x="9012" y="10831"/>
                  <a:pt x="9004" y="10815"/>
                </a:cubicBezTo>
                <a:cubicBezTo>
                  <a:pt x="9127" y="10678"/>
                  <a:pt x="9198" y="10710"/>
                  <a:pt x="9351" y="10815"/>
                </a:cubicBezTo>
                <a:cubicBezTo>
                  <a:pt x="9359" y="10823"/>
                  <a:pt x="9368" y="10832"/>
                  <a:pt x="9376" y="1084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571920" y="3687840"/>
            <a:ext cx="179280" cy="357120"/>
          </a:xfrm>
          <a:custGeom>
            <a:avLst/>
            <a:gdLst/>
            <a:ahLst/>
            <a:rect l="l" t="t" r="r" b="b"/>
            <a:pathLst>
              <a:path w="497" h="994">
                <a:moveTo>
                  <a:pt x="10046" y="10269"/>
                </a:moveTo>
                <a:cubicBezTo>
                  <a:pt x="10072" y="10261"/>
                  <a:pt x="10354" y="10256"/>
                  <a:pt x="10319" y="10294"/>
                </a:cubicBezTo>
                <a:cubicBezTo>
                  <a:pt x="10224" y="10397"/>
                  <a:pt x="10205" y="10355"/>
                  <a:pt x="10195" y="10294"/>
                </a:cubicBezTo>
                <a:cubicBezTo>
                  <a:pt x="10332" y="10321"/>
                  <a:pt x="10329" y="10314"/>
                  <a:pt x="10393" y="10443"/>
                </a:cubicBezTo>
                <a:cubicBezTo>
                  <a:pt x="10284" y="10483"/>
                  <a:pt x="10232" y="10481"/>
                  <a:pt x="10120" y="10468"/>
                </a:cubicBezTo>
              </a:path>
              <a:path w="497" h="994">
                <a:moveTo>
                  <a:pt x="9922" y="10691"/>
                </a:moveTo>
                <a:cubicBezTo>
                  <a:pt x="10092" y="10691"/>
                  <a:pt x="10251" y="10691"/>
                  <a:pt x="10418" y="10716"/>
                </a:cubicBezTo>
              </a:path>
              <a:path w="497" h="994">
                <a:moveTo>
                  <a:pt x="10071" y="10840"/>
                </a:moveTo>
                <a:cubicBezTo>
                  <a:pt x="10029" y="10922"/>
                  <a:pt x="10021" y="10939"/>
                  <a:pt x="9996" y="10988"/>
                </a:cubicBezTo>
                <a:cubicBezTo>
                  <a:pt x="10100" y="11016"/>
                  <a:pt x="10162" y="11007"/>
                  <a:pt x="10269" y="10988"/>
                </a:cubicBezTo>
              </a:path>
              <a:path w="497" h="994">
                <a:moveTo>
                  <a:pt x="10269" y="10815"/>
                </a:moveTo>
                <a:cubicBezTo>
                  <a:pt x="10246" y="10969"/>
                  <a:pt x="10255" y="11084"/>
                  <a:pt x="10269" y="1123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5187960" y="4268880"/>
            <a:ext cx="179280" cy="231840"/>
          </a:xfrm>
          <a:custGeom>
            <a:avLst/>
            <a:gdLst/>
            <a:ahLst/>
            <a:rect l="l" t="t" r="r" b="b"/>
            <a:pathLst>
              <a:path w="497" h="646">
                <a:moveTo>
                  <a:pt x="14808" y="11857"/>
                </a:moveTo>
                <a:cubicBezTo>
                  <a:pt x="14819" y="11867"/>
                  <a:pt x="14627" y="11993"/>
                  <a:pt x="14560" y="12055"/>
                </a:cubicBezTo>
                <a:cubicBezTo>
                  <a:pt x="14544" y="12072"/>
                  <a:pt x="14527" y="12088"/>
                  <a:pt x="14511" y="12105"/>
                </a:cubicBezTo>
                <a:cubicBezTo>
                  <a:pt x="14573" y="12197"/>
                  <a:pt x="14690" y="12254"/>
                  <a:pt x="14808" y="12278"/>
                </a:cubicBezTo>
                <a:cubicBezTo>
                  <a:pt x="14860" y="12278"/>
                  <a:pt x="14878" y="12279"/>
                  <a:pt x="14908" y="12303"/>
                </a:cubicBezTo>
              </a:path>
              <a:path w="497" h="646">
                <a:moveTo>
                  <a:pt x="14412" y="12303"/>
                </a:moveTo>
                <a:lnTo>
                  <a:pt x="14412" y="12303"/>
                </a:lnTo>
              </a:path>
              <a:path w="497" h="646">
                <a:moveTo>
                  <a:pt x="14436" y="12328"/>
                </a:moveTo>
                <a:cubicBezTo>
                  <a:pt x="14436" y="12311"/>
                  <a:pt x="14436" y="12295"/>
                  <a:pt x="14436" y="12278"/>
                </a:cubicBezTo>
                <a:cubicBezTo>
                  <a:pt x="14494" y="12324"/>
                  <a:pt x="14543" y="12363"/>
                  <a:pt x="14585" y="12427"/>
                </a:cubicBezTo>
                <a:cubicBezTo>
                  <a:pt x="14626" y="12488"/>
                  <a:pt x="14638" y="12475"/>
                  <a:pt x="14709" y="1250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340080" y="4321080"/>
            <a:ext cx="152280" cy="127080"/>
          </a:xfrm>
          <a:custGeom>
            <a:avLst/>
            <a:gdLst/>
            <a:ahLst/>
            <a:rect l="l" t="t" r="r" b="b"/>
            <a:pathLst>
              <a:path w="423" h="349">
                <a:moveTo>
                  <a:pt x="9277" y="12055"/>
                </a:moveTo>
                <a:cubicBezTo>
                  <a:pt x="9423" y="12013"/>
                  <a:pt x="9548" y="12005"/>
                  <a:pt x="9699" y="12005"/>
                </a:cubicBezTo>
                <a:cubicBezTo>
                  <a:pt x="9672" y="12124"/>
                  <a:pt x="9612" y="12215"/>
                  <a:pt x="9575" y="12328"/>
                </a:cubicBezTo>
                <a:cubicBezTo>
                  <a:pt x="9575" y="12336"/>
                  <a:pt x="9575" y="12345"/>
                  <a:pt x="9575" y="1235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3170160" y="5062680"/>
            <a:ext cx="223920" cy="179280"/>
          </a:xfrm>
          <a:custGeom>
            <a:avLst/>
            <a:gdLst/>
            <a:ahLst/>
            <a:rect l="l" t="t" r="r" b="b"/>
            <a:pathLst>
              <a:path w="621" h="497">
                <a:moveTo>
                  <a:pt x="8806" y="14139"/>
                </a:moveTo>
                <a:cubicBezTo>
                  <a:pt x="8829" y="14280"/>
                  <a:pt x="8853" y="14420"/>
                  <a:pt x="8880" y="14560"/>
                </a:cubicBezTo>
                <a:cubicBezTo>
                  <a:pt x="8851" y="14415"/>
                  <a:pt x="8778" y="14123"/>
                  <a:pt x="9004" y="14064"/>
                </a:cubicBezTo>
                <a:cubicBezTo>
                  <a:pt x="9246" y="14000"/>
                  <a:pt x="9388" y="14240"/>
                  <a:pt x="9426" y="14436"/>
                </a:cubicBezTo>
                <a:cubicBezTo>
                  <a:pt x="9426" y="14461"/>
                  <a:pt x="9426" y="14486"/>
                  <a:pt x="9426" y="1451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3517920" y="5037120"/>
            <a:ext cx="125280" cy="169920"/>
          </a:xfrm>
          <a:custGeom>
            <a:avLst/>
            <a:gdLst/>
            <a:ahLst/>
            <a:rect l="l" t="t" r="r" b="b"/>
            <a:pathLst>
              <a:path w="348" h="472">
                <a:moveTo>
                  <a:pt x="9897" y="14163"/>
                </a:moveTo>
                <a:cubicBezTo>
                  <a:pt x="9971" y="14163"/>
                  <a:pt x="10046" y="14163"/>
                  <a:pt x="10120" y="14163"/>
                </a:cubicBezTo>
              </a:path>
              <a:path w="348" h="472">
                <a:moveTo>
                  <a:pt x="9847" y="13990"/>
                </a:moveTo>
                <a:lnTo>
                  <a:pt x="9847" y="13990"/>
                </a:lnTo>
              </a:path>
              <a:path w="348" h="472">
                <a:moveTo>
                  <a:pt x="9922" y="14461"/>
                </a:moveTo>
                <a:lnTo>
                  <a:pt x="9922" y="14461"/>
                </a:lnTo>
              </a:path>
              <a:path w="348" h="472">
                <a:moveTo>
                  <a:pt x="9773" y="14213"/>
                </a:moveTo>
                <a:cubicBezTo>
                  <a:pt x="9854" y="14180"/>
                  <a:pt x="9891" y="14172"/>
                  <a:pt x="9971" y="1418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3786120" y="5054760"/>
            <a:ext cx="115920" cy="160200"/>
          </a:xfrm>
          <a:custGeom>
            <a:avLst/>
            <a:gdLst/>
            <a:ahLst/>
            <a:rect l="l" t="t" r="r" b="b"/>
            <a:pathLst>
              <a:path w="324" h="448">
                <a:moveTo>
                  <a:pt x="10517" y="14039"/>
                </a:moveTo>
                <a:cubicBezTo>
                  <a:pt x="10619" y="14061"/>
                  <a:pt x="10709" y="14064"/>
                  <a:pt x="10815" y="14064"/>
                </a:cubicBezTo>
                <a:cubicBezTo>
                  <a:pt x="10858" y="14220"/>
                  <a:pt x="10804" y="14330"/>
                  <a:pt x="10765" y="1448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4062240" y="5054760"/>
            <a:ext cx="135000" cy="214200"/>
          </a:xfrm>
          <a:custGeom>
            <a:avLst/>
            <a:gdLst/>
            <a:ahLst/>
            <a:rect l="l" t="t" r="r" b="b"/>
            <a:pathLst>
              <a:path w="373" h="597">
                <a:moveTo>
                  <a:pt x="11658" y="14039"/>
                </a:moveTo>
                <a:cubicBezTo>
                  <a:pt x="11546" y="14060"/>
                  <a:pt x="11446" y="14117"/>
                  <a:pt x="11336" y="14139"/>
                </a:cubicBezTo>
                <a:cubicBezTo>
                  <a:pt x="11406" y="14203"/>
                  <a:pt x="11480" y="14285"/>
                  <a:pt x="11559" y="14337"/>
                </a:cubicBezTo>
                <a:cubicBezTo>
                  <a:pt x="11576" y="14345"/>
                  <a:pt x="11592" y="14354"/>
                  <a:pt x="11609" y="14362"/>
                </a:cubicBezTo>
              </a:path>
              <a:path w="373" h="597">
                <a:moveTo>
                  <a:pt x="11286" y="14436"/>
                </a:moveTo>
                <a:cubicBezTo>
                  <a:pt x="11359" y="14485"/>
                  <a:pt x="11395" y="14563"/>
                  <a:pt x="11460" y="14610"/>
                </a:cubicBezTo>
                <a:cubicBezTo>
                  <a:pt x="11476" y="14618"/>
                  <a:pt x="11493" y="14627"/>
                  <a:pt x="11509" y="1463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348080" y="5054760"/>
            <a:ext cx="260280" cy="187200"/>
          </a:xfrm>
          <a:custGeom>
            <a:avLst/>
            <a:gdLst/>
            <a:ahLst/>
            <a:rect l="l" t="t" r="r" b="b"/>
            <a:pathLst>
              <a:path w="720" h="522">
                <a:moveTo>
                  <a:pt x="12229" y="14114"/>
                </a:moveTo>
                <a:cubicBezTo>
                  <a:pt x="12365" y="14128"/>
                  <a:pt x="12538" y="14208"/>
                  <a:pt x="12502" y="14387"/>
                </a:cubicBezTo>
                <a:cubicBezTo>
                  <a:pt x="12462" y="14585"/>
                  <a:pt x="12188" y="14508"/>
                  <a:pt x="12080" y="14461"/>
                </a:cubicBezTo>
                <a:cubicBezTo>
                  <a:pt x="12152" y="14375"/>
                  <a:pt x="12263" y="14408"/>
                  <a:pt x="12378" y="14436"/>
                </a:cubicBezTo>
                <a:cubicBezTo>
                  <a:pt x="12456" y="14455"/>
                  <a:pt x="12466" y="14486"/>
                  <a:pt x="12526" y="14461"/>
                </a:cubicBezTo>
              </a:path>
              <a:path w="720" h="522">
                <a:moveTo>
                  <a:pt x="12725" y="14039"/>
                </a:moveTo>
                <a:cubicBezTo>
                  <a:pt x="12734" y="14195"/>
                  <a:pt x="12739" y="14386"/>
                  <a:pt x="12774" y="14536"/>
                </a:cubicBezTo>
                <a:cubicBezTo>
                  <a:pt x="12782" y="14544"/>
                  <a:pt x="12791" y="14552"/>
                  <a:pt x="12799" y="1456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1330200" y="4367160"/>
            <a:ext cx="142920" cy="125640"/>
          </a:xfrm>
          <a:custGeom>
            <a:avLst/>
            <a:gdLst/>
            <a:ahLst/>
            <a:rect l="l" t="t" r="r" b="b"/>
            <a:pathLst>
              <a:path w="398" h="349">
                <a:moveTo>
                  <a:pt x="3696" y="12179"/>
                </a:moveTo>
                <a:cubicBezTo>
                  <a:pt x="3755" y="12238"/>
                  <a:pt x="3717" y="12294"/>
                  <a:pt x="3721" y="12378"/>
                </a:cubicBezTo>
                <a:cubicBezTo>
                  <a:pt x="3721" y="12503"/>
                  <a:pt x="3710" y="12220"/>
                  <a:pt x="3746" y="12179"/>
                </a:cubicBezTo>
                <a:cubicBezTo>
                  <a:pt x="3850" y="12062"/>
                  <a:pt x="3969" y="12163"/>
                  <a:pt x="4043" y="12254"/>
                </a:cubicBezTo>
                <a:cubicBezTo>
                  <a:pt x="4104" y="12330"/>
                  <a:pt x="4087" y="12372"/>
                  <a:pt x="4068" y="12452"/>
                </a:cubicBezTo>
                <a:cubicBezTo>
                  <a:pt x="4068" y="12460"/>
                  <a:pt x="4068" y="12469"/>
                  <a:pt x="4068" y="1247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232000" y="4375080"/>
            <a:ext cx="179280" cy="125640"/>
          </a:xfrm>
          <a:custGeom>
            <a:avLst/>
            <a:gdLst/>
            <a:ahLst/>
            <a:rect l="l" t="t" r="r" b="b"/>
            <a:pathLst>
              <a:path w="497" h="349">
                <a:moveTo>
                  <a:pt x="6201" y="12278"/>
                </a:moveTo>
                <a:cubicBezTo>
                  <a:pt x="6365" y="12304"/>
                  <a:pt x="6531" y="12317"/>
                  <a:pt x="6697" y="12328"/>
                </a:cubicBezTo>
              </a:path>
              <a:path w="497" h="349">
                <a:moveTo>
                  <a:pt x="6573" y="12154"/>
                </a:moveTo>
                <a:lnTo>
                  <a:pt x="6573" y="12154"/>
                </a:lnTo>
              </a:path>
              <a:path w="497" h="349">
                <a:moveTo>
                  <a:pt x="6548" y="12502"/>
                </a:moveTo>
                <a:lnTo>
                  <a:pt x="6548" y="12502"/>
                </a:ln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7545240" y="4303800"/>
            <a:ext cx="233640" cy="206280"/>
          </a:xfrm>
          <a:custGeom>
            <a:avLst/>
            <a:gdLst/>
            <a:ahLst/>
            <a:rect l="l" t="t" r="r" b="b"/>
            <a:pathLst>
              <a:path w="646" h="571">
                <a:moveTo>
                  <a:pt x="21134" y="12105"/>
                </a:moveTo>
                <a:cubicBezTo>
                  <a:pt x="21198" y="11999"/>
                  <a:pt x="21237" y="11982"/>
                  <a:pt x="21357" y="12005"/>
                </a:cubicBezTo>
                <a:cubicBezTo>
                  <a:pt x="21304" y="12190"/>
                  <a:pt x="21145" y="12328"/>
                  <a:pt x="21010" y="12477"/>
                </a:cubicBezTo>
                <a:cubicBezTo>
                  <a:pt x="20993" y="12493"/>
                  <a:pt x="20977" y="12510"/>
                  <a:pt x="20960" y="12526"/>
                </a:cubicBezTo>
                <a:cubicBezTo>
                  <a:pt x="21094" y="12449"/>
                  <a:pt x="21211" y="12380"/>
                  <a:pt x="21357" y="12328"/>
                </a:cubicBezTo>
              </a:path>
              <a:path w="646" h="571">
                <a:moveTo>
                  <a:pt x="21580" y="11956"/>
                </a:moveTo>
                <a:cubicBezTo>
                  <a:pt x="21596" y="12076"/>
                  <a:pt x="21605" y="12182"/>
                  <a:pt x="21605" y="1230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848720" y="3938760"/>
            <a:ext cx="1440" cy="1440"/>
          </a:xfrm>
          <a:custGeom>
            <a:avLst/>
            <a:gdLst/>
            <a:ahLst/>
            <a:rect l="l" t="t" r="r" b="b"/>
            <a:pathLst>
              <a:path w="1" h="1">
                <a:moveTo>
                  <a:pt x="21803" y="10939"/>
                </a:moveTo>
                <a:lnTo>
                  <a:pt x="21803" y="10939"/>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withEffect" fill="hold" presetClass="entr" presetID="2" presetSubtype="4">
                                  <p:stCondLst>
                                    <p:cond delay="0"/>
                                  </p:stCondLst>
                                  <p:childTnLst>
                                    <p:set>
                                      <p:cBhvr>
                                        <p:cTn id="196" dur="1" fill="hold">
                                          <p:stCondLst>
                                            <p:cond delay="0"/>
                                          </p:stCondLst>
                                        </p:cTn>
                                        <p:tgtEl>
                                          <p:spTgt spid="260"/>
                                        </p:tgtEl>
                                        <p:attrNameLst>
                                          <p:attrName>style.visibility</p:attrName>
                                        </p:attrNameLst>
                                      </p:cBhvr>
                                      <p:to>
                                        <p:strVal val="visible"/>
                                      </p:to>
                                    </p:set>
                                    <p:anim calcmode="lin" valueType="num">
                                      <p:cBhvr additive="base">
                                        <p:cTn id="197" dur="500" fill="hold"/>
                                        <p:tgtEl>
                                          <p:spTgt spid="260"/>
                                        </p:tgtEl>
                                        <p:attrNameLst>
                                          <p:attrName>ppt_x</p:attrName>
                                        </p:attrNameLst>
                                      </p:cBhvr>
                                      <p:tavLst>
                                        <p:tav tm="0">
                                          <p:val>
                                            <p:strVal val="#ppt_x"/>
                                          </p:val>
                                        </p:tav>
                                        <p:tav tm="100000">
                                          <p:val>
                                            <p:strVal val="#ppt_x"/>
                                          </p:val>
                                        </p:tav>
                                      </p:tavLst>
                                    </p:anim>
                                    <p:anim calcmode="lin" valueType="num">
                                      <p:cBhvr additive="base">
                                        <p:cTn id="198"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261">
                                            <p:txEl>
                                              <p:pRg st="0" end="0"/>
                                            </p:txEl>
                                          </p:spTgt>
                                        </p:tgtEl>
                                        <p:attrNameLst>
                                          <p:attrName>style.visibility</p:attrName>
                                        </p:attrNameLst>
                                      </p:cBhvr>
                                      <p:to>
                                        <p:strVal val="visible"/>
                                      </p:to>
                                    </p:set>
                                    <p:anim calcmode="lin" valueType="num">
                                      <p:cBhvr additive="base">
                                        <p:cTn id="203" dur="5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2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261">
                                            <p:txEl>
                                              <p:pRg st="3" end="3"/>
                                            </p:txEl>
                                          </p:spTgt>
                                        </p:tgtEl>
                                        <p:attrNameLst>
                                          <p:attrName>style.visibility</p:attrName>
                                        </p:attrNameLst>
                                      </p:cBhvr>
                                      <p:to>
                                        <p:strVal val="visible"/>
                                      </p:to>
                                    </p:set>
                                    <p:anim calcmode="lin" valueType="num">
                                      <p:cBhvr additive="base">
                                        <p:cTn id="209" dur="500" fill="hold"/>
                                        <p:tgtEl>
                                          <p:spTgt spid="261">
                                            <p:txEl>
                                              <p:pRg st="3" end="3"/>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261">
                                            <p:txEl>
                                              <p:pRg st="3" end="3"/>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263"/>
                                        </p:tgtEl>
                                        <p:attrNameLst>
                                          <p:attrName>style.visibility</p:attrName>
                                        </p:attrNameLst>
                                      </p:cBhvr>
                                      <p:to>
                                        <p:strVal val="visible"/>
                                      </p:to>
                                    </p:set>
                                    <p:anim calcmode="lin" valueType="num">
                                      <p:cBhvr additive="base">
                                        <p:cTn id="213" dur="500" fill="hold"/>
                                        <p:tgtEl>
                                          <p:spTgt spid="263"/>
                                        </p:tgtEl>
                                        <p:attrNameLst>
                                          <p:attrName>ppt_x</p:attrName>
                                        </p:attrNameLst>
                                      </p:cBhvr>
                                      <p:tavLst>
                                        <p:tav tm="0">
                                          <p:val>
                                            <p:strVal val="#ppt_x"/>
                                          </p:val>
                                        </p:tav>
                                        <p:tav tm="100000">
                                          <p:val>
                                            <p:strVal val="#ppt_x"/>
                                          </p:val>
                                        </p:tav>
                                      </p:tavLst>
                                    </p:anim>
                                    <p:anim calcmode="lin" valueType="num">
                                      <p:cBhvr additive="base">
                                        <p:cTn id="214"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261">
                                            <p:txEl>
                                              <p:pRg st="6" end="6"/>
                                            </p:txEl>
                                          </p:spTgt>
                                        </p:tgtEl>
                                        <p:attrNameLst>
                                          <p:attrName>style.visibility</p:attrName>
                                        </p:attrNameLst>
                                      </p:cBhvr>
                                      <p:to>
                                        <p:strVal val="visible"/>
                                      </p:to>
                                    </p:set>
                                    <p:anim calcmode="lin" valueType="num">
                                      <p:cBhvr additive="base">
                                        <p:cTn id="219" dur="500" fill="hold"/>
                                        <p:tgtEl>
                                          <p:spTgt spid="261">
                                            <p:txEl>
                                              <p:pRg st="6" end="6"/>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26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685800" y="304560"/>
            <a:ext cx="7391520" cy="51814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mic Sans MS"/>
              </a:rPr>
              <a:t>Objective: </a:t>
            </a:r>
            <a:r>
              <a:rPr b="0" lang="en-US" sz="1200" spc="-1" strike="noStrike">
                <a:solidFill>
                  <a:srgbClr val="000000"/>
                </a:solidFill>
                <a:latin typeface="Comic Sans MS"/>
              </a:rPr>
              <a:t>Students will identify and write equations and inequalities to represent relationships.</a:t>
            </a:r>
            <a:endParaRPr b="0" lang="en-US" sz="12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Word Problem:</a:t>
            </a:r>
            <a:endParaRPr b="0" lang="en-US" sz="3600" spc="-1" strike="noStrike">
              <a:solidFill>
                <a:srgbClr val="000000"/>
              </a:solidFill>
              <a:latin typeface="Comic Sans MS"/>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1.) A restaurant can seat 66 people. A party of 16 joins the number of people already seated and the restaurant is not full. Write an inequality you could use to find the number of people, n, who are already seated in the restaurant. </a:t>
            </a:r>
            <a:endParaRPr b="0" lang="en-US" sz="2600" spc="-1" strike="noStrike">
              <a:solidFill>
                <a:srgbClr val="000000"/>
              </a:solidFill>
              <a:latin typeface="Comic Sans MS"/>
            </a:endParaRPr>
          </a:p>
        </p:txBody>
      </p:sp>
      <p:sp>
        <p:nvSpPr>
          <p:cNvPr id="289" name=""/>
          <p:cNvSpPr/>
          <p:nvPr/>
        </p:nvSpPr>
        <p:spPr>
          <a:xfrm>
            <a:off x="5991120" y="5295960"/>
            <a:ext cx="1800" cy="1440"/>
          </a:xfrm>
          <a:custGeom>
            <a:avLst/>
            <a:gdLst/>
            <a:ahLst/>
            <a:rect l="l" t="t" r="r" b="b"/>
            <a:pathLst>
              <a:path w="1" h="1">
                <a:moveTo>
                  <a:pt x="16644" y="14709"/>
                </a:moveTo>
                <a:lnTo>
                  <a:pt x="16644" y="14709"/>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0" name=""/>
          <p:cNvSpPr/>
          <p:nvPr/>
        </p:nvSpPr>
        <p:spPr>
          <a:xfrm>
            <a:off x="4500720" y="3394080"/>
            <a:ext cx="679320" cy="204840"/>
          </a:xfrm>
          <a:custGeom>
            <a:avLst/>
            <a:gdLst/>
            <a:ahLst/>
            <a:rect l="l" t="t" r="r" b="b"/>
            <a:pathLst>
              <a:path w="1886" h="571">
                <a:moveTo>
                  <a:pt x="12551" y="9426"/>
                </a:moveTo>
                <a:cubicBezTo>
                  <a:pt x="12551" y="9569"/>
                  <a:pt x="12517" y="9706"/>
                  <a:pt x="12502" y="9847"/>
                </a:cubicBezTo>
                <a:cubicBezTo>
                  <a:pt x="12502" y="9864"/>
                  <a:pt x="12502" y="9880"/>
                  <a:pt x="12502" y="9897"/>
                </a:cubicBezTo>
              </a:path>
              <a:path w="1886" h="571">
                <a:moveTo>
                  <a:pt x="12799" y="9475"/>
                </a:moveTo>
                <a:cubicBezTo>
                  <a:pt x="12791" y="9609"/>
                  <a:pt x="12748" y="9762"/>
                  <a:pt x="12774" y="9897"/>
                </a:cubicBezTo>
                <a:cubicBezTo>
                  <a:pt x="12804" y="10050"/>
                  <a:pt x="12969" y="9984"/>
                  <a:pt x="13047" y="9922"/>
                </a:cubicBezTo>
                <a:cubicBezTo>
                  <a:pt x="13109" y="9860"/>
                  <a:pt x="13134" y="9854"/>
                  <a:pt x="13122" y="9798"/>
                </a:cubicBezTo>
                <a:cubicBezTo>
                  <a:pt x="13064" y="9755"/>
                  <a:pt x="12970" y="9786"/>
                  <a:pt x="12923" y="9847"/>
                </a:cubicBezTo>
                <a:cubicBezTo>
                  <a:pt x="12901" y="9914"/>
                  <a:pt x="12889" y="9932"/>
                  <a:pt x="12923" y="9971"/>
                </a:cubicBezTo>
              </a:path>
              <a:path w="1886" h="571">
                <a:moveTo>
                  <a:pt x="13494" y="9624"/>
                </a:moveTo>
                <a:cubicBezTo>
                  <a:pt x="13533" y="9736"/>
                  <a:pt x="13543" y="9801"/>
                  <a:pt x="13543" y="9922"/>
                </a:cubicBezTo>
              </a:path>
              <a:path w="1886" h="571">
                <a:moveTo>
                  <a:pt x="13444" y="9773"/>
                </a:moveTo>
                <a:cubicBezTo>
                  <a:pt x="13547" y="9743"/>
                  <a:pt x="13635" y="9729"/>
                  <a:pt x="13742" y="9723"/>
                </a:cubicBezTo>
              </a:path>
              <a:path w="1886" h="571">
                <a:moveTo>
                  <a:pt x="13915" y="9674"/>
                </a:moveTo>
                <a:cubicBezTo>
                  <a:pt x="13949" y="9758"/>
                  <a:pt x="13978" y="9838"/>
                  <a:pt x="14015" y="9922"/>
                </a:cubicBezTo>
                <a:cubicBezTo>
                  <a:pt x="14052" y="9764"/>
                  <a:pt x="14078" y="9600"/>
                  <a:pt x="14288" y="9674"/>
                </a:cubicBezTo>
                <a:cubicBezTo>
                  <a:pt x="14439" y="9727"/>
                  <a:pt x="14372" y="9866"/>
                  <a:pt x="14337" y="997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5537160" y="3375000"/>
            <a:ext cx="623880" cy="206280"/>
          </a:xfrm>
          <a:custGeom>
            <a:avLst/>
            <a:gdLst/>
            <a:ahLst/>
            <a:rect l="l" t="t" r="r" b="b"/>
            <a:pathLst>
              <a:path w="1737" h="572">
                <a:moveTo>
                  <a:pt x="15577" y="9500"/>
                </a:moveTo>
                <a:cubicBezTo>
                  <a:pt x="15517" y="9620"/>
                  <a:pt x="15461" y="9720"/>
                  <a:pt x="15379" y="9823"/>
                </a:cubicBezTo>
                <a:cubicBezTo>
                  <a:pt x="15519" y="9850"/>
                  <a:pt x="15635" y="9863"/>
                  <a:pt x="15751" y="9947"/>
                </a:cubicBezTo>
              </a:path>
              <a:path w="1737" h="572">
                <a:moveTo>
                  <a:pt x="16173" y="9376"/>
                </a:moveTo>
                <a:cubicBezTo>
                  <a:pt x="16114" y="9517"/>
                  <a:pt x="16034" y="9666"/>
                  <a:pt x="16049" y="9823"/>
                </a:cubicBezTo>
                <a:cubicBezTo>
                  <a:pt x="16066" y="9997"/>
                  <a:pt x="16347" y="9894"/>
                  <a:pt x="16421" y="9847"/>
                </a:cubicBezTo>
                <a:cubicBezTo>
                  <a:pt x="16508" y="9792"/>
                  <a:pt x="16495" y="9775"/>
                  <a:pt x="16495" y="9699"/>
                </a:cubicBezTo>
                <a:cubicBezTo>
                  <a:pt x="16358" y="9699"/>
                  <a:pt x="16298" y="9730"/>
                  <a:pt x="16247" y="9872"/>
                </a:cubicBezTo>
                <a:cubicBezTo>
                  <a:pt x="16247" y="9889"/>
                  <a:pt x="16247" y="9905"/>
                  <a:pt x="16247" y="9922"/>
                </a:cubicBezTo>
              </a:path>
              <a:path w="1737" h="572">
                <a:moveTo>
                  <a:pt x="16718" y="9401"/>
                </a:moveTo>
                <a:cubicBezTo>
                  <a:pt x="16680" y="9527"/>
                  <a:pt x="16648" y="9641"/>
                  <a:pt x="16644" y="9773"/>
                </a:cubicBezTo>
                <a:cubicBezTo>
                  <a:pt x="16640" y="9893"/>
                  <a:pt x="16725" y="9957"/>
                  <a:pt x="16842" y="9947"/>
                </a:cubicBezTo>
                <a:cubicBezTo>
                  <a:pt x="16913" y="9941"/>
                  <a:pt x="17094" y="9884"/>
                  <a:pt x="17115" y="9798"/>
                </a:cubicBezTo>
                <a:cubicBezTo>
                  <a:pt x="17115" y="9773"/>
                  <a:pt x="17115" y="9748"/>
                  <a:pt x="17115" y="9723"/>
                </a:cubicBezTo>
                <a:cubicBezTo>
                  <a:pt x="16989" y="9724"/>
                  <a:pt x="16921" y="9776"/>
                  <a:pt x="16892" y="9922"/>
                </a:cubicBezTo>
                <a:cubicBezTo>
                  <a:pt x="16892" y="9930"/>
                  <a:pt x="16892" y="9939"/>
                  <a:pt x="16892" y="994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4473720" y="3705120"/>
            <a:ext cx="196560" cy="189000"/>
          </a:xfrm>
          <a:custGeom>
            <a:avLst/>
            <a:gdLst/>
            <a:ahLst/>
            <a:rect l="l" t="t" r="r" b="b"/>
            <a:pathLst>
              <a:path w="547" h="522">
                <a:moveTo>
                  <a:pt x="12452" y="10691"/>
                </a:moveTo>
                <a:cubicBezTo>
                  <a:pt x="12452" y="10765"/>
                  <a:pt x="12452" y="10774"/>
                  <a:pt x="12452" y="10815"/>
                </a:cubicBezTo>
                <a:cubicBezTo>
                  <a:pt x="12418" y="10669"/>
                  <a:pt x="12422" y="10553"/>
                  <a:pt x="12502" y="10418"/>
                </a:cubicBezTo>
                <a:cubicBezTo>
                  <a:pt x="12542" y="10351"/>
                  <a:pt x="12679" y="10233"/>
                  <a:pt x="12774" y="10294"/>
                </a:cubicBezTo>
                <a:cubicBezTo>
                  <a:pt x="12899" y="10375"/>
                  <a:pt x="12955" y="10551"/>
                  <a:pt x="12973" y="10691"/>
                </a:cubicBezTo>
                <a:cubicBezTo>
                  <a:pt x="12973" y="10716"/>
                  <a:pt x="12973" y="10740"/>
                  <a:pt x="12973" y="1076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867200" y="3687840"/>
            <a:ext cx="160560" cy="162000"/>
          </a:xfrm>
          <a:custGeom>
            <a:avLst/>
            <a:gdLst/>
            <a:ahLst/>
            <a:rect l="l" t="t" r="r" b="b"/>
            <a:pathLst>
              <a:path w="447" h="448">
                <a:moveTo>
                  <a:pt x="13618" y="10244"/>
                </a:moveTo>
                <a:cubicBezTo>
                  <a:pt x="13645" y="10398"/>
                  <a:pt x="13702" y="10532"/>
                  <a:pt x="13717" y="10691"/>
                </a:cubicBezTo>
              </a:path>
              <a:path w="447" h="448">
                <a:moveTo>
                  <a:pt x="13519" y="10492"/>
                </a:moveTo>
                <a:cubicBezTo>
                  <a:pt x="13669" y="10486"/>
                  <a:pt x="13815" y="10474"/>
                  <a:pt x="13965" y="1046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241960" y="3670200"/>
            <a:ext cx="357120" cy="187560"/>
          </a:xfrm>
          <a:custGeom>
            <a:avLst/>
            <a:gdLst/>
            <a:ahLst/>
            <a:rect l="l" t="t" r="r" b="b"/>
            <a:pathLst>
              <a:path w="994" h="522">
                <a:moveTo>
                  <a:pt x="14560" y="10195"/>
                </a:moveTo>
                <a:cubicBezTo>
                  <a:pt x="14627" y="10367"/>
                  <a:pt x="14635" y="10506"/>
                  <a:pt x="14635" y="10691"/>
                </a:cubicBezTo>
              </a:path>
              <a:path w="994" h="522">
                <a:moveTo>
                  <a:pt x="14932" y="10244"/>
                </a:moveTo>
                <a:cubicBezTo>
                  <a:pt x="15065" y="10246"/>
                  <a:pt x="14991" y="10374"/>
                  <a:pt x="14982" y="10492"/>
                </a:cubicBezTo>
                <a:cubicBezTo>
                  <a:pt x="14982" y="10600"/>
                  <a:pt x="14982" y="10625"/>
                  <a:pt x="14982" y="10691"/>
                </a:cubicBezTo>
                <a:cubicBezTo>
                  <a:pt x="15132" y="10732"/>
                  <a:pt x="15311" y="10725"/>
                  <a:pt x="15453" y="10641"/>
                </a:cubicBezTo>
                <a:cubicBezTo>
                  <a:pt x="15550" y="10583"/>
                  <a:pt x="15587" y="10483"/>
                  <a:pt x="15478" y="10418"/>
                </a:cubicBezTo>
                <a:cubicBezTo>
                  <a:pt x="15325" y="10327"/>
                  <a:pt x="15286" y="10542"/>
                  <a:pt x="15255" y="1064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786280" y="3652920"/>
            <a:ext cx="679680" cy="204840"/>
          </a:xfrm>
          <a:custGeom>
            <a:avLst/>
            <a:gdLst/>
            <a:ahLst/>
            <a:rect l="l" t="t" r="r" b="b"/>
            <a:pathLst>
              <a:path w="1887" h="572">
                <a:moveTo>
                  <a:pt x="16446" y="10294"/>
                </a:moveTo>
                <a:cubicBezTo>
                  <a:pt x="16342" y="10428"/>
                  <a:pt x="16236" y="10452"/>
                  <a:pt x="16073" y="10492"/>
                </a:cubicBezTo>
                <a:cubicBezTo>
                  <a:pt x="16221" y="10550"/>
                  <a:pt x="16372" y="10580"/>
                  <a:pt x="16520" y="10641"/>
                </a:cubicBezTo>
              </a:path>
              <a:path w="1887" h="572">
                <a:moveTo>
                  <a:pt x="16842" y="10220"/>
                </a:moveTo>
                <a:cubicBezTo>
                  <a:pt x="16867" y="10344"/>
                  <a:pt x="16789" y="10441"/>
                  <a:pt x="16793" y="10567"/>
                </a:cubicBezTo>
                <a:cubicBezTo>
                  <a:pt x="16798" y="10732"/>
                  <a:pt x="16968" y="10729"/>
                  <a:pt x="17090" y="10691"/>
                </a:cubicBezTo>
                <a:cubicBezTo>
                  <a:pt x="17210" y="10654"/>
                  <a:pt x="17213" y="10590"/>
                  <a:pt x="17190" y="10492"/>
                </a:cubicBezTo>
                <a:cubicBezTo>
                  <a:pt x="17025" y="10466"/>
                  <a:pt x="17012" y="10506"/>
                  <a:pt x="16991" y="10666"/>
                </a:cubicBezTo>
              </a:path>
              <a:path w="1887" h="572">
                <a:moveTo>
                  <a:pt x="17487" y="10145"/>
                </a:moveTo>
                <a:cubicBezTo>
                  <a:pt x="17472" y="10232"/>
                  <a:pt x="17393" y="10459"/>
                  <a:pt x="17413" y="10542"/>
                </a:cubicBezTo>
                <a:cubicBezTo>
                  <a:pt x="17441" y="10661"/>
                  <a:pt x="17628" y="10652"/>
                  <a:pt x="17711" y="10641"/>
                </a:cubicBezTo>
                <a:cubicBezTo>
                  <a:pt x="17818" y="10627"/>
                  <a:pt x="17933" y="10584"/>
                  <a:pt x="17959" y="10468"/>
                </a:cubicBezTo>
                <a:cubicBezTo>
                  <a:pt x="17959" y="10451"/>
                  <a:pt x="17959" y="10435"/>
                  <a:pt x="17959" y="10418"/>
                </a:cubicBezTo>
                <a:cubicBezTo>
                  <a:pt x="17789" y="10375"/>
                  <a:pt x="17766" y="10430"/>
                  <a:pt x="17661" y="1056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599000" y="1625760"/>
            <a:ext cx="179280" cy="142560"/>
          </a:xfrm>
          <a:custGeom>
            <a:avLst/>
            <a:gdLst/>
            <a:ahLst/>
            <a:rect l="l" t="t" r="r" b="b"/>
            <a:pathLst>
              <a:path w="498" h="398">
                <a:moveTo>
                  <a:pt x="12824" y="4663"/>
                </a:moveTo>
                <a:cubicBezTo>
                  <a:pt x="12866" y="4746"/>
                  <a:pt x="12874" y="4762"/>
                  <a:pt x="12898" y="4812"/>
                </a:cubicBezTo>
                <a:cubicBezTo>
                  <a:pt x="12906" y="4691"/>
                  <a:pt x="12902" y="4601"/>
                  <a:pt x="13022" y="4539"/>
                </a:cubicBezTo>
                <a:cubicBezTo>
                  <a:pt x="13143" y="4476"/>
                  <a:pt x="13206" y="4544"/>
                  <a:pt x="13246" y="4663"/>
                </a:cubicBezTo>
                <a:cubicBezTo>
                  <a:pt x="13275" y="4749"/>
                  <a:pt x="13271" y="4823"/>
                  <a:pt x="13271" y="4911"/>
                </a:cubicBezTo>
              </a:path>
              <a:path w="498" h="398">
                <a:moveTo>
                  <a:pt x="12774" y="4614"/>
                </a:moveTo>
                <a:lnTo>
                  <a:pt x="12774" y="4614"/>
                </a:ln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1268280" y="1589040"/>
            <a:ext cx="187560" cy="135000"/>
          </a:xfrm>
          <a:custGeom>
            <a:avLst/>
            <a:gdLst/>
            <a:ahLst/>
            <a:rect l="l" t="t" r="r" b="b"/>
            <a:pathLst>
              <a:path w="522" h="373">
                <a:moveTo>
                  <a:pt x="3522" y="4415"/>
                </a:moveTo>
                <a:cubicBezTo>
                  <a:pt x="3540" y="4518"/>
                  <a:pt x="3547" y="4608"/>
                  <a:pt x="3547" y="4713"/>
                </a:cubicBezTo>
              </a:path>
              <a:path w="522" h="373">
                <a:moveTo>
                  <a:pt x="3770" y="4440"/>
                </a:moveTo>
                <a:cubicBezTo>
                  <a:pt x="3762" y="4491"/>
                  <a:pt x="3697" y="4727"/>
                  <a:pt x="3770" y="4762"/>
                </a:cubicBezTo>
                <a:cubicBezTo>
                  <a:pt x="3862" y="4806"/>
                  <a:pt x="3995" y="4759"/>
                  <a:pt x="4043" y="4663"/>
                </a:cubicBezTo>
                <a:cubicBezTo>
                  <a:pt x="4043" y="4647"/>
                  <a:pt x="4043" y="4630"/>
                  <a:pt x="4043" y="4614"/>
                </a:cubicBezTo>
                <a:cubicBezTo>
                  <a:pt x="3941" y="4601"/>
                  <a:pt x="3918" y="4655"/>
                  <a:pt x="3894" y="476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973160" y="1616040"/>
            <a:ext cx="98640" cy="115920"/>
          </a:xfrm>
          <a:custGeom>
            <a:avLst/>
            <a:gdLst/>
            <a:ahLst/>
            <a:rect l="l" t="t" r="r" b="b"/>
            <a:pathLst>
              <a:path w="274" h="323">
                <a:moveTo>
                  <a:pt x="5556" y="4490"/>
                </a:moveTo>
                <a:cubicBezTo>
                  <a:pt x="5556" y="4584"/>
                  <a:pt x="5577" y="4669"/>
                  <a:pt x="5581" y="4762"/>
                </a:cubicBezTo>
                <a:cubicBezTo>
                  <a:pt x="5581" y="4779"/>
                  <a:pt x="5581" y="4795"/>
                  <a:pt x="5581" y="4812"/>
                </a:cubicBezTo>
              </a:path>
              <a:path w="274" h="323">
                <a:moveTo>
                  <a:pt x="5482" y="4638"/>
                </a:moveTo>
                <a:cubicBezTo>
                  <a:pt x="5583" y="4611"/>
                  <a:pt x="5629" y="4631"/>
                  <a:pt x="5730" y="4638"/>
                </a:cubicBezTo>
                <a:cubicBezTo>
                  <a:pt x="5738" y="4638"/>
                  <a:pt x="5747" y="4638"/>
                  <a:pt x="5755" y="463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5634000" y="2017800"/>
            <a:ext cx="189000" cy="152280"/>
          </a:xfrm>
          <a:custGeom>
            <a:avLst/>
            <a:gdLst/>
            <a:ahLst/>
            <a:rect l="l" t="t" r="r" b="b"/>
            <a:pathLst>
              <a:path w="522" h="423">
                <a:moveTo>
                  <a:pt x="16073" y="5631"/>
                </a:moveTo>
                <a:cubicBezTo>
                  <a:pt x="16100" y="5604"/>
                  <a:pt x="15804" y="5809"/>
                  <a:pt x="15726" y="5854"/>
                </a:cubicBezTo>
                <a:cubicBezTo>
                  <a:pt x="15701" y="5871"/>
                  <a:pt x="15677" y="5887"/>
                  <a:pt x="15652" y="5904"/>
                </a:cubicBezTo>
                <a:cubicBezTo>
                  <a:pt x="15807" y="5944"/>
                  <a:pt x="15971" y="5954"/>
                  <a:pt x="16123" y="6003"/>
                </a:cubicBezTo>
                <a:cubicBezTo>
                  <a:pt x="16140" y="6011"/>
                  <a:pt x="16156" y="6020"/>
                  <a:pt x="16173" y="602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357960" y="1973160"/>
            <a:ext cx="349200" cy="179640"/>
          </a:xfrm>
          <a:custGeom>
            <a:avLst/>
            <a:gdLst/>
            <a:ahLst/>
            <a:rect l="l" t="t" r="r" b="b"/>
            <a:pathLst>
              <a:path w="968" h="497">
                <a:moveTo>
                  <a:pt x="17810" y="5507"/>
                </a:moveTo>
                <a:cubicBezTo>
                  <a:pt x="17762" y="5660"/>
                  <a:pt x="17677" y="5792"/>
                  <a:pt x="17661" y="5953"/>
                </a:cubicBezTo>
                <a:cubicBezTo>
                  <a:pt x="17794" y="5993"/>
                  <a:pt x="17905" y="5992"/>
                  <a:pt x="18033" y="5928"/>
                </a:cubicBezTo>
                <a:cubicBezTo>
                  <a:pt x="18096" y="5886"/>
                  <a:pt x="18121" y="5883"/>
                  <a:pt x="18107" y="5829"/>
                </a:cubicBezTo>
                <a:cubicBezTo>
                  <a:pt x="18004" y="5820"/>
                  <a:pt x="17939" y="5824"/>
                  <a:pt x="17909" y="5928"/>
                </a:cubicBezTo>
              </a:path>
              <a:path w="968" h="497">
                <a:moveTo>
                  <a:pt x="18331" y="5482"/>
                </a:moveTo>
                <a:cubicBezTo>
                  <a:pt x="18288" y="5575"/>
                  <a:pt x="18203" y="5722"/>
                  <a:pt x="18207" y="5829"/>
                </a:cubicBezTo>
                <a:cubicBezTo>
                  <a:pt x="18212" y="5948"/>
                  <a:pt x="18395" y="5916"/>
                  <a:pt x="18455" y="5904"/>
                </a:cubicBezTo>
                <a:cubicBezTo>
                  <a:pt x="18567" y="5882"/>
                  <a:pt x="18603" y="5831"/>
                  <a:pt x="18628" y="5730"/>
                </a:cubicBezTo>
                <a:cubicBezTo>
                  <a:pt x="18502" y="5675"/>
                  <a:pt x="18450" y="5727"/>
                  <a:pt x="18405" y="5854"/>
                </a:cubicBezTo>
                <a:cubicBezTo>
                  <a:pt x="18405" y="5862"/>
                  <a:pt x="18405" y="5871"/>
                  <a:pt x="18405" y="587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288">
                                            <p:txEl>
                                              <p:pRg st="2" end="2"/>
                                            </p:txEl>
                                          </p:spTgt>
                                        </p:tgtEl>
                                        <p:attrNameLst>
                                          <p:attrName>style.visibility</p:attrName>
                                        </p:attrNameLst>
                                      </p:cBhvr>
                                      <p:to>
                                        <p:strVal val="visible"/>
                                      </p:to>
                                    </p:set>
                                    <p:anim calcmode="lin" valueType="num">
                                      <p:cBhvr additive="base">
                                        <p:cTn id="227" dur="500" fill="hold"/>
                                        <p:tgtEl>
                                          <p:spTgt spid="288">
                                            <p:txEl>
                                              <p:pRg st="2" end="2"/>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28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4T17:59:31Z</dcterms:created>
  <dc:creator>ccps</dc:creator>
  <dc:description/>
  <dc:language>en-US</dc:language>
  <cp:lastModifiedBy>deanne elizabeth mcgrath</cp:lastModifiedBy>
  <dcterms:modified xsi:type="dcterms:W3CDTF">2011-01-04T18:56:06Z</dcterms:modified>
  <cp:revision>28</cp:revision>
  <dc:subject/>
  <dc:title>Chapter 2 Integer Operations</dc:title>
</cp:coreProperties>
</file>